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E20-4084-4174-B83E-6ABB5C0C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923-2E9F-4704-9CFD-350708D7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FD4-876A-4E66-A9BA-0DBE6CA8A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1E7-6FE9-46CC-BA3C-7AC2F9F1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131-5E5E-4C0C-BF18-7D02CA55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EE1-FBC1-429C-8D46-96860BDD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46D-DBFA-4CE2-A4E2-7584011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63BD-6A1C-4C91-8E06-D7476A89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657-B8E7-4641-A018-2A4882EA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CCB-51FF-4C60-A9EF-23CE2A9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F57E-D5DC-489E-A941-824A0F1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1F6-90E7-4BBF-A6B5-D7DFE62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B653-885B-413E-B8B4-75931F7D3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icksandchimes.com/images/large/5800gat_LRG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285640"/>
            <a:ext cx="5943600" cy="441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 worry!! We are Yellow Jacke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s. Desaulniers has found a fun (yes, I said fun) way to review and play football or baseball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ailable times to play review PC games are during all my AO’s an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:15 to 4:00 pm on  3/2,3,4 and 3/9,10,11 and 3/16,17,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: room C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Ga Tech Yellow Jackets Metal-encased 20 in. Neon Clock - 5800g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0"/>
            <a:ext cx="1809720" cy="2286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43" name=""/>
          <p:cNvSpPr/>
          <p:nvPr/>
        </p:nvSpPr>
        <p:spPr>
          <a:xfrm rot="310800">
            <a:off x="4874760" y="182160"/>
            <a:ext cx="4267440" cy="2209680"/>
          </a:xfrm>
          <a:prstGeom prst="wedgeEllipseCallout">
            <a:avLst>
              <a:gd name="adj1" fmla="val -62657"/>
              <a:gd name="adj2" fmla="val 1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ling a bit stressed about the Social studies Graduation test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286000" cy="2133720"/>
          </a:xfrm>
          <a:prstGeom prst="wedgeEllipseCallout">
            <a:avLst>
              <a:gd name="adj1" fmla="val 110347"/>
              <a:gd name="adj2" fmla="val 14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ear clocks tick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711600">
            <a:off x="6108840" y="4191120"/>
            <a:ext cx="2819160" cy="22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7391520" y="2590920"/>
            <a:ext cx="1523880" cy="1676160"/>
          </a:xfrm>
          <a:prstGeom prst="wedgeEllipseCallout">
            <a:avLst>
              <a:gd name="adj1" fmla="val -46768"/>
              <a:gd name="adj2" fmla="val 72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there, or be squ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50:51Z</dcterms:created>
  <dc:creator>ldesaulniers</dc:creator>
  <dc:description/>
  <dc:language>en-US</dc:language>
  <cp:lastModifiedBy>ldesaulniers</cp:lastModifiedBy>
  <dcterms:modified xsi:type="dcterms:W3CDTF">2009-03-02T17:21:36Z</dcterms:modified>
  <cp:revision>3</cp:revision>
  <dc:subject/>
  <dc:title>Social Studies Review Games</dc:title>
</cp:coreProperties>
</file>