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C58-05A4-4A16-9EA6-736F1252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3CA-0138-4FB0-AA22-1A93C783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1EC-1090-4C27-A286-3C912B07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F0E-AD79-42FE-94F6-CF6BC198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5F9-E60F-42DC-8F22-9DA9B75D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346-359E-4427-9275-572F6676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DC1-5360-480E-90A8-8B1EEFEC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3EE-E3D0-4EFE-B8C8-C82915FB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881-59C2-4DA1-B384-CC96827E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DD7-AE36-421D-9A42-B663EDB6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8C6-96E5-449D-B5AA-24857131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0A1-737E-4059-AA04-6CE54C3C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3827-BBC3-44C6-AF5F-2C61388B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cksandchimes.com/images/large/5800gat_LRG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5943600" cy="441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 worry!! We are Yellow Jacke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s. Desaulniers has found a fun (yes, I said fun) way to review and play football or baseball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ailable times to play review PC games are during all my AO’s an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:15 to 4:00 pm on  3/2,3,4 and 3/9,10,11 and 3/16,17,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: room C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a Tech Yellow Jackets Metal-encased 20 in. Neon Clock - 5800g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0"/>
            <a:ext cx="180972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3" name=""/>
          <p:cNvSpPr/>
          <p:nvPr/>
        </p:nvSpPr>
        <p:spPr>
          <a:xfrm rot="310800">
            <a:off x="4874760" y="182160"/>
            <a:ext cx="4267440" cy="2209680"/>
          </a:xfrm>
          <a:prstGeom prst="wedgeEllipseCallout">
            <a:avLst>
              <a:gd name="adj1" fmla="val -62657"/>
              <a:gd name="adj2" fmla="val 1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 a bit stressed about the Social studies Graduation test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286000" cy="2133720"/>
          </a:xfrm>
          <a:prstGeom prst="wedgeEllipseCallout">
            <a:avLst>
              <a:gd name="adj1" fmla="val 110347"/>
              <a:gd name="adj2" fmla="val 1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ear clocks tic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711600">
            <a:off x="6108840" y="4191120"/>
            <a:ext cx="281916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7391520" y="2590920"/>
            <a:ext cx="1523880" cy="1676160"/>
          </a:xfrm>
          <a:prstGeom prst="wedgeEllipseCallout">
            <a:avLst>
              <a:gd name="adj1" fmla="val -46768"/>
              <a:gd name="adj2" fmla="val 72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there, or be squ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50:51Z</dcterms:created>
  <dc:creator>ldesaulniers</dc:creator>
  <dc:description/>
  <dc:language>en-US</dc:language>
  <cp:lastModifiedBy>ldesaulniers</cp:lastModifiedBy>
  <dcterms:modified xsi:type="dcterms:W3CDTF">2009-03-02T17:21:36Z</dcterms:modified>
  <cp:revision>3</cp:revision>
  <dc:subject/>
  <dc:title>Social Studies Review Games</dc:title>
</cp:coreProperties>
</file>