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B76-6DCC-4698-9E0D-143A041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BA6-97BF-4172-A48F-97949ADC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6B0-6E97-4AE8-ACCF-BA96994A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E64-048A-41C0-BBCE-28B58824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9A6-3D2F-4671-9420-2CF8766D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67B-00DA-4B55-ADE9-9DB59A1C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68D-F23D-49D4-92A8-BCEEC96B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6B1-491B-4F35-962C-5CA50C6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16B-0A99-4390-ABE7-C60B7CC0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DC8-1E01-4146-B01B-6F1AD757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85B-EB9A-4386-BCFD-F02C844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B8B-55FD-4CF8-982A-99D9EC5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D150-2D3D-49AA-84B2-68C34304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cksandchimes.com/images/large/5800gat_LRG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5943600" cy="441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worry!! We are Yellow Jacke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s. Desaulniers has found a fun (yes, I said fun) way to review and play football or baseball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ailable times to play review PC games are during all my AO’s an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15 to 4:00 pm on  3/2,3,4 and 3/9,10,11 and 3/16,17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: room C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a Tech Yellow Jackets Metal-encased 20 in. Neon Clock - 5800g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0"/>
            <a:ext cx="180972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3" name=""/>
          <p:cNvSpPr/>
          <p:nvPr/>
        </p:nvSpPr>
        <p:spPr>
          <a:xfrm rot="310800">
            <a:off x="4874760" y="182160"/>
            <a:ext cx="4267440" cy="2209680"/>
          </a:xfrm>
          <a:prstGeom prst="wedgeEllipseCallout">
            <a:avLst>
              <a:gd name="adj1" fmla="val -62657"/>
              <a:gd name="adj2" fmla="val 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 a bit stressed about the Social studies Graduation test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286000" cy="2133720"/>
          </a:xfrm>
          <a:prstGeom prst="wedgeEllipseCallout">
            <a:avLst>
              <a:gd name="adj1" fmla="val 110347"/>
              <a:gd name="adj2" fmla="val 1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ear clocks tic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711600">
            <a:off x="6108840" y="4191120"/>
            <a:ext cx="281916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391520" y="2590920"/>
            <a:ext cx="1523880" cy="1676160"/>
          </a:xfrm>
          <a:prstGeom prst="wedgeEllipseCallout">
            <a:avLst>
              <a:gd name="adj1" fmla="val -46768"/>
              <a:gd name="adj2" fmla="val 72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there, or be squ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50:51Z</dcterms:created>
  <dc:creator>ldesaulniers</dc:creator>
  <dc:description/>
  <dc:language>en-US</dc:language>
  <cp:lastModifiedBy>ldesaulniers</cp:lastModifiedBy>
  <dcterms:modified xsi:type="dcterms:W3CDTF">2009-03-02T17:21:36Z</dcterms:modified>
  <cp:revision>3</cp:revision>
  <dc:subject/>
  <dc:title>Social Studies Review Games</dc:title>
</cp:coreProperties>
</file>