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F56E-176A-4EC6-99C8-EC6617819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E454-3866-4A59-B985-D1B480900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8E46-9632-4DD6-AA83-2D778F26A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F77B-53DD-4C30-B616-2E24A2FCA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E54D-3D99-47AF-B317-A454BEE4B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C967-DDAE-497C-A22B-EACE0E99E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8FA6-6CC5-42F1-BE99-DBCC0C56F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61CE-0F3D-4A48-A279-111B642E1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0CD8-F9C3-40AF-B01E-8C492C56F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E0FB-393D-47DD-A99A-B37425CF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D2BE-A994-4FD3-8EA0-D3E38550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F07D-0AD4-42E3-800E-C992344B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65AE8-7EE0-4FB6-913C-223AAD952A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ticksandchimes.com/images/large/5800gat_LRG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04920" y="2285640"/>
            <a:ext cx="5943600" cy="441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to worry!! We are Yellow Jacket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rs. Desaulniers has found a fun (yes, I said fun) way to review and play football or baseball at the same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vailable times to play review PC games are during all my AO’s and 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:15 to 4:00 pm on  3/2,3,4 and 3/9,10,11 and 3/16,17,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tion: room C-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Ga Tech Yellow Jackets Metal-encased 20 in. Neon Clock - 5800ga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2680" y="0"/>
            <a:ext cx="1809720" cy="22860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43" name=""/>
          <p:cNvSpPr/>
          <p:nvPr/>
        </p:nvSpPr>
        <p:spPr>
          <a:xfrm rot="310800">
            <a:off x="4874760" y="182160"/>
            <a:ext cx="4267440" cy="2209680"/>
          </a:xfrm>
          <a:prstGeom prst="wedgeEllipseCallout">
            <a:avLst>
              <a:gd name="adj1" fmla="val -62657"/>
              <a:gd name="adj2" fmla="val 113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eling a bit stressed about the Social studies Graduation test?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2286000" cy="2133720"/>
          </a:xfrm>
          <a:prstGeom prst="wedgeEllipseCallout">
            <a:avLst>
              <a:gd name="adj1" fmla="val 110347"/>
              <a:gd name="adj2" fmla="val 148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you hear clocks tick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 rot="711600">
            <a:off x="6108840" y="4191120"/>
            <a:ext cx="2819160" cy="226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7391520" y="2590920"/>
            <a:ext cx="1523880" cy="1676160"/>
          </a:xfrm>
          <a:prstGeom prst="wedgeEllipseCallout">
            <a:avLst>
              <a:gd name="adj1" fmla="val -46768"/>
              <a:gd name="adj2" fmla="val 7282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 there, or be squar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3:50:51Z</dcterms:created>
  <dc:creator>ldesaulniers</dc:creator>
  <dc:description/>
  <dc:language>en-US</dc:language>
  <cp:lastModifiedBy>ldesaulniers</cp:lastModifiedBy>
  <dcterms:modified xsi:type="dcterms:W3CDTF">2009-03-02T17:21:36Z</dcterms:modified>
  <cp:revision>3</cp:revision>
  <dc:subject/>
  <dc:title>Social Studies Review Games</dc:title>
</cp:coreProperties>
</file>