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C72-BA8F-4885-A1A4-2CFDAB3C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1F2C-306B-4B6F-BF62-9E9F0FA2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734-6320-4D60-AA01-440DB170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84A-7C3B-4FEC-818A-52EC4F3A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6C8-92A9-46E2-AF1A-816D9DDF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576-8512-4EA7-B1B4-7FA35CD4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71A-4EA6-4830-8B9E-5DBF6DC1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7C9-F1E0-4FAD-980D-3CDF8A10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607-EA20-49D1-BCB5-E060C2F6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460-08A9-49C4-BCBD-15951C32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BC5-2EAC-4A48-950D-E3844D83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20D-8038-49FE-8447-1D1C1D6B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2521-D6B4-4F59-A129-7CED3BFF7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0016000">
            <a:off x="837720" y="236196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ll, what do you kn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bout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Constitution ?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eat Britain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98108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Articles lacked these two branches of gover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ecutive and Judicial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Great Compromise was between th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Big States and small Stat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Great Compromise created how many houses of Congres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479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3/5’s Compromise was between th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Northern and Southern Stat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t the Convention it was decided that the President would be chosen by a system call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224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Articles of confed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36600"/>
            <a:ext cx="1676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Constitu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Comprom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3366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Founding Fa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608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Black"/>
              </a:rPr>
              <a:t>Bill of Righ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1224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Grab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e Electoral Colle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523880"/>
            <a:ext cx="84582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sharing of power between the State and Local governments is call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Feder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presided over the constitutional conven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orge Washingt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is considered the “Father of the Constitution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James Madis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52388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Most of the “Founding Fathers” did this for a liv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wyers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oldest and most famous person present at the Convention? 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ich Act of the Confederation Congress detailed how the Western Lands would become States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Articles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Ben Frank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“Founding Father offered the Virginian Pl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James Mad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Bill of Rights are the first  _____ amendments to the Constitution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first amendment guarantees the freedoms of “press, religion, assembly, petition and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44792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fourth amendment guarantees that we are safe from illeg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ear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Under amendment five a person does not have to do this against hersel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thwest Ordinance of 1787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stify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7524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Which amendment protects against excessive fines or punishment?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igh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6002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In which city was the Constitutional Convention hel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Philadelph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How many articles are there to the U.S. Constit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is the term for the power of one branch to limit the power of another bran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Checks and Bal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57176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the name given to those people who opposed the Constit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main weakness of the Articles was that it did not have the power to do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ti-Federa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Congress was given the power to regulate trade between the states.  What is this call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Interstate Commer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Each State under the Articles could print this causing economic disun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t mo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ich country refused to evacuate their forts in the Western territory? This caused foreign pressures.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1999-12-14T16:39:00Z</dcterms:modified>
  <cp:revision>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