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528-751E-44B7-BCBC-BD7E69D6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98CC-F03A-4E22-8403-E792E650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6887-660C-4ED6-94DC-B6787326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2E25-F983-417B-95BA-1EE5B44E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219A-7EEA-4034-8821-4E9CA769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364-EFDC-4E69-91B7-592B4569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F728-6904-4169-9C6E-EB102DE0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EDF7-C6A2-48B9-969B-8225FFA2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4758-F101-4414-9C6C-4C53B818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A3EB-60E8-450D-86A8-DE3CCDFB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0FB6-1561-47F9-BBA1-69735636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D896-EC50-45F6-A76F-153906A2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D709-504E-4659-BBCC-E0CCDA69D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20016000">
            <a:off x="837720" y="2361960"/>
            <a:ext cx="7543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ll, what do you kno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bout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Constitution ?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eat Britain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98108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Articles lacked these two branches of gover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ecutive and Judicial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Great Compromise was between th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Big States and small Stat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Great Compromise created how many houses of Congres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4796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3/5’s Compromise was between th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Northern and Southern Stat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At the Convention it was decided that the President would be chosen by a system call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2240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Black"/>
              </a:rPr>
              <a:t>Articles of confed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336600"/>
            <a:ext cx="1676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Black"/>
              </a:rPr>
              <a:t>Constitu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Black"/>
              </a:rPr>
              <a:t>Comprom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3366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Black"/>
              </a:rPr>
              <a:t>Founding Fat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46080"/>
            <a:ext cx="190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 Black"/>
              </a:rPr>
              <a:t>Bill of Righ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1224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Grab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B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915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he Electoral Colle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523880"/>
            <a:ext cx="84582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sharing of power between the State and Local governments is calle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Feder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o presided over the constitutional conven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eorge Washingto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o is considered the “Father of the Constitution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James Madiso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52388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Most of the “Founding Fathers” did this for a liv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awyers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oldest and most famous person present at the Convention? 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ich Act of the Confederation Congress detailed how the Western Lands would become States?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Articles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Ben Frank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“Founding Father offered the Virginian Pl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James Mad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Bill of Rights are the first  _____ amendments to the Constitution?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first amendment guarantees the freedoms of “press, religion, assembly, petition and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Spee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44792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fourth amendment guarantees that we are safe from illeg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Sear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Under amendment five a person does not have to do this against hersel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rthwest Ordinance of 1787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stify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7524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Which amendment protects against excessive fines or punishment?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igh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6002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In which city was the Constitutional Convention hel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Philadelph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How many articles are there to the U.S. Constit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S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at is the term for the power of one branch to limit the power of another bran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Checks and Bal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157176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was the name given to those people who opposed the Constit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main weakness of the Articles was that it did not have the power to do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ti-Federa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Congress was given the power to regulate trade between the states.  What is this call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Interstate Commer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Each State under the Articles could print this causing economic disun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int mo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ich country refused to evacuate their forts in the Western territory? This caused foreign pressures.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6:41:16Z</dcterms:created>
  <dc:creator>lab</dc:creator>
  <dc:description/>
  <dc:language>en-US</dc:language>
  <cp:lastModifiedBy>Department of Technology</cp:lastModifiedBy>
  <dcterms:modified xsi:type="dcterms:W3CDTF">1999-12-14T16:39:00Z</dcterms:modified>
  <cp:revision>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lln\asuettc web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