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6B5-6F50-400A-A528-2B3B8672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628-EBBE-4D16-AD8A-125BE9D9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A9F6-988A-4634-B59B-1E68842B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821-3EDD-4334-B1F6-E3108CA7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2592-0429-485B-AE65-96F41FE8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54CE-18F1-45CA-812A-93470F07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2AC6-8F83-4267-A332-6FC378FF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B4D0-A970-48F5-928A-FCB280C6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6C91-CE90-40B4-B5FC-ACB4F06F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50E3-8474-4E69-817C-26D239CC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33A-4530-4ECF-8167-C763C6B0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4D77-9272-4285-8602-97C5251E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AE8B-F70E-47BA-B9DC-9C073A828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 rot="20016000">
            <a:off x="837720" y="2361960"/>
            <a:ext cx="7543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ll, what do you kn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bout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Constitution ?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eat Britain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98108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Articles lacked these two branches of gover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ecutive and Judicial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Great Compromise was between th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Big States and small Stat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Great Compromise created how many houses of Congres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4796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3/5’s Compromise was between th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Northern and Southern Stat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At the Convention it was decided that the President would be chosen by a system call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152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2286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3429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4572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152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5715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1143000"/>
            <a:ext cx="1828800" cy="11430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2240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Articles of confed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336600"/>
            <a:ext cx="1676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Constitu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Comprom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3366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 Black"/>
              </a:rPr>
              <a:t>Founding Fat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6080"/>
            <a:ext cx="190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 Black"/>
              </a:rPr>
              <a:t>Bill of Righ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1224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Grab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91520" y="1371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1520" y="3657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25146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4724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58672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he Electoral Colle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523880"/>
            <a:ext cx="84582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sharing of power between the State and Local governments is calle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Federal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Compromise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o presided over the constitutional conven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eorge Washingto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o is considered the “Father of the Constitution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James Madison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52388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Most of the “Founding Fathers” did this for a liv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awyers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oldest and most famous person present at the Convention? 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ich Act of the Confederation Congress detailed how the Western Lands would become States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Articles fo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Ben Frank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“Founding Father offered the Virginian Pl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James Mad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Fathers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Bill of Rights are the first  _____ amendments to the Constitution?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first amendment guarantees the freedoms of “press, religion, assembly, petition and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981080"/>
            <a:ext cx="8305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Spe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44792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fourth amendment guarantees that we are safe from illeg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Sear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Under amendment five a person does not have to do this against hersel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981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thwest Ordinance of 1787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stify 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7524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Which amendment protects against excessive fines or punishment?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igh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228600"/>
            <a:ext cx="883944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ill of Rights for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880" y="160020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In which city was the Constitutional Convention hel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Philadelph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How many articles are there to the U.S. Constit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Sev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What is the term for the power of one branch to limit the power of another bran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Checks and Bal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57176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is was the name given to those people who opposed the Constit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The main weakness of the Articles was that it did not have the power to do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ti-Federa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Congress was given the power to regulate trade between the states.  What is this call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Interstate Commer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Grab Bag fo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9810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Each State under the Articles could print this causing economic disun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981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Answer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int mo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Back to the Game Board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1981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Question: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ich country refused to evacuate their forts in the Western territory? This caused foreign pressures.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867280"/>
            <a:ext cx="8305920" cy="764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 Black"/>
              </a:rPr>
              <a:t>Check Your Answer</a:t>
            </a: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28600"/>
            <a:ext cx="8382240" cy="10083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Arial Black"/>
              </a:rPr>
              <a:t>Articles fo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6:41:16Z</dcterms:created>
  <dc:creator>lab</dc:creator>
  <dc:description/>
  <dc:language>en-US</dc:language>
  <cp:lastModifiedBy>Department of Technology</cp:lastModifiedBy>
  <dcterms:modified xsi:type="dcterms:W3CDTF">1999-12-14T16:39:00Z</dcterms:modified>
  <cp:revision>3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lln\asuettc web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