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LASER.WAV" ContentType="audio/x-wav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EF01-AAD8-4CF6-9E3A-9231F3FFA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7CF4-BC39-4C72-904B-A7332172E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0452-FD2C-4EC5-A68E-B11808F23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0962-CB8C-4059-8C87-08932A09E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100D-7547-4EC2-BE7B-BBF4B7A79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CAB9-7AE8-497C-9723-389451618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D188-3F87-454D-AFFF-83F84C517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EAF9-C6C7-4F2D-925F-1CAC1592B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4B95-532B-417C-B5F2-F3B773CC7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48A3-6799-4FD9-8B3C-E58BEB86C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BC26-2177-467A-80F9-9D12626C2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CF44-1645-4AE9-BDD5-9E23E1358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46497-F4E0-49A5-B493-8EC00BEB94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315200" y="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828800" y="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657600" y="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486400" y="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2286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315200" y="2286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828800" y="2286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657600" y="2286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486400" y="2286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429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315200" y="3429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3429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657600" y="3429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486400" y="3429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4572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315200" y="4572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828800" y="4572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657600" y="4572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486400" y="4572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5715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315200" y="5715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828800" y="5715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657600" y="5715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486400" y="5715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143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315200" y="1143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828800" y="1143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657600" y="1143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486400" y="1143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 txBox="1"/>
          <p:nvPr/>
        </p:nvSpPr>
        <p:spPr>
          <a:xfrm rot="20016000">
            <a:off x="837720" y="2361960"/>
            <a:ext cx="754380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Well, what do you know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bout 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e Constitution ? 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Great Britain 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Articles for 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LASER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981080"/>
            <a:ext cx="85345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The Articles lacked these two branches of governme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Articles for 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30000"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Executive and Judicial 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Articles for 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LASER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80880" y="1981080"/>
            <a:ext cx="8305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The Great Compromise was between th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Compromises for 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30000"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80880" y="1981080"/>
            <a:ext cx="8305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 Big States and small States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Compromises for 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LASER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80880" y="1981080"/>
            <a:ext cx="8305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The Great Compromise created how many houses of Congress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Compromises for 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30000"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Tw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Compromises for 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LASER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80880" y="1479600"/>
            <a:ext cx="8305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The 3/5’s Compromise was between th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Compromises for 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30000">
    <p:split dir="out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1981080"/>
            <a:ext cx="8305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 Northern and Southern States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Compromises for 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LASER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80880" y="1981080"/>
            <a:ext cx="83059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At the Convention it was decided that the President would be chosen by a system calle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Compromises for 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30000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15200" y="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828800" y="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657600" y="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486400" y="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0" y="2286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315200" y="2286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828800" y="2286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2286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486400" y="2286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3429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315200" y="3429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828800" y="3429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657600" y="3429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486400" y="3429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4572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315200" y="4572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828800" y="4572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657600" y="4572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486400" y="4572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5715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315200" y="5715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828800" y="5715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657600" y="5715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486400" y="5715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1143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315200" y="1143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828800" y="1143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657600" y="1143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486400" y="1143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320" y="122400"/>
            <a:ext cx="1676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 Black"/>
              </a:rPr>
              <a:t>Articles of confede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905120" y="336600"/>
            <a:ext cx="16761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 Black"/>
              </a:rPr>
              <a:t>Constitutio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 Black"/>
              </a:rPr>
              <a:t>Compromi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733920" y="336600"/>
            <a:ext cx="17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 Black"/>
              </a:rPr>
              <a:t>Founding Fath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410080" y="46080"/>
            <a:ext cx="190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Arial Black"/>
              </a:rPr>
              <a:t>Bill of Righ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391520" y="1224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Black"/>
              </a:rPr>
              <a:t>Grab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Arial Black"/>
              </a:rPr>
              <a:t>B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6320" y="137160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6320" y="365760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251460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6320" y="472428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6320" y="586728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905120" y="137160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905120" y="365760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905120" y="251460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905120" y="472428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905120" y="586728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733920" y="137160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733920" y="365760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733920" y="251460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733920" y="472428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586728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562720" y="137160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562720" y="365760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562720" y="251460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562720" y="472428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586728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391520" y="137160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91520" y="365760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391520" y="251460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391520" y="472428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91520" y="586728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The Electoral Colle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Compromises for 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LASER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80880" y="1523880"/>
            <a:ext cx="845820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The sharing of power between the State and Local governments is called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Compromises for 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30000">
    <p:split dir="out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Federalis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Compromises for 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LASER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0880" y="1981080"/>
            <a:ext cx="8305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Who presided over the constitutional conven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Fathers for 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30000">
    <p:split dir="out" orient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George Washington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Fathers for 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LASER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80880" y="1981080"/>
            <a:ext cx="8305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Who is considered the “Father of the Constitution?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Fathers for 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30000">
    <p:split dir="out" orient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James Madison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Fathers for 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LASER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0880" y="1523880"/>
            <a:ext cx="8763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Most of the “Founding Fathers” did this for a living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Fathers for 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30000">
    <p:split dir="out" orient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Lawyers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Fathers for 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LASER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80880" y="1981080"/>
            <a:ext cx="8305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he oldest and most famous person present at the Convention?  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Fathers for 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30000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0880" y="1981080"/>
            <a:ext cx="83059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Which Act of the Confederation Congress detailed how the Western Lands would become States?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 </a:t>
            </a:r>
            <a:r>
              <a:rPr b="0" lang="en-US" sz="4000" spc="-1" strike="noStrike">
                <a:solidFill>
                  <a:srgbClr val="ffff66"/>
                </a:solidFill>
                <a:latin typeface="Arial Black"/>
              </a:rPr>
              <a:t>Articles for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30000">
    <p:split dir="out" orient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Ben Frankl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Fathers for 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LASER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880" y="1981080"/>
            <a:ext cx="8305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This “Founding Father offered the Virginian Pla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Fathers for 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30000">
    <p:split dir="out" orient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James Madis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Fathers for 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LASER.WAV"/>
      </p:stSnd>
    </p:sndAc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80880" y="1981080"/>
            <a:ext cx="8305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he Bill of Rights are the first  _____ amendments to the Constitution?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52280" y="228600"/>
            <a:ext cx="88394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ill of Rights for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30000">
    <p:split dir="out" orient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80880" y="1981080"/>
            <a:ext cx="83059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 T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52280" y="228600"/>
            <a:ext cx="88394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ill of Rights for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LASER.WAV"/>
      </p:stSnd>
    </p:sndAc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80880" y="1981080"/>
            <a:ext cx="83059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The first amendment guarantees the freedoms of “press, religion, assembly, petition and?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52280" y="228600"/>
            <a:ext cx="88394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ill of Rights for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30000">
    <p:split dir="out" orient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80880" y="1981080"/>
            <a:ext cx="83059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 Spee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52280" y="228600"/>
            <a:ext cx="88394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ill of Rights for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LASER.WAV"/>
      </p:stSnd>
    </p:sndAc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80880" y="1447920"/>
            <a:ext cx="8305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The fourth amendment guarantees that we are safe from illega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52280" y="228600"/>
            <a:ext cx="88394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ill of Rights for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30000">
    <p:split dir="out" orient="ver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Search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52280" y="228600"/>
            <a:ext cx="88394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ill of Rights for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LASER.WAV"/>
      </p:stSnd>
    </p:sndAc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0880" y="1981080"/>
            <a:ext cx="8305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 Under amendment five a person does not have to do this against herself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52280" y="228600"/>
            <a:ext cx="88394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ill of rights for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30000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1981080"/>
            <a:ext cx="8305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Northwest Ordinance of 1787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Articles for 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LASER.WAV"/>
      </p:stSnd>
    </p:sndAc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estify 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52280" y="228600"/>
            <a:ext cx="88394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ill of Rights for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LASER.WAV"/>
      </p:stSnd>
    </p:sndAc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80880" y="1752480"/>
            <a:ext cx="83059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 Which amendment protects against excessive fines or punishment?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52280" y="228600"/>
            <a:ext cx="88394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ill of Rights for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30000">
    <p:split dir="out" orient="ver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Eight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52280" y="228600"/>
            <a:ext cx="88394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ill of Rights for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LASER.WAV"/>
      </p:stSnd>
    </p:sndAc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80880" y="1600200"/>
            <a:ext cx="8305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 In which city was the Constitutional Convention hel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Grab Bag for 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30000">
    <p:split dir="out" orient="ver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 Philadelphia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Grab Bag for 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LASER.WAV"/>
      </p:stSnd>
    </p:sndAc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80880" y="1981080"/>
            <a:ext cx="8305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How many articles are there to the U.S. Constitu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Grab Bag for 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30000">
    <p:split dir="out" orient="ver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Sev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Grab Bag for 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LASER.WAV"/>
      </p:stSnd>
    </p:sndAc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0880" y="1981080"/>
            <a:ext cx="83059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What is the term for the power of one branch to limit the power of another branch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Grab Bag for 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30000">
    <p:split dir="out" orient="ver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Checks and Bala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Grab Bag for 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LASER.WAV"/>
      </p:stSnd>
    </p:sndAc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80880" y="1571760"/>
            <a:ext cx="83059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This was the name given to those people who opposed the Constitu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Grab Bag for 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30000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80880" y="1981080"/>
            <a:ext cx="8305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The main weakness of the Articles was that it did not have the power to do thi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Articles for 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30000">
    <p:split dir="out" orient="ver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Anti-Federali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Grab Bag for 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LASER.WAV"/>
      </p:stSnd>
    </p:sndAc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80880" y="1981080"/>
            <a:ext cx="83059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Congress was given the power to regulate trade between the states.  What is this calle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Grab Bag for 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30000">
    <p:split dir="out" orient="vert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Interstate Commerc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Grab Bag for 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LASER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Articles for 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LASER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80880" y="1981080"/>
            <a:ext cx="8305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Each State under the Articles could print this causing economic disunit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Articles for 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30000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print mone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Articles for 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LASER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1981080"/>
            <a:ext cx="83059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Which country refused to evacuate their forts in the Western territory? This caused foreign pressures.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Articles for 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30000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28T16:41:16Z</dcterms:created>
  <dc:creator>lab</dc:creator>
  <dc:description/>
  <dc:language>en-US</dc:language>
  <cp:lastModifiedBy>Department of Technology</cp:lastModifiedBy>
  <dcterms:modified xsi:type="dcterms:W3CDTF">1999-12-14T16:39:00Z</dcterms:modified>
  <cp:revision>38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2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3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lln\asuettc web</vt:lpwstr>
  </property>
  <property fmtid="{D5CDD505-2E9C-101B-9397-08002B2CF9AE}" pid="14" name="ScreenSize">
    <vt:r8>2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