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LASER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9BEC-C041-4F76-8244-D9DF9BECB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850F-B1F4-4416-9FB1-559DA3CA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6B37-764C-4080-8F66-79847A2CE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A1D4-7C7F-473F-BB02-850A70E27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8DB2-67FB-4E90-A459-56055994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43E5-51CB-4755-A2D2-25AFF547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5523-71BC-4B3B-A706-361EAD90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2FC5-E8AD-4783-A9FB-AE3FFDD5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04C4-2719-4126-B275-F2195936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7358-50B3-49E1-B72B-E9896D4A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869F-A70E-4FFD-8620-F2E02101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9DE0-191F-4F59-9A92-FAC5D4FB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1FEB-9A5B-4614-B999-C04B00F98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1520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1520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1520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1520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8640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 rot="20016000">
            <a:off x="1022400" y="2315880"/>
            <a:ext cx="7543800" cy="28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ll, what do you know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bout the Civil War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publican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auses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981080"/>
            <a:ext cx="8534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part of the Compromise of 1850 called for the return of runaway slav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auses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Fugitive Slave Act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auses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event started the actual fighting of the Civil Wa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Events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Ft. Sum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Events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invention by, Eli Whitney, gave a new life to slave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Events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Cotton Gin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Events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147960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state was the first to leave the union in February, 186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Events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South Carol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Events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Compromise in 1820 called for the Louisiana Purchase to be divided into free and slave stat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Events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31520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8640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1520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1520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1520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5760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1520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8640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12240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 Black"/>
              </a:rPr>
              <a:t>Causes of the Civil W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336600"/>
            <a:ext cx="167616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Black"/>
              </a:rPr>
              <a:t>Events leading to the Civil War</a:t>
            </a:r>
            <a:r>
              <a:rPr b="0" lang="en-US" sz="28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336600"/>
            <a:ext cx="1752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Black"/>
              </a:rPr>
              <a:t>Fam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Black"/>
              </a:rPr>
              <a:t>Batt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4608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 Black"/>
              </a:rPr>
              <a:t>Results of the W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91520" y="12240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 Black"/>
              </a:rPr>
              <a:t>Reconstr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3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3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3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3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051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915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915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915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Missouri Compromise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Events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523880"/>
            <a:ext cx="845820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This act passed by Congress called for “popular sovereignty” and overturned the Missouri Compromise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Events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Kansas-Nebraska 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Events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was the bloodiest single day battle of the Civil War. (26,00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Battles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tietam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Battles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three day battle is considered the turning point of the Civil Wa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Battles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Gettysbur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Battles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1523880"/>
            <a:ext cx="8763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After Grant’s victory in this battle the South was split into and the Mississippi was completely under the control of the Union forc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Battles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Vicksbur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Battles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Which Union General made a “march to the sea?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Battles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robable major cause of the Civil War?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auses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eneral Sherman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Battles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Where did Lee surrender to Gra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Battles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Appomattox Court H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Battles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amendment abolished slave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Results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3th amend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Results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was Lincoln’s plan for Reconstru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Results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22096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Ten Perc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Results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44792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amendment gave all former male slaves the right to vo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Results fo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15th amendment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Results fo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President Lincoln was assassinated b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Results fo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Sla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auses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John Wilkes Booth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Results fo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17524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This person became President upon the death of President Lincoln?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Results fo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drew John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Results fo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160020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was established by Congress to aid poor blacks and whites in the Sout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228600"/>
            <a:ext cx="8382240" cy="916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Reconstruction for 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Freedsman’s Bureau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0880" y="228600"/>
            <a:ext cx="8382240" cy="916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Reconstruction for 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amendment made former slaves citize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880" y="228600"/>
            <a:ext cx="8382240" cy="916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Reconstruction for 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14th amend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0880" y="228600"/>
            <a:ext cx="8382240" cy="916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Reconstruction for 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was the name given to white Southerners who joined the Republican Part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0880" y="228600"/>
            <a:ext cx="8382240" cy="916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Reconstruction for 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scalaw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228600"/>
            <a:ext cx="8382240" cy="916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Reconstruction for 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0880" y="157176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Act led to the South being divided into military distric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228600"/>
            <a:ext cx="8382240" cy="916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Reconstruction for 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Famous anti-slavery book written by Harriet Beecher Stow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auses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construction Act 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880" y="228600"/>
            <a:ext cx="8382240" cy="916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Reconstruction for 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compromise in which Hayes was elected President ended Radical Reconstruc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0880" y="228600"/>
            <a:ext cx="8382240" cy="916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Reconstruction for 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The Compromise of 187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0880" y="228600"/>
            <a:ext cx="8382240" cy="916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Reconstruction for 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</a:t>
            </a:r>
            <a:r>
              <a:rPr b="0" lang="en-US" sz="4400" spc="-1" strike="noStrike" u="sng">
                <a:solidFill>
                  <a:srgbClr val="3333cc"/>
                </a:solidFill>
                <a:uFillTx/>
                <a:latin typeface="Arial Black"/>
              </a:rPr>
              <a:t>Uncle Tom’s Ca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auses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court decision said that a slave was not free just because he had lived in a free st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auses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Dred Scott v. Sanf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auses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1981080"/>
            <a:ext cx="8305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e election of Lincoln led to South Carolina seceding from the Union.  What was the name of Lincoln’s Political par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auses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8T16:41:16Z</dcterms:created>
  <dc:creator>lab</dc:creator>
  <dc:description/>
  <dc:language>en-US</dc:language>
  <cp:lastModifiedBy>Department of Technology</cp:lastModifiedBy>
  <dcterms:modified xsi:type="dcterms:W3CDTF">1999-12-16T20:08:43Z</dcterms:modified>
  <cp:revision>4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lln\asuettc web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