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5C5-C579-467E-B191-051C0D5A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688-B6B5-4E8D-AD18-3C57C32B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C7C-D5CD-4278-8AB3-30057F10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F4C-F86D-480B-9B75-799F7FBDE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400-2ACB-4C7F-A5E7-E0E30E08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3E6-D4E1-4A2A-BDD1-442B0F88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E1D-760A-4D7F-A314-3463AE4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91A-4839-4299-B178-0282685D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26C-18DF-4E18-AD90-2C50CAFB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302-1BC6-4091-B9D0-5DF98FF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FEB-EB2B-4B3A-88F1-6574DF5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107-CE60-4BEE-8F38-929A61B4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9502-FE4F-4392-A4B1-DD42828D5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1022400" y="2315880"/>
            <a:ext cx="754380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Civil War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ublic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art of the Compromise of 1850 called for the return of runaway sl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Fugitive Slave Ac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event started the actual fighting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t. Sum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 by, Eli Whitney, gave a new life to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tton Gi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state was the first to leave the union in February, 186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outh Carol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1820 called for the Louisiana Purchase to be divided into free and slave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auses of the Civil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vents leading to the Civil War</a:t>
            </a: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a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sults of the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Black"/>
              </a:rPr>
              <a:t>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Missouri Compromis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ct passed by Congress called for “popular sovereignty” and overturned the Missouri Compromi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bloodiest single day battle of the Civil War. (26,00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eta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three day battle is considered the turning point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ettysbur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fter Grant’s victory in this battle the South was split into and the Mississippi was completely under the control of the Union for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Vick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ich Union General made a “march to the sea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bable major cause of the Civil War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Sherm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ere did Lee surrender to Gr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Appomattox Court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abolished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3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Lincoln’s plan for Reco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en Per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gave all former male slaves the right to vo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5th amendmen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resident Lincoln was assassinat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la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hn Wilkes Booth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person became President upon the death of President Lincoln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rew John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established by Congress to aid poor blacks and whites in the S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reedsman’s Burea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made former slaves citiz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14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white Southerners who joined the Republican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alaw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ct led to the South being divided into military distric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mous anti-slavery book written by Harriet Beecher Stow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nstruction Act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which Hayes was elected President ended Radical Reconstru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Compromise of 18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 Black"/>
              </a:rPr>
              <a:t>Uncle Tom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urt decision said that a slave was not free just because he had lived in a free st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red Scott v. San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election of Lincoln led to South Carolina seceding from the Union.  What was the name of Lincoln’s Political pa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6T20:08:43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