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B5A-ACA6-4585-B10E-91C50974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64A-BF92-44AD-BBE5-9C2D2248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7D9-BE1E-41D6-94A3-802CF108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3BF-BED6-47C4-998A-124116AA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87D-5D06-42E8-8962-E3480C0B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35C-2937-40D7-8A26-756CF8A1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A23-A3A6-4A93-8B49-2215800A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5AC-2ABC-455F-B8F9-CA73FB86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2AF-5339-4B21-8866-1B88FC6F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996-B836-4959-8C2C-72DFB37E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B26-53B3-4C84-8049-53811DEE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728-E14A-4457-A92C-3E150B9E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0EDA-34DC-4B84-ADDE-8F1ABF738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0016000">
            <a:off x="1022400" y="2315880"/>
            <a:ext cx="7543800" cy="28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ll, what do you know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bout the Civil War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publica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98108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part of the Compromise of 1850 called for the return of runaway slav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Fugitive Slave Act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event started the actual fighting of the Civil W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Ft. Sum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invention by, Eli Whitney, gave a new life to slave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Cotton Gi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479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state was the first to leave the union in February, 186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outh Carol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Compromise in 1820 called for the Louisiana Purchase to be divided into free and slave sta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224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Causes of the Civil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36600"/>
            <a:ext cx="16761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Events leading to the Civil War</a:t>
            </a: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33660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Fam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Bat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6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Black"/>
              </a:rPr>
              <a:t>Results of the W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1224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Black"/>
              </a:rPr>
              <a:t>Re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Missouri Compromis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523880"/>
            <a:ext cx="84582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act passed by Congress called for “popular sovereignty” and overturned the Missouri Compromis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Kansas-Nebraska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the bloodiest single day battle of the Civil War. (26,00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tietam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three day battle is considered the turning point of the Civil W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Gettysbur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52388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fter Grant’s victory in this battle the South was split into and the Mississippi was completely under the control of the Union forc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Vicksbu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ich Union General made a “march to the sea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bable major cause of the Civil War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eral Sherma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ere did Lee surrender to Gr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Appomattox Court H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amendment abolished slave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3th amend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Lincoln’s plan for Reconstru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22096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Ten Perc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44792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amendment gave all former male slaves the right to vo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5th amendment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President Lincoln was assassinated b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la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John Wilkes Booth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752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person became President upon the death of President Lincoln?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rew John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6002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established by Congress to aid poor blacks and whites in the Sou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Freedsman’s Burea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amendment made former slaves citize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14th amend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the name given to white Southerners who joined the Republican Pa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scalaw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57176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Act led to the South being divided into military distric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Famous anti-slavery book written by Harriet Beecher Stow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construction Act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compromise in which Hayes was elected President ended Radical Reconstru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e Compromise of 18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Arial Black"/>
              </a:rPr>
              <a:t>Uncle Tom’s Ca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court decision said that a slave was not free just because he had lived in a free st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Dred Scott v. Sanf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98108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election of Lincoln led to South Carolina seceding from the Union.  What was the name of Lincoln’s Political pa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1999-12-16T20:08:43Z</dcterms:modified>
  <cp:revision>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