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9A9-902B-495A-8325-D08AC46E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85F-24FB-40F3-B0A9-AE774468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1AF-73E2-4592-823B-A0479077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CF4-6C57-46D8-899D-B899E3A1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A984-1B72-4737-BD01-F14A551F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DC7-93D8-4720-993F-A92091B8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466-F4F8-46ED-9D19-1D25C92D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615-D314-4707-A40F-1793D629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5C1-7302-4784-9569-FFF45917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D73-A6B2-409C-B86D-115ECD3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3FF-DA6B-443E-B314-CB508F9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183-D71E-4F9D-8F55-CE42C093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F13-1A2C-4CEF-B77A-747152A29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1022400" y="2315880"/>
            <a:ext cx="7543800" cy="28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the Civil War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ublic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part of the Compromise of 1850 called for the return of runaway slav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Fugitive Slave Ac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event started the actual fighting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t. Sum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invention by, Eli Whitney, gave a new life to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Cotton Gi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state was the first to leave the union in February, 186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outh Carol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1820 called for the Louisiana Purchase to be divided into free and slave stat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auses of the Civil W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vents leading to the Civil War</a:t>
            </a: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Fam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Black"/>
              </a:rPr>
              <a:t>Batt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Results of the W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Black"/>
              </a:rPr>
              <a:t>Reco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Missouri Compromis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act passed by Congress called for “popular sovereignty” and overturned the Missouri Compromi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Event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bloodiest single day battle of the Civil War. (26,00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etam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three day battle is considered the turning point of the Civil Wa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Gettysbur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fter Grant’s victory in this battle the South was split into and the Mississippi was completely under the control of the Union forc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Vicksbu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ich Union General made a “march to the sea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bable major cause of the Civil War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eral Sherma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ere did Lee surrender to Gr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Appomattox Court 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Batt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abolished slave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3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Lincoln’s plan for Reconstru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2096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Ten Perc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gave all former male slaves the right to vo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15th amendment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President Lincoln was assassinat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la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ohn Wilkes Booth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This person became President upon the death of President Lincoln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rew John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Resul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established by Congress to aid poor blacks and whites in the Sou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reedsman’s Burea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mendment made former slaves citize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14th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white Southerners who joined the Republican Part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calaw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Act led to the South being divided into military distric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Famous anti-slavery book written by Harriet Beecher Stow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construction Act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mpromise in which Hayes was elected President ended Radical Reconstru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Compromise of 18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916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Black"/>
              </a:rPr>
              <a:t>Reconstruction fo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</a:t>
            </a:r>
            <a:r>
              <a:rPr b="0" lang="en-US" sz="4400" spc="-1" strike="noStrike" u="sng">
                <a:solidFill>
                  <a:srgbClr val="3333cc"/>
                </a:solidFill>
                <a:uFillTx/>
                <a:latin typeface="Arial Black"/>
              </a:rPr>
              <a:t>Uncle Tom’s Ca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court decision said that a slave was not free just because he had lived in a free st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Dred Scott v. Sanf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election of Lincoln led to South Carolina seceding from the Union.  What was the name of Lincoln’s Political pa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au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6T20:08:43Z</dcterms:modified>
  <cp:revision>4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