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27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39.jpeg" ContentType="image/jpeg"/>
  <Override PartName="/ppt/media/image38.png" ContentType="image/png"/>
  <Override PartName="/ppt/media/image11.jpeg" ContentType="image/jpeg"/>
  <Override PartName="/ppt/media/image55.jpeg" ContentType="image/jpeg"/>
  <Override PartName="/ppt/media/image34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4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EF5-9D53-44EF-99D4-19A8EEE3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20C-B8C2-46C3-909B-F796AC9B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B29-9E1C-4929-B51B-230C1A26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3E5-4ADD-47A6-B7B7-94E6F783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1056-26AE-489E-B0D4-CE6249E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AC7B-0762-452B-A058-95A64C1C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B136-EE9E-44DE-B942-A91A1DE2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DE3F-745D-4402-ABCC-7FEBB1F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6C5C-2035-4EBE-9BA5-8FABFA72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66FF-03A4-4011-BF90-8941CCB0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315B-661B-46BE-84CC-2CF793F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E18-4CDC-4580-AFDF-174A484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B72B-0940-4CCA-92D2-2D5ED48A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9CC8-1B60-402F-A2D0-DACB26BB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BF52-5628-43EE-B207-0D6E01B9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6D30-2D90-4FE9-A860-F2C7DC55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1EDE-278B-487B-8DF0-8449BE41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4C8-5AD0-4A77-A0C3-CA09308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475-4679-4DDE-B13F-42AB99A3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2C0-500F-4C8D-B72C-476020F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D1E-9500-42E5-A92B-F8FCA412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DD8-0457-4E80-89C9-D01344D0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9DA-AC13-4366-AFBF-B18F0BA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F34-1CEA-40BB-A2FF-A511B4CC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291B-D8F6-4477-8E9C-F280C2CE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F1AF-9DDB-41F0-8598-44338F0E7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a5002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99280" y="990720"/>
            <a:ext cx="284472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 Want You"/>
          <p:cNvPicPr/>
          <p:nvPr/>
        </p:nvPicPr>
        <p:blipFill>
          <a:blip r:embed="rId3"/>
          <a:stretch/>
        </p:blipFill>
        <p:spPr>
          <a:xfrm>
            <a:off x="3429000" y="1981080"/>
            <a:ext cx="264492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81484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5410080"/>
            <a:ext cx="274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LD WAR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228600"/>
            <a:ext cx="47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Rockwell Extra Bold"/>
              </a:rPr>
              <a:t>"THE GREAT WAR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Rockwell Extra Bold"/>
              <a:ea typeface="Rockwell Extra 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29400" y="5486400"/>
            <a:ext cx="2247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Stencil"/>
              </a:rPr>
              <a:t>1914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Stencil"/>
              <a:ea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ustria-Hung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ire in Eastern Euro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870’s- experiences numerous nationalistic revolts amongst the Balkan peo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8- takes Bosnia and Herzegovin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ngers the independent Serbia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sks for Russian help, but is refus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343400" cy="4275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352680" y="4267080"/>
            <a:ext cx="3733920" cy="2133720"/>
            <a:chOff x="3352680" y="4267080"/>
            <a:chExt cx="3733920" cy="2133720"/>
          </a:xfrm>
        </p:grpSpPr>
        <p:sp>
          <p:nvSpPr>
            <p:cNvPr id="113" name=""/>
            <p:cNvSpPr/>
            <p:nvPr/>
          </p:nvSpPr>
          <p:spPr>
            <a:xfrm>
              <a:off x="3352680" y="6095880"/>
              <a:ext cx="27432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snia-Herzegov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562720" y="4267080"/>
              <a:ext cx="152388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315200" y="2514600"/>
            <a:ext cx="1676520" cy="1676520"/>
            <a:chOff x="7315200" y="2514600"/>
            <a:chExt cx="1676520" cy="1676520"/>
          </a:xfrm>
        </p:grpSpPr>
        <p:sp>
          <p:nvSpPr>
            <p:cNvPr id="116" name=""/>
            <p:cNvSpPr/>
            <p:nvPr/>
          </p:nvSpPr>
          <p:spPr>
            <a:xfrm>
              <a:off x="7467480" y="2514600"/>
              <a:ext cx="15242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b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15200" y="2895480"/>
              <a:ext cx="99072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53368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rb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ation of Slavic speaking peoples south of the Empi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bian nationalists want to free all Slavic speaking peoples in Austria-Hungary and create a new independent country called Bosn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52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mperor Franz Joseph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8- Became emperor of Austria-Hung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ly 80 years old, and in need of an heir to the thro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17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rchduke Franz Ferdinan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44808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r to the Austria-Hungary thr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s the city of Sarajevo w/ wi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pital of Bosnian provi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ssassinated by Serbian nationali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avrilo Princip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assins captured and tri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anz Joseph demands an investigation into the plo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Serbia refuses.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014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620120" cy="217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!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nations attempt to arbitrate the dispu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8, 1914- Austria- Hungary declares war on Serb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’s alliance with Austria-Hungary brings them into the wa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 comes to the aid of Serbia believing that they were the protectors of all Slavic speaking n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9, 1914- Russia declares war on Austria-Hungary and Ger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nnot take both powers o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alliance with Russia brings them into the w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 asks neutral Belgium for right to pass through to invade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Belgium refus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, 1914- Germany invades France via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his “act of aggression” forces Britain to declare war on Germany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3733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-time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Secret alliance with both nations brings the Ottoman-Turks into the wa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ple Entente or Allied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Joins Allies because of promises of new colonie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n Neutralit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Woodrow Wilson urges American neutrality despite ties to immigrant families in Euro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violated progressive refor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Why use factorie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build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weapon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destroy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things?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3717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German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to end war ear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western front before Russia could mobiliz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Invades France through Belgium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18 days to defeat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ench able to get aid from 90,000 British troop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8" name="" descr="German Commanders Hindenburg and Ludendorff"/>
          <p:cNvPicPr/>
          <p:nvPr/>
        </p:nvPicPr>
        <p:blipFill>
          <a:blip r:embed="rId2"/>
          <a:stretch/>
        </p:blipFill>
        <p:spPr>
          <a:xfrm>
            <a:off x="457200" y="2057400"/>
            <a:ext cx="48006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Standards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5 The student will analyze the origins and impact of U.S. involvement in World War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Describe the movement from U.S. neutrality to engagement in World War I, with reference to unrestricted submarine warfar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Explain the domestic impact of World War I, as reflected by the origins of the Great Migration, the Espionage Act, and socialist Eugene Deb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Explain Wilson’s Fourteen Points and the proposed League of Natio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6 The student will identify key developments in the aftermath of WW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Explain how rising communism and socialism in the United States led to the Red Scare and immigrant restric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rench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114800" cy="2533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n Fro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, French, and British armies dig 600 miles of trenches throughout Fr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 years both sides battle over narrow strip of land between the tren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 man’s land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by mines and barbed wi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ddy and rat-infested– troops lived in their own “filth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3581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8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1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6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1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ew Weap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ang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warf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Effects of Mustard Ga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imag1351.jpg 47.0K"/>
          <p:cNvPicPr/>
          <p:nvPr/>
        </p:nvPicPr>
        <p:blipFill>
          <a:blip r:embed="rId2"/>
          <a:stretch/>
        </p:blipFill>
        <p:spPr>
          <a:xfrm>
            <a:off x="2590920" y="2057400"/>
            <a:ext cx="6172200" cy="349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imag0666.jpg 39.3K"/>
          <p:cNvPicPr/>
          <p:nvPr/>
        </p:nvPicPr>
        <p:blipFill>
          <a:blip r:embed="rId3"/>
          <a:stretch/>
        </p:blipFill>
        <p:spPr>
          <a:xfrm>
            <a:off x="2895480" y="2590920"/>
            <a:ext cx="5639040" cy="345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imag1411.jpg 55.7K"/>
          <p:cNvPicPr/>
          <p:nvPr/>
        </p:nvPicPr>
        <p:blipFill>
          <a:blip r:embed="rId4"/>
          <a:stretch/>
        </p:blipFill>
        <p:spPr>
          <a:xfrm>
            <a:off x="4495680" y="1447920"/>
            <a:ext cx="364644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imag0909.jpg 23.0K"/>
          <p:cNvPicPr/>
          <p:nvPr/>
        </p:nvPicPr>
        <p:blipFill>
          <a:blip r:embed="rId5"/>
          <a:stretch/>
        </p:blipFill>
        <p:spPr>
          <a:xfrm>
            <a:off x="4800600" y="1447920"/>
            <a:ext cx="3200400" cy="4971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imag1685.jpg 34.0K"/>
          <p:cNvPicPr/>
          <p:nvPr/>
        </p:nvPicPr>
        <p:blipFill>
          <a:blip r:embed="rId6"/>
          <a:stretch/>
        </p:blipFill>
        <p:spPr>
          <a:xfrm>
            <a:off x="3962520" y="2133720"/>
            <a:ext cx="4991040" cy="30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imag0845.jpg 69.0K"/>
          <p:cNvPicPr/>
          <p:nvPr/>
        </p:nvPicPr>
        <p:blipFill>
          <a:blip r:embed="rId7"/>
          <a:stretch/>
        </p:blipFill>
        <p:spPr>
          <a:xfrm>
            <a:off x="3581280" y="1295280"/>
            <a:ext cx="5410440" cy="417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imag1398.jpg 10.1K"/>
          <p:cNvPicPr/>
          <p:nvPr/>
        </p:nvPicPr>
        <p:blipFill>
          <a:blip r:embed="rId8"/>
          <a:stretch/>
        </p:blipFill>
        <p:spPr>
          <a:xfrm>
            <a:off x="3886200" y="1219320"/>
            <a:ext cx="5029200" cy="3471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imag0545.jpg 19.8K"/>
          <p:cNvPicPr/>
          <p:nvPr/>
        </p:nvPicPr>
        <p:blipFill>
          <a:blip r:embed="rId9"/>
          <a:stretch/>
        </p:blipFill>
        <p:spPr>
          <a:xfrm>
            <a:off x="3200400" y="1143000"/>
            <a:ext cx="5410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5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63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9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305560" cy="4128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4495680" cy="457200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s build U-boa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Unterseeboo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esponse to the powerful British Na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lurk under the water, strike w/out warning, and slip away quick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 uses on many trading vessel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Impact"/>
              </a:rPr>
              <a:t>The Lusit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 U-boats patrol the North Atlantic shipping la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7, 1915- British passenger boat is sunk by U-boa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1,200 people are killed, including 128 America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ecretary of State Robert Lansing issues strong pro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issue a statement that ocean liners would no longer be target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69" name="" descr="Lusitania"/>
          <p:cNvPicPr/>
          <p:nvPr/>
        </p:nvPicPr>
        <p:blipFill>
          <a:blip r:embed="rId2"/>
          <a:stretch/>
        </p:blipFill>
        <p:spPr>
          <a:xfrm>
            <a:off x="4648320" y="1676520"/>
            <a:ext cx="4267080" cy="3454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858000" y="4038480"/>
            <a:ext cx="17254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8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8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lection of 1916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72" name="" descr="Photograph of U.S. President Woodrow Wilson"/>
          <p:cNvPicPr/>
          <p:nvPr/>
        </p:nvPicPr>
        <p:blipFill>
          <a:blip r:embed="rId2"/>
          <a:stretch/>
        </p:blipFill>
        <p:spPr>
          <a:xfrm>
            <a:off x="1600200" y="1371600"/>
            <a:ext cx="1928880" cy="297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oodrow Wilson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harles Evans Hugh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runs on campaign slogan- “He kept us out of war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ighly criticized for neutrality policies, but orders a massive buildup of arms and muni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narrowly wi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217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705720" cy="4816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newal of 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3809880" cy="449568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, 1917- Germany informs United States that it would allow one (1) American passenger ship to sail to England each wee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breaks off diplomatic relations with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immerman Telegra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, 19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intercept a telegram from German Foreign Secretary Alfred Zimmerman to Me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Germany offers alliance with Mexico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Urges to invade the United States and “reclaim its lost land.”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 to create a 3rd front to the war, and keep the U.S. from aiding Brita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public demands U.S. enter the war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son announces that all American trading ships would be armed for defen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Photograph of the coded Zimmerman telegram"/>
          <p:cNvPicPr/>
          <p:nvPr/>
        </p:nvPicPr>
        <p:blipFill>
          <a:blip r:embed="rId2"/>
          <a:stretch/>
        </p:blipFill>
        <p:spPr>
          <a:xfrm>
            <a:off x="5257800" y="1143000"/>
            <a:ext cx="3476520" cy="441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934320" y="4038480"/>
            <a:ext cx="194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3040"/>
                            </p:stCondLst>
                            <p:childTnLst>
                              <p:par>
                                <p:cTn id="8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162920" cy="512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 Enters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0040" y="1371240"/>
            <a:ext cx="3809880" cy="518148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12- 21 German U-boats sink 5 American shi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2, 1917- Wilson asks Congress to declare war o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s to make the world safe for peace and democra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on Americans to support a “war effor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aising an Arm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equired the registration of all men between the ages of 21 and 30 (later amended to 18 and 45)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8 million “boys” are drafted into the arm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,000 blacks join “black only” units commanded by wh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227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inancing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overnments ability to borrow money from the people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Bonds raised over $21  million for the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3740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ssential Ques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the US move from neutrality to engagement in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domestic impact of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purred on the Great Migr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as  the Espionage Act used against socialist Eugene Deb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purpose of Wilson’s Fourteen Points and the proposed League of N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rising communism and socialism in the United States led to the Red Scare and immigrant restri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onserving Foo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endment- Prohib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ttempt to conserve grain for the war effor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Ad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erbert Hoover lead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ncouraged expansion of agriculture and reduced wast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ood will win the war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heatless Mondays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eatless Tuesdays”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3500640" cy="4953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18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issension Among the Peopl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e on Public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Circulated pro-war pamphlets to gain American citizenry suppor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Sentences of up to 20 years for persons found guilty of being disloyal to America or aiding the enemy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dition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Penalties for using “disloyal language” against the governmen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who speak out against the war are jai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Eugene V. Debs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Constitutional right violations?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148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9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nd of the German Empi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iser Wilhelm II slowly loses control of the Empire to his gener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d with revolution i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icates on November 9, 19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rman Republic is cre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apes to the Netherl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d in 1941 of a heart attack at age 8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67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The End of the Austrian-Hungarian Empire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16- Emperor Franz Joseph dies at age 8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l I (great-nephew) comes to the throne at age 2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es to make peace with France by giving back Alsace-Lorrain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anger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4, 1918- Signs an armistice with Britain and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- Abdicates and flees to Switzerla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2- dies of tuberculo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7324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3486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3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0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5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Armistic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 at 11:00 a.m.- Germany signs the armistice and fighting ce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of the armis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would evacuate Fra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would surrender all war materials and release all prisoner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07" name="" descr="Signing the Armistice"/>
          <p:cNvPicPr/>
          <p:nvPr/>
        </p:nvPicPr>
        <p:blipFill>
          <a:blip r:embed="rId2"/>
          <a:stretch/>
        </p:blipFill>
        <p:spPr>
          <a:xfrm>
            <a:off x="304920" y="1600200"/>
            <a:ext cx="4647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8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Statistics- Total Kille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nte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France- 1.4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ussia- 3.7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Britain- 733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United States- 126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merica only fought for 16 month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ustria-Hungary- 1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- 2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320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24280" y="4724280"/>
            <a:ext cx="4191120" cy="180036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otal of 10-15 million people were killed between the two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3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3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3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3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ourteen Point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’s proposal for world pe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to Congress in January, 19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all “secret agreements” between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of the se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-militarization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for self-deter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National groups should have the right to choose where to live w/in their own borders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of the 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55640" y="1447920"/>
            <a:ext cx="324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son’s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ged the creation of a general association of nations to protect the independence of both large and small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4120" y="2435400"/>
            <a:ext cx="3809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quartered in Geneva, Switzerla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Counc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United States, France, Great Britain, Italy, and Japan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gue Coven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Each member nation agreed to solve problems in a “friendly way” before going to war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aggressor nations” never defined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cing peoples to live inside boundaries they did not want to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No way to solve economic problems that led to wars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342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076880" cy="534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Treaty of Versaill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00400" y="1752120"/>
            <a:ext cx="4038480" cy="403884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, 19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accept full responsibility for the w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pay war repa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as disarm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ies took German colon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the League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“blackmailed” into sig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vocabul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37160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a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son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v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144756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ver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tr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ar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 s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Rejection of Leagu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Cabot Lodge- leading Republican oppon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bjects to Article 10- League members would act together to put down any threats to pea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ants America to become isolated agai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2737080" cy="403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892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ilson’s Respons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want to see the League of Nations weake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s around the country by train making speeches in defense of the Trea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, 1919- collapses from exhaustion and suffers a mild strok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ife secretly runs the country during his illnes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364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Vot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, 19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ate rejects The Treaty of Versailles and the League of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Never becomes a membe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- signs a separate peace treaty with German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4440" y="304920"/>
            <a:ext cx="3352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d Sc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sm in Russia after Lenin takes over and socialism in the United States lead to the fir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 S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r of the reds, a term used to describe communists (taken from their red fla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is immigrant restrictio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let those commies in her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Flag of USSR"/>
          <p:cNvPicPr/>
          <p:nvPr/>
        </p:nvPicPr>
        <p:blipFill>
          <a:blip r:embed="rId2"/>
          <a:stretch/>
        </p:blipFill>
        <p:spPr>
          <a:xfrm>
            <a:off x="2438280" y="228600"/>
            <a:ext cx="20574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auses of World War 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r to end all war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ation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ong feeling people have for their own count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ften results in revolu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 that peoples who share the same language, heritage, and history belong behind the same bord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43760" y="1919160"/>
            <a:ext cx="2190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mperi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re of a country to have colonies for the purpose of raw materials and presti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reat Britain- “The sun never set on the British Empire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- wanted more colonies than the few it ha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65160" y="1447920"/>
            <a:ext cx="282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Militar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up of military and weaponry to gain new colonies and prepare for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The one with the most toys wins.”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7339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ystem of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Power- every nation tried to increase its strength by securing as many allies as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Allianc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Entent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ne or the other was threatened- the allies would come to their ai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any secret alliances created between nations– leads to distrus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496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8:13:27Z</dcterms:created>
  <dc:creator>Talking Point Graphics, Inc. (502) 456-9800</dc:creator>
  <dc:description/>
  <dc:language>en-US</dc:language>
  <cp:lastModifiedBy>ldesaulniers</cp:lastModifiedBy>
  <dcterms:modified xsi:type="dcterms:W3CDTF">2009-03-03T17:06:41Z</dcterms:modified>
  <cp:revision>44</cp:revision>
  <dc:subject/>
  <dc:title>International</dc:title>
</cp:coreProperties>
</file>