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5.wmf" ContentType="image/x-wmf"/>
  <Override PartName="/ppt/media/image15.jpeg" ContentType="image/jpeg"/>
  <Override PartName="/ppt/media/image14.jpeg" ContentType="image/jpeg"/>
  <Override PartName="/ppt/media/image41.jpeg" ContentType="image/jpeg"/>
  <Override PartName="/ppt/media/image54.png" ContentType="image/png"/>
  <Override PartName="/ppt/media/image22.jpeg" ContentType="image/jpeg"/>
  <Override PartName="/ppt/media/image9.png" ContentType="image/png"/>
  <Override PartName="/ppt/media/image1.jpeg" ContentType="image/jpeg"/>
  <Override PartName="/ppt/media/image35.jpeg" ContentType="image/jpeg"/>
  <Override PartName="/ppt/media/image50.wmf" ContentType="image/x-wmf"/>
  <Override PartName="/ppt/media/image23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57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8.wmf" ContentType="image/x-wmf"/>
  <Override PartName="/ppt/media/image27.jpeg" ContentType="image/jpeg"/>
  <Override PartName="/ppt/media/image28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9.jpeg" ContentType="image/jpeg"/>
  <Override PartName="/ppt/media/image51.png" ContentType="image/png"/>
  <Override PartName="/ppt/media/image48.jpeg" ContentType="image/jpeg"/>
  <Override PartName="/ppt/media/image53.jpeg" ContentType="image/jpeg"/>
  <Override PartName="/ppt/media/image39.jpeg" ContentType="image/jpeg"/>
  <Override PartName="/ppt/media/image38.png" ContentType="image/png"/>
  <Override PartName="/ppt/media/image11.jpeg" ContentType="image/jpeg"/>
  <Override PartName="/ppt/media/image55.jpeg" ContentType="image/jpeg"/>
  <Override PartName="/ppt/media/image34.jpeg" ContentType="image/jpeg"/>
  <Override PartName="/ppt/media/image7.jpeg" ContentType="image/jpeg"/>
  <Override PartName="/ppt/media/image56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media/image47.jpeg" ContentType="image/jpeg"/>
  <Override PartName="/ppt/media/image6.wmf" ContentType="image/x-wmf"/>
  <Override PartName="/ppt/media/image42.jpeg" ContentType="image/jpe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EF08-7903-43AC-A0B4-B3D856492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96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EDBC-A9C6-425F-87F0-C1C841C07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96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96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447E-F867-470C-BE96-8E34E1056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14479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14479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96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96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96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7243-815E-4850-B391-C3D6C5FF7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B0384-289D-486F-B550-D2B978D6E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6176D-00A6-4F3B-9921-C15C7F5D6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4219A-0FA4-4D98-A260-EEFBE4025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14479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6396F-3226-4280-AEB5-93C6C34BE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85188-181D-43B0-A4B0-BBFC2B187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28800" y="304560"/>
            <a:ext cx="73152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D76A1-30FF-410F-98A3-6EAD85ED3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14479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96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28247-02DE-4C8A-9415-5742E19C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6CA9-CD04-46FC-99A8-A19DACC0A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96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2F2D4-9429-452F-9E6E-22DE44B5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96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1CD20-7542-4B06-9D6F-285B22AC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96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E4220-D38C-4F02-BD72-BA820CAC9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96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96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FB075-E55A-434F-96B2-2DCC55372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14479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14479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96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96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96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4136F-4F46-4255-83ED-ACCED6F3B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7973-658C-4EB9-9F66-6A69AF7B7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14479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58C2-910B-4106-B3E6-7F81604E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A755-FC75-4D85-A0DA-22E454E43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800" y="304560"/>
            <a:ext cx="73152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7DD3-1DA2-4787-9A13-8B879BA41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14479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96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2072-35A4-4366-A9FD-2191CAD0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96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83FD-8725-4F85-B2EE-AF7FB589A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96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16B5-D8A5-4F47-AD48-FD260675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9861E-92B3-4629-B7AC-C2A11B75F0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1AFD6-C242-479D-90B4-4B39A7C489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Second Outline Level</a:t>
            </a:r>
            <a:endParaRPr b="1" i="1" lang="en-US" sz="2800" spc="-1" strike="noStrike">
              <a:solidFill>
                <a:srgbClr val="a5002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jpeg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8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299280" y="990720"/>
            <a:ext cx="2844720" cy="39621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I Want You"/>
          <p:cNvPicPr/>
          <p:nvPr/>
        </p:nvPicPr>
        <p:blipFill>
          <a:blip r:embed="rId3"/>
          <a:stretch/>
        </p:blipFill>
        <p:spPr>
          <a:xfrm>
            <a:off x="3429000" y="1981080"/>
            <a:ext cx="2644920" cy="4114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380880" y="1066680"/>
            <a:ext cx="2814840" cy="39625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5410080"/>
            <a:ext cx="27432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WORLD WAR 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133720" y="228600"/>
            <a:ext cx="4724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3366"/>
                    </a:gs>
                    <a:gs pos="100000">
                      <a:srgbClr val="3333cc"/>
                    </a:gs>
                  </a:gsLst>
                  <a:lin ang="81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Rockwell Extra Bold"/>
              </a:rPr>
              <a:t>"THE GREAT WAR"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3366"/>
                  </a:gs>
                  <a:gs pos="100000">
                    <a:srgbClr val="3333cc"/>
                  </a:gs>
                </a:gsLst>
                <a:lin ang="81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Rockwell Extra Bold"/>
              <a:ea typeface="Rockwell Extra Bold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629400" y="5486400"/>
            <a:ext cx="224784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Stencil"/>
              </a:rPr>
              <a:t>1914-191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Stencil"/>
              <a:ea typeface="Stenci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Austria-Hungary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3733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pire in Eastern Europ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 1870’s- experiences numerous nationalistic revolts amongst the Balkan peopl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08- takes Bosnia and Herzegovin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Angers the independent Serbia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Asks for Russian help, but is refused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419720" y="1447920"/>
            <a:ext cx="4343400" cy="427500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3352680" y="4267080"/>
            <a:ext cx="3733920" cy="2133720"/>
            <a:chOff x="3352680" y="4267080"/>
            <a:chExt cx="3733920" cy="2133720"/>
          </a:xfrm>
        </p:grpSpPr>
        <p:sp>
          <p:nvSpPr>
            <p:cNvPr id="113" name=""/>
            <p:cNvSpPr/>
            <p:nvPr/>
          </p:nvSpPr>
          <p:spPr>
            <a:xfrm>
              <a:off x="3352680" y="6095880"/>
              <a:ext cx="274320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osnia-Herzegovi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5562720" y="4267080"/>
              <a:ext cx="152388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7315200" y="2514600"/>
            <a:ext cx="1676520" cy="1676520"/>
            <a:chOff x="7315200" y="2514600"/>
            <a:chExt cx="1676520" cy="1676520"/>
          </a:xfrm>
        </p:grpSpPr>
        <p:sp>
          <p:nvSpPr>
            <p:cNvPr id="116" name=""/>
            <p:cNvSpPr/>
            <p:nvPr/>
          </p:nvSpPr>
          <p:spPr>
            <a:xfrm>
              <a:off x="7467480" y="2514600"/>
              <a:ext cx="152424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rb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7315200" y="2895480"/>
              <a:ext cx="990720" cy="129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1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447920" y="1295280"/>
            <a:ext cx="2533680" cy="35816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Serbia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376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 nation of Slavic speaking peoples south of the Empi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bian nationalists want to free all Slavic speaking peoples in Austria-Hungary and create a new independent country called Bosni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733920" y="2743200"/>
            <a:ext cx="1522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Emperor Franz Joseph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24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48- Became emperor of Austria-Hungar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arly 80 years old, and in need of an heir to the thron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410080" y="1523880"/>
            <a:ext cx="31766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Archduke Franz Ferdinand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676520" y="1523880"/>
            <a:ext cx="3448080" cy="43434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376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ir to the Austria-Hungary thr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its the city of Sarajevo w/ wif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Capital of Bosnian province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th assassinated by Serbian nationalis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Gavrilo Princip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assins captured and tri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Franz Joseph demands an investigation into the plot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Serbia refuses. 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533520" y="4114800"/>
            <a:ext cx="201456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143000" y="4343400"/>
            <a:ext cx="7620120" cy="217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War !!!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24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ropean nations attempt to arbitrate the dispu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ly 28, 1914- Austria- Hungary declares war on Serbi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05520" y="1447560"/>
            <a:ext cx="40384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rmany’s alliance with Austria-Hungary brings them into the war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ssia comes to the aid of Serbia believing that they were the protectors of all Slavic speaking na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War!!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240" y="1447560"/>
            <a:ext cx="38098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ly 29, 1914- Russia declares war on Austria-Hungary and German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Cannot take both powers on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ench alliance with Russia brings them into the wa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33376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rmany asks neutral Belgium for right to pass through to invade Fran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Belgium refuses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gust 1, 1914- Germany invades France via Belgiu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This “act of aggression” forces Britain to declare war on Germany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752480" y="4419720"/>
            <a:ext cx="373392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0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3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14240" y="304560"/>
            <a:ext cx="5715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War-time Alliances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24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entral Pow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stria-Hung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ttoman Empi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Secret alliance with both nations brings the Ottoman-Turks into the war.</a:t>
            </a: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33376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riple Entente or Allied Pow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it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ss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Joins Allies because of promises of new colonies.</a:t>
            </a: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American Neutrality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4191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sident Woodrow Wilson urges American neutrality despite ties to immigrant families in Europ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 violated progressive reform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Why use factories to </a:t>
            </a:r>
            <a:r>
              <a:rPr b="1" i="1" lang="en-US" sz="2400" spc="-1" strike="noStrike" u="sng">
                <a:solidFill>
                  <a:srgbClr val="a50021"/>
                </a:solidFill>
                <a:uFillTx/>
                <a:latin typeface="Arial"/>
              </a:rPr>
              <a:t>build</a:t>
            </a: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 weapons to </a:t>
            </a:r>
            <a:r>
              <a:rPr b="1" i="1" lang="en-US" sz="2400" spc="-1" strike="noStrike" u="sng">
                <a:solidFill>
                  <a:srgbClr val="a50021"/>
                </a:solidFill>
                <a:uFillTx/>
                <a:latin typeface="Arial"/>
              </a:rPr>
              <a:t>destroy</a:t>
            </a: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 things?</a:t>
            </a: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486400" y="1447920"/>
            <a:ext cx="337176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Germany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376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s to end war earl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 a western front before Russia could mobiliz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Invades France through Belgium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kes 18 days to defeat Belgiu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French able to get aid from 90,000 British troops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148" name="" descr="German Commanders Hindenburg and Ludendorff"/>
          <p:cNvPicPr/>
          <p:nvPr/>
        </p:nvPicPr>
        <p:blipFill>
          <a:blip r:embed="rId2"/>
          <a:stretch/>
        </p:blipFill>
        <p:spPr>
          <a:xfrm>
            <a:off x="457200" y="2057400"/>
            <a:ext cx="480060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28800" y="30492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Impact"/>
              </a:rPr>
              <a:t>Standards</a:t>
            </a:r>
            <a:endParaRPr b="0" lang="en-US" sz="40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10666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USH15 The student will analyze the origins and impact of U.S. involvement in World War I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. Describe the movement from U.S. neutrality to engagement in World War I, with reference to unrestricted submarine warfare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 Explain the domestic impact of World War I, as reflected by the origins of the Great Migration, the Espionage Act, and socialist Eugene Debs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. Explain Wilson’s Fourteen Points and the proposed League of Nations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USH16 The student will identify key developments in the aftermath of WW I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. Explain how rising communism and socialism in the United States led to the Red Scare and immigrant restriction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Trench Warfare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80880" y="1219320"/>
            <a:ext cx="4114800" cy="253368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376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stern Fro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rman, French, and British armies dig 600 miles of trenches throughout Franc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3 years both sides battle over narrow strip of land between the trench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No man’s land”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ected by mines and barbed wir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ddy and rat-infested– troops lived in their own “filth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762120" y="3886200"/>
            <a:ext cx="35812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19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24" dur="2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29" dur="2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32" dur="2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37" dur="2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42" dur="2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New Weapons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264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ng-range gu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 gu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s warfa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Effects of Mustard Gas.</a:t>
            </a: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me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nk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irplan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eppeli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imag1351.jpg 47.0K"/>
          <p:cNvPicPr/>
          <p:nvPr/>
        </p:nvPicPr>
        <p:blipFill>
          <a:blip r:embed="rId2"/>
          <a:stretch/>
        </p:blipFill>
        <p:spPr>
          <a:xfrm>
            <a:off x="2590920" y="2057400"/>
            <a:ext cx="6172200" cy="34941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imag0666.jpg 39.3K"/>
          <p:cNvPicPr/>
          <p:nvPr/>
        </p:nvPicPr>
        <p:blipFill>
          <a:blip r:embed="rId3"/>
          <a:stretch/>
        </p:blipFill>
        <p:spPr>
          <a:xfrm>
            <a:off x="2895480" y="2590920"/>
            <a:ext cx="5639040" cy="34509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imag1411.jpg 55.7K"/>
          <p:cNvPicPr/>
          <p:nvPr/>
        </p:nvPicPr>
        <p:blipFill>
          <a:blip r:embed="rId4"/>
          <a:stretch/>
        </p:blipFill>
        <p:spPr>
          <a:xfrm>
            <a:off x="4495680" y="1447920"/>
            <a:ext cx="3646440" cy="50292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imag0909.jpg 23.0K"/>
          <p:cNvPicPr/>
          <p:nvPr/>
        </p:nvPicPr>
        <p:blipFill>
          <a:blip r:embed="rId5"/>
          <a:stretch/>
        </p:blipFill>
        <p:spPr>
          <a:xfrm>
            <a:off x="4800600" y="1447920"/>
            <a:ext cx="3200400" cy="49719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imag1685.jpg 34.0K"/>
          <p:cNvPicPr/>
          <p:nvPr/>
        </p:nvPicPr>
        <p:blipFill>
          <a:blip r:embed="rId6"/>
          <a:stretch/>
        </p:blipFill>
        <p:spPr>
          <a:xfrm>
            <a:off x="3962520" y="2133720"/>
            <a:ext cx="4991040" cy="30859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imag0845.jpg 69.0K"/>
          <p:cNvPicPr/>
          <p:nvPr/>
        </p:nvPicPr>
        <p:blipFill>
          <a:blip r:embed="rId7"/>
          <a:stretch/>
        </p:blipFill>
        <p:spPr>
          <a:xfrm>
            <a:off x="3581280" y="1295280"/>
            <a:ext cx="5410440" cy="4176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imag1398.jpg 10.1K"/>
          <p:cNvPicPr/>
          <p:nvPr/>
        </p:nvPicPr>
        <p:blipFill>
          <a:blip r:embed="rId8"/>
          <a:stretch/>
        </p:blipFill>
        <p:spPr>
          <a:xfrm>
            <a:off x="3886200" y="1219320"/>
            <a:ext cx="5029200" cy="34718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imag0545.jpg 19.8K"/>
          <p:cNvPicPr/>
          <p:nvPr/>
        </p:nvPicPr>
        <p:blipFill>
          <a:blip r:embed="rId9"/>
          <a:stretch/>
        </p:blipFill>
        <p:spPr>
          <a:xfrm>
            <a:off x="3200400" y="1143000"/>
            <a:ext cx="541008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5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2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6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77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0" dur="77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2" dur="77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4" dur="77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w)" to="(-#ppt_w*2)">
                                      <p:cBhvr additive="repl">
                                        <p:cTn id="589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90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5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0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1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4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5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6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0" dur="2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2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after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63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6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8" dur="10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4" dur="1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8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77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0" dur="770" fill="hold"/>
                                        <p:tgtEl>
                                          <p:spTgt spid="1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2" dur="77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4" dur="77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9" dur="20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2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2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4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77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8" dur="770" fill="hold"/>
                                        <p:tgtEl>
                                          <p:spTgt spid="1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0" dur="77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2" dur="77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37" dur="10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diamond(out)" transition="out">
                                      <p:cBhvr additive="repl">
                                        <p:cTn id="74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33520" y="1676520"/>
            <a:ext cx="8305560" cy="412884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Submarine Warfare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743200" y="1600200"/>
            <a:ext cx="4495680" cy="4572000"/>
          </a:xfrm>
          <a:prstGeom prst="rect">
            <a:avLst/>
          </a:prstGeom>
          <a:solidFill>
            <a:srgbClr val="00cc99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rmans build U-boat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(Unterseeboot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 response to the powerful British Nav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gned to lurk under the water, strike w/out warning, and slip away quickl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Germany uses on many trading vessels.</a:t>
            </a: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848720" y="58672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23968" y="10800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0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8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8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8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8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8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8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8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8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8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8" dur="8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8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8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66"/>
                </a:solidFill>
                <a:latin typeface="Impact"/>
              </a:rPr>
              <a:t>The Lusitania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810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rman U-boats patrol the North Atlantic shipping lan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y 7, 1915- British passenger boat is sunk by U-boa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1,200 people are killed, including 128 Americans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Secretary of State Robert Lansing issues strong protes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Germans issue a statement that ocean liners would no longer be targets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169" name="" descr="Lusitania"/>
          <p:cNvPicPr/>
          <p:nvPr/>
        </p:nvPicPr>
        <p:blipFill>
          <a:blip r:embed="rId2"/>
          <a:stretch/>
        </p:blipFill>
        <p:spPr>
          <a:xfrm>
            <a:off x="4648320" y="1676520"/>
            <a:ext cx="4267080" cy="34542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6858000" y="4038480"/>
            <a:ext cx="1725480" cy="26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8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0" dur="8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8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8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8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8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8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8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8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" dur="8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8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8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8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8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8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8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8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6" dur="8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8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8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Election of 1916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pic>
        <p:nvPicPr>
          <p:cNvPr id="172" name="" descr="Photograph of U.S. President Woodrow Wilson"/>
          <p:cNvPicPr/>
          <p:nvPr/>
        </p:nvPicPr>
        <p:blipFill>
          <a:blip r:embed="rId2"/>
          <a:stretch/>
        </p:blipFill>
        <p:spPr>
          <a:xfrm>
            <a:off x="1600200" y="1371600"/>
            <a:ext cx="1928880" cy="29718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376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cra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Woodrow Wilson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ublic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Charles Evans Hughes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lson runs on campaign slogan- “He kept us out of war.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Highly criticized for neutrality policies, but orders a massive buildup of arms and munitions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lson narrowly wi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3124080" y="3505320"/>
            <a:ext cx="21751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1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8" dur="1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1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1600200" y="1447920"/>
            <a:ext cx="6705720" cy="481644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Renewal of Submarine Warfare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819160" y="1600200"/>
            <a:ext cx="3809880" cy="4495680"/>
          </a:xfrm>
          <a:prstGeom prst="rect">
            <a:avLst/>
          </a:prstGeom>
          <a:solidFill>
            <a:srgbClr val="00cc99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bruary, 1917- Germany informs United States that it would allow one (1) American passenger ship to sail to England each wee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lson breaks off diplomatic relations with German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Zimmerman Telegram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7124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bruary, 191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itish intercept a telegram from German Foreign Secretary Alfred Zimmerman to Mexic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0021"/>
                </a:solidFill>
                <a:latin typeface="Arial"/>
              </a:rPr>
              <a:t>Germany offers alliance with Mexico.</a:t>
            </a:r>
            <a:endParaRPr b="1" i="1" lang="en-US" sz="1800" spc="-1" strike="noStrike">
              <a:solidFill>
                <a:srgbClr val="a50021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0021"/>
                </a:solidFill>
                <a:latin typeface="Arial"/>
              </a:rPr>
              <a:t>Urges to invade the United States and “reclaim its lost land.”</a:t>
            </a:r>
            <a:endParaRPr b="1" i="1" lang="en-US" sz="1800" spc="-1" strike="noStrike">
              <a:solidFill>
                <a:srgbClr val="a50021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rpose to create a 3rd front to the war, and keep the U.S. from aiding Britai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erican public demands U.S. enter the war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son announces that all American trading ships would be armed for defens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Photograph of the coded Zimmerman telegram"/>
          <p:cNvPicPr/>
          <p:nvPr/>
        </p:nvPicPr>
        <p:blipFill>
          <a:blip r:embed="rId2"/>
          <a:stretch/>
        </p:blipFill>
        <p:spPr>
          <a:xfrm>
            <a:off x="5257800" y="1143000"/>
            <a:ext cx="3476520" cy="44197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6934320" y="4038480"/>
            <a:ext cx="1942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7" dur="8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8" dur="8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9" dur="8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4" dur="8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5" dur="8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6" dur="8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3040"/>
                            </p:stCondLst>
                            <p:childTnLst>
                              <p:par>
                                <p:cTn id="9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5" dur="8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6" dur="8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7" dur="8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2" dur="8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3" dur="8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4" dur="8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9" dur="8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0" dur="8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1" dur="8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6" dur="8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7" dur="8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8" dur="8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3" dur="8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4" dur="8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5" dur="8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523880" y="1219320"/>
            <a:ext cx="7162920" cy="51210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America Enters the War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200040" y="1371240"/>
            <a:ext cx="3809880" cy="5181480"/>
          </a:xfrm>
          <a:prstGeom prst="rect">
            <a:avLst/>
          </a:prstGeom>
          <a:solidFill>
            <a:srgbClr val="00cc99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rch 12- 21 German U-boats sink 5 American ship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ril 2, 1917- Wilson asks Congress to declare war on German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nts to make the world safe for peace and democrac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lls on Americans to support a “war effort.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2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3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4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9" dur="8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0" dur="8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1" dur="8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6" dur="8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7" dur="8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8" dur="8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3" dur="8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4" dur="8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5" dur="8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0" dur="8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1" dur="8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2" dur="8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Raising an Army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71240" y="1447920"/>
            <a:ext cx="3809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ective Service A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Required the registration of all men between the ages of 21 and 30 (later amended to 18 and 45)</a:t>
            </a: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8 million “boys” are drafted into the arm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71,000 blacks join “black only” units commanded by whit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257800" y="1371600"/>
            <a:ext cx="32274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1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8" dur="1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5" dur="1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2" dur="10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Financing the War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376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 bon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Governments ability to borrow money from the people.</a:t>
            </a: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berty Bonds raised over $21  million for the wa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1447920" y="1219320"/>
            <a:ext cx="37400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3" dur="indefinite" restart="never" nodeType="tmRoot">
          <p:childTnLst>
            <p:seq>
              <p:cTn id="1034" dur="indefinite" nodeType="mainSeq">
                <p:childTnLst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9" dur="1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0" dur="4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4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1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7" dur="4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4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5" dur="1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6" dur="4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4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Essential Questions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did the US move from neutrality to engagement in World War I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was the domestic impact of World War I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spurred on the Great Migration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was  the Espionage Act used against socialist Eugene Deb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were the purpose of Wilson’s Fourteen Points and the proposed League of Nation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rising communism and socialism in the United States led to the Red Scare and immigrant restriction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Conserving Food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376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mendment- Prohib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Attempt to conserve grain for the war effort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 Administ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Herbert Hoover leads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Encouraged expansion of agriculture and reduced waste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Food will win the war.”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Wheatless Mondays”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Meatless Tuesdays” 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1752480" y="1295280"/>
            <a:ext cx="3500640" cy="49532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380880" y="457200"/>
            <a:ext cx="18576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Dissension Among the People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810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ittee on Public Inform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0021"/>
                </a:solidFill>
                <a:latin typeface="Arial"/>
              </a:rPr>
              <a:t>Circulated pro-war pamphlets to gain American citizenry support.</a:t>
            </a:r>
            <a:endParaRPr b="1" i="1" lang="en-US" sz="18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pionage A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0021"/>
                </a:solidFill>
                <a:latin typeface="Arial"/>
              </a:rPr>
              <a:t>Sentences of up to 20 years for persons found guilty of being disloyal to America or aiding the enemy.</a:t>
            </a:r>
            <a:endParaRPr b="1" i="1" lang="en-US" sz="18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dition A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0021"/>
                </a:solidFill>
                <a:latin typeface="Arial"/>
              </a:rPr>
              <a:t>Penalties for using “disloyal language” against the government.</a:t>
            </a:r>
            <a:endParaRPr b="1" i="1" lang="en-US" sz="18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who speak out against the war are jail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0021"/>
                </a:solidFill>
                <a:latin typeface="Arial"/>
              </a:rPr>
              <a:t>Eugene V. Debs</a:t>
            </a:r>
            <a:endParaRPr b="1" i="1" lang="en-US" sz="18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sible Constitutional right violations??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4800600" y="1828800"/>
            <a:ext cx="4114800" cy="39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35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0" dur="2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1" dur="2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2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3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8" dur="10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3" dur="1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4" dur="4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4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End of the German Empire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28840" y="159984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aiser Wilhelm II slowly loses control of the Empire to his general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ed with revolution in German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dicates on November 9, 1918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German Republic is creat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capes to the Netherland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d in 1941 of a heart attack at age 82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1371600" y="1828800"/>
            <a:ext cx="3267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2" dur="indefinite" restart="never" nodeType="tmRoot">
          <p:childTnLst>
            <p:seq>
              <p:cTn id="1183" dur="indefinite" nodeType="mainSeq">
                <p:childTnLst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88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3" dur="2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4" dur="2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2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3" dur="1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1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8" dur="10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23" dur="20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Impact"/>
              </a:rPr>
              <a:t>The End of the Austrian-Hungarian Empire</a:t>
            </a:r>
            <a:endParaRPr b="0" lang="en-US" sz="36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47960" y="1218960"/>
            <a:ext cx="4343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vember, 1916- Emperor Franz Joseph dies at age 86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arl I (great-nephew) comes to the throne at age 29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Tries to make peace with France by giving back Alsace-Lorraine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Germany angered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vember 4, 1918- Signs an armistice with Britain and Fran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vember 11, 1918- Abdicates and flees to Switzerlan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22- dies of tuberculosi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533520" y="1600200"/>
            <a:ext cx="3873240" cy="4572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609480" y="1600200"/>
            <a:ext cx="348624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4" dur="indefinite" restart="never" nodeType="tmRoot">
          <p:childTnLst>
            <p:seq>
              <p:cTn id="1225" dur="indefinite" nodeType="mainSeq">
                <p:childTnLst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0" dur="5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5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6" dur="2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9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2" dur="1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3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9" dur="20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4" dur="77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5" dur="77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57" dur="77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59" dur="77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5" dur="20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6" dur="20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20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8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9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5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The Armistice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33760" y="14479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vember 11, 1918 at 11:00 a.m.- Germany signs the armistice and fighting ceas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ms of the armist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Germans would evacuate France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Germany would surrender all war materials and release all prisoners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207" name="" descr="Signing the Armistice"/>
          <p:cNvPicPr/>
          <p:nvPr/>
        </p:nvPicPr>
        <p:blipFill>
          <a:blip r:embed="rId2"/>
          <a:stretch/>
        </p:blipFill>
        <p:spPr>
          <a:xfrm>
            <a:off x="304920" y="1600200"/>
            <a:ext cx="464796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6" dur="indefinite" restart="never" nodeType="tmRoot">
          <p:childTnLst>
            <p:seq>
              <p:cTn id="1277" dur="indefinite" nodeType="mainSeq">
                <p:childTnLst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2" dur="1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3" dur="4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4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War Statistics- Total Killed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7124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tente Pow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France- 1.4 million</a:t>
            </a: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Russia- 3.7 million</a:t>
            </a: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Britain- 733,000</a:t>
            </a: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United States- 126,000</a:t>
            </a: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America only fought for 16 months.</a:t>
            </a: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105520" y="144756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ntral Pow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Austria-Hungary- 1.5 million</a:t>
            </a: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Germany- 2.5 million</a:t>
            </a: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4724280" y="3352680"/>
            <a:ext cx="4191120" cy="32022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4724280" y="4724280"/>
            <a:ext cx="4191120" cy="1800360"/>
          </a:xfrm>
          <a:prstGeom prst="rect">
            <a:avLst/>
          </a:prstGeom>
          <a:solidFill>
            <a:srgbClr val="00cc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 total of 10-15 million people were killed between the two pow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9" dur="indefinite" restart="never" nodeType="tmRoot">
          <p:childTnLst>
            <p:seq>
              <p:cTn id="1310" dur="indefinite" nodeType="mainSeq">
                <p:childTnLst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5" dur="3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8" dur="3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1" dur="3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4" dur="30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7" dur="30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0" dur="3000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5" dur="5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9" dur="1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0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4" dur="1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5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Fourteen Points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3760" y="14479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odrow Wilson’s proposal for world peac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sented to Congress in January, 1918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all “secret agreements” between natio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dom of the sea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-militarization of natio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led for self-determin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0021"/>
                </a:solidFill>
                <a:latin typeface="Arial"/>
              </a:rPr>
              <a:t>National groups should have the right to choose where to live w/in their own borders.</a:t>
            </a:r>
            <a:endParaRPr b="1" i="1" lang="en-US" sz="18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ion of the League of N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655640" y="1447920"/>
            <a:ext cx="32403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4" dur="indefinite" restart="never" nodeType="tmRoot">
          <p:childTnLst>
            <p:seq>
              <p:cTn id="1355" dur="indefinite" nodeType="mainSeq">
                <p:childTnLst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0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1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7" dur="1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8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4" dur="1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5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1" dur="1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2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8" dur="10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9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5" dur="10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6" dur="10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10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0" dur="10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1" dur="10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10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7" dur="10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8" dur="10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10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League of Nations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37124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lson’s 1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oi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rged the creation of a general association of nations to protect the independence of both large and small nation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5334120" y="2435400"/>
            <a:ext cx="380988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0" dur="indefinite" restart="never" nodeType="tmRoot">
          <p:childTnLst>
            <p:seq>
              <p:cTn id="1411" dur="indefinite" nodeType="mainSeq">
                <p:childTnLst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18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3" dur="2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The League of Nations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3760" y="14479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dquartered in Geneva, Switzerlan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utive Counci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a50021"/>
                </a:solidFill>
                <a:latin typeface="Arial"/>
              </a:rPr>
              <a:t>United States, France, Great Britain, Italy, and Japan.</a:t>
            </a:r>
            <a:endParaRPr b="1" i="1" lang="en-US" sz="1600" spc="-1" strike="noStrike">
              <a:solidFill>
                <a:srgbClr val="a50021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ague Covena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a50021"/>
                </a:solidFill>
                <a:latin typeface="Arial"/>
              </a:rPr>
              <a:t>Each member nation agreed to solve problems in a “friendly way” before going to war.</a:t>
            </a:r>
            <a:endParaRPr b="1" i="1" lang="en-US" sz="1600" spc="-1" strike="noStrike">
              <a:solidFill>
                <a:srgbClr val="a50021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akn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a50021"/>
                </a:solidFill>
                <a:latin typeface="Arial"/>
              </a:rPr>
              <a:t>“</a:t>
            </a:r>
            <a:r>
              <a:rPr b="1" i="1" lang="en-US" sz="1600" spc="-1" strike="noStrike">
                <a:solidFill>
                  <a:srgbClr val="a50021"/>
                </a:solidFill>
                <a:latin typeface="Arial"/>
              </a:rPr>
              <a:t>aggressor nations” never defined</a:t>
            </a:r>
            <a:endParaRPr b="1" i="1" lang="en-US" sz="1600" spc="-1" strike="noStrike">
              <a:solidFill>
                <a:srgbClr val="a50021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a50021"/>
                </a:solidFill>
                <a:latin typeface="Arial"/>
              </a:rPr>
              <a:t>Forcing peoples to live inside boundaries they did not want to.</a:t>
            </a:r>
            <a:endParaRPr b="1" i="1" lang="en-US" sz="1600" spc="-1" strike="noStrike">
              <a:solidFill>
                <a:srgbClr val="a50021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a50021"/>
                </a:solidFill>
                <a:latin typeface="Arial"/>
              </a:rPr>
              <a:t>No way to solve economic problems that led to wars.</a:t>
            </a:r>
            <a:endParaRPr b="1" i="1" lang="en-US" sz="16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066680" y="1905120"/>
            <a:ext cx="3422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4" dur="indefinite" restart="never" nodeType="tmRoot">
          <p:childTnLst>
            <p:seq>
              <p:cTn id="1425" dur="indefinite" nodeType="mainSeq">
                <p:childTnLst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0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8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6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2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0" dur="10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10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10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10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8" dur="10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10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10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10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6" dur="1000" fill="hold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1000" fill="hold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1000" fill="hold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1000" fill="hold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4" dur="1000" fill="hold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1000" fill="hold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1000" fill="hold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1000" fill="hold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1676520" y="1143000"/>
            <a:ext cx="7076880" cy="53434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The Treaty of Versailles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200400" y="1752120"/>
            <a:ext cx="4038480" cy="4038840"/>
          </a:xfrm>
          <a:prstGeom prst="rect">
            <a:avLst/>
          </a:prstGeom>
          <a:solidFill>
            <a:srgbClr val="00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, 191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rmany would accept full responsibility for the wa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rmany would pay war reparatio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rmany was disarm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ies took German coloni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ion of the League of Natio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rmany “blackmailed” into signing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8" dur="indefinite" restart="never" nodeType="tmRoot">
          <p:childTnLst>
            <p:seq>
              <p:cTn id="1499" dur="indefinite" nodeType="mainSeq">
                <p:childTnLst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1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2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8" dur="1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9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5" dur="1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6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2" dur="1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3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9" dur="10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0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fill="hold">
                      <p:stCondLst>
                        <p:cond delay="indefinite"/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6" dur="10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7" dur="1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1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fill="hold">
                      <p:stCondLst>
                        <p:cond delay="indefinite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3" dur="10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4" dur="10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10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vocabulary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5640" y="1371600"/>
            <a:ext cx="2438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mis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ea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odrow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litar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ma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eria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ia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ench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ison g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eppeli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pion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av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bi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81120" y="1447560"/>
            <a:ext cx="3581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ciali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versi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sail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mest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ague of N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un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utr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mari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d sc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g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ive Service A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r bon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n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31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Senate Rejection of League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nry Cabot Lodge- leading Republican opponen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Objects to Article 10- League members would act together to put down any threats to peace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Wants America to become isolated again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4495680" y="838080"/>
            <a:ext cx="2737080" cy="40388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6019920" y="3352680"/>
            <a:ext cx="28922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6" dur="indefinite" restart="never" nodeType="tmRoot">
          <p:childTnLst>
            <p:seq>
              <p:cTn id="1557" dur="indefinite" nodeType="mainSeq">
                <p:childTnLst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2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7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0" dur="1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5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7" dur="1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Wilson’s Response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3376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es not want to see the League of Nations weaken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vels around the country by train making speeches in defense of the Treat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ll, 1919- collapses from exhaustion and suffers a mild strok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Wife secretly runs the country during his illness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1219320" y="1447920"/>
            <a:ext cx="3641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8" dur="indefinite" restart="never" nodeType="tmRoot">
          <p:childTnLst>
            <p:seq>
              <p:cTn id="1579" dur="indefinite" nodeType="mainSeq">
                <p:childTnLst>
                  <p:par>
                    <p:cTn id="1580" fill="hold">
                      <p:stCondLst>
                        <p:cond delay="indefinite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4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5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fill="hold">
                      <p:stCondLst>
                        <p:cond delay="indefinite"/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1" dur="10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2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3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fill="hold">
                      <p:stCondLst>
                        <p:cond delay="indefinite"/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8" dur="10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9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3" dur="10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4" dur="10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10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Senate Vote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37124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vember, 191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nate rejects The Treaty of Versailles and the League of Nation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Never becomes a member.</a:t>
            </a: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21- signs a separate peace treaty with German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5105520" y="1447920"/>
            <a:ext cx="380988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6" dur="indefinite" restart="never" nodeType="tmRoot">
          <p:childTnLst>
            <p:seq>
              <p:cTn id="1607" dur="indefinite" nodeType="mainSeq">
                <p:childTnLst>
                  <p:par>
                    <p:cTn id="1608" fill="hold">
                      <p:stCondLst>
                        <p:cond delay="indefinite"/>
                      </p:stCondLst>
                      <p:childTnLst>
                        <p:par>
                          <p:cTn id="1609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2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6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7" fill="hold">
                      <p:stCondLst>
                        <p:cond delay="indefinite"/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1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2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7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1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114440" y="304920"/>
            <a:ext cx="3352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Red Scare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unism in Russia after Lenin takes over and socialism in the United States lead to the first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d Sca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ar of the reds, a term used to describe communists (taken from their red flag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ult is immigrant restriction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n’t let those commies in here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Flag of USSR"/>
          <p:cNvPicPr/>
          <p:nvPr/>
        </p:nvPicPr>
        <p:blipFill>
          <a:blip r:embed="rId2"/>
          <a:stretch/>
        </p:blipFill>
        <p:spPr>
          <a:xfrm>
            <a:off x="2438280" y="228600"/>
            <a:ext cx="205740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Causes of World War I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828800" y="39625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war to end all wars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Nationalism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24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ong feeling people have for their own countr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Often results in revolutions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lief that peoples who share the same language, heritage, and history belong behind the same borde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143760" y="1919160"/>
            <a:ext cx="219060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Imperialism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376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desire of a country to have colonies for the purpose of raw materials and prestig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Great Britain- “The sun never set on the British Empire.”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Germany- wanted more colonies than the few it had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865160" y="1447920"/>
            <a:ext cx="28213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Militarism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24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ilding up of military and weaponry to gain new colonies and prepare for wa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The one with the most toys wins.”</a:t>
            </a: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029200" y="1981080"/>
            <a:ext cx="3733920" cy="30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System of Alliances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42670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lance of Power- every nation tried to increase its strength by securing as many allies as possib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Triple Alliance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stria-Hunga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Triple Entente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eat Britai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ss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one or the other was threatened- the allies would come to their ai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Many secret alliances created between nations– leads to distrust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267080" y="3048120"/>
            <a:ext cx="4496040" cy="12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2T18:13:27Z</dcterms:created>
  <dc:creator>Talking Point Graphics, Inc. (502) 456-9800</dc:creator>
  <dc:description/>
  <dc:language>en-US</dc:language>
  <cp:lastModifiedBy>ldesaulniers</cp:lastModifiedBy>
  <dcterms:modified xsi:type="dcterms:W3CDTF">2009-03-03T17:06:41Z</dcterms:modified>
  <cp:revision>44</cp:revision>
  <dc:subject/>
  <dc:title>International</dc:title>
</cp:coreProperties>
</file>