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50.wmf" ContentType="image/x-wmf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8.wmf" ContentType="image/x-wmf"/>
  <Override PartName="/ppt/media/image27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9.jpeg" ContentType="image/jpeg"/>
  <Override PartName="/ppt/media/image51.png" ContentType="image/png"/>
  <Override PartName="/ppt/media/image48.jpeg" ContentType="image/jpeg"/>
  <Override PartName="/ppt/media/image53.jpeg" ContentType="image/jpeg"/>
  <Override PartName="/ppt/media/image39.jpeg" ContentType="image/jpeg"/>
  <Override PartName="/ppt/media/image38.png" ContentType="image/png"/>
  <Override PartName="/ppt/media/image11.jpeg" ContentType="image/jpeg"/>
  <Override PartName="/ppt/media/image55.jpeg" ContentType="image/jpeg"/>
  <Override PartName="/ppt/media/image34.jpeg" ContentType="image/jpeg"/>
  <Override PartName="/ppt/media/image7.jpeg" ContentType="image/jpeg"/>
  <Override PartName="/ppt/media/image5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47.jpeg" ContentType="image/jpeg"/>
  <Override PartName="/ppt/media/image6.wmf" ContentType="image/x-wmf"/>
  <Override PartName="/ppt/media/image42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648-0202-445D-81DF-C712B953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042-9D36-4B3A-9B1C-096BC1C8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905-E3FD-4DE6-A807-9A6A1199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451-EA06-40E1-857F-6EF0A12D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38E1-F085-4D65-AAA6-7CD36729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1867-7A4B-4029-9E30-A5DEE1E3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414F-4F6E-43A8-A04C-CB38CDA7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F6B2-3AF4-43C1-BAC3-816F04DA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5914-9117-4FA6-88CE-2EF10C2B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BEFC-846D-4808-B812-69D097CE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A31E-08DF-4F2C-B968-2BBFD7F1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D84-DE83-4275-BEF9-60AA9EEC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F738-19ED-4862-8182-5F62B0BC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30F1-9656-48A7-83A7-83ED4D1F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C984-B569-4DEF-97C6-60B9136E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5D1B-84C1-4395-B426-4DD25FF5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0394-C75D-4ECC-9F76-8AE9A059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6B0-7290-4D6D-8599-FB87437C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C99-0155-4278-9638-A77BA7CD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1C1-8898-4E53-A28B-8B95FBF7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0C5-6A4D-46E5-BD83-3FE079BC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ABA-6ACD-42CB-BD33-B9902DF1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43C-C169-4D3F-AB24-5E19B24B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724-68E3-4DA4-9398-C06FDE92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0508-41D4-401C-A643-60EE409EB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127D-BBDA-42C8-A983-ACFEECEE2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a5002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99280" y="990720"/>
            <a:ext cx="2844720" cy="3962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I Want You"/>
          <p:cNvPicPr/>
          <p:nvPr/>
        </p:nvPicPr>
        <p:blipFill>
          <a:blip r:embed="rId3"/>
          <a:stretch/>
        </p:blipFill>
        <p:spPr>
          <a:xfrm>
            <a:off x="3429000" y="1981080"/>
            <a:ext cx="2644920" cy="411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80880" y="1066680"/>
            <a:ext cx="2814840" cy="3962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5410080"/>
            <a:ext cx="2743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ORLD WAR 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33720" y="228600"/>
            <a:ext cx="472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3333cc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Rockwell Extra Bold"/>
              </a:rPr>
              <a:t>"THE GREAT WAR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66"/>
                  </a:gs>
                  <a:gs pos="100000">
                    <a:srgbClr val="3333cc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Rockwell Extra Bold"/>
              <a:ea typeface="Rockwell Extra Bol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29400" y="5486400"/>
            <a:ext cx="22478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Stencil"/>
              </a:rPr>
              <a:t>1914-19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Stencil"/>
              <a:ea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ustria-Hungar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3733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ire in Eastern Europ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1870’s- experiences numerous nationalistic revolts amongst the Balkan peop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08- takes Bosnia and Herzegovin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ngers the independent Serbia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sks for Russian help, but is refuse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343400" cy="4275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3352680" y="4267080"/>
            <a:ext cx="3733920" cy="2133720"/>
            <a:chOff x="3352680" y="4267080"/>
            <a:chExt cx="3733920" cy="2133720"/>
          </a:xfrm>
        </p:grpSpPr>
        <p:sp>
          <p:nvSpPr>
            <p:cNvPr id="113" name=""/>
            <p:cNvSpPr/>
            <p:nvPr/>
          </p:nvSpPr>
          <p:spPr>
            <a:xfrm>
              <a:off x="3352680" y="6095880"/>
              <a:ext cx="274320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snia-Herzegov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562720" y="4267080"/>
              <a:ext cx="152388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315200" y="2514600"/>
            <a:ext cx="1676520" cy="1676520"/>
            <a:chOff x="7315200" y="2514600"/>
            <a:chExt cx="1676520" cy="1676520"/>
          </a:xfrm>
        </p:grpSpPr>
        <p:sp>
          <p:nvSpPr>
            <p:cNvPr id="116" name=""/>
            <p:cNvSpPr/>
            <p:nvPr/>
          </p:nvSpPr>
          <p:spPr>
            <a:xfrm>
              <a:off x="7467480" y="2514600"/>
              <a:ext cx="15242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b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15200" y="2895480"/>
              <a:ext cx="99072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2533680" cy="3581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rbi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nation of Slavic speaking peoples south of the Empi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bian nationalists want to free all Slavic speaking peoples in Austria-Hungary and create a new independent country called Bosn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1522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mperor Franz Joseph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48- Became emperor of Austria-Hunga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arly 80 years old, and in need of an heir to the thron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10080" y="1523880"/>
            <a:ext cx="3176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rchduke Franz Ferdinan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344808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ir to the Austria-Hungary thr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s the city of Sarajevo w/ wif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apital of Bosnian provin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assassinated by Serbian nationali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avrilo Princip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assins captured and tri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ranz Joseph demands an investigation into the plo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Serbia refuses. 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0145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7620120" cy="217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 !!!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nations attempt to arbitrate the dispu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28, 1914- Austria- Hungary declares war on Serb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’s alliance with Austria-Hungary brings them into the wa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ssia comes to the aid of Serbia believing that they were the protectors of all Slavic speaking n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!!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29, 1914- Russia declares war on Austria-Hungary and Germ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annot take both powers on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nch alliance with Russia brings them into the w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 asks neutral Belgium for right to pass through to invade Fr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Belgium refuses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1, 1914- Germany invades France via Belgi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his “act of aggression” forces Britain to declare war on Germany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37339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-time Allianc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ntral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toman Empi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Secret alliance with both nations brings the Ottoman-Turks into the war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ple Entente or Allied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t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Joins Allies because of promises of new colonie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merican Neutralit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Woodrow Wilson urges American neutrality despite ties to immigrant families in Europ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 violated progressive refor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Why use factories to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build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weapons to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destroy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things?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33717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German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s to end war ear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western front before Russia could mobiliz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Invades France through Belgium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s 18 days to defeat Belgi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rench able to get aid from 90,000 British troop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48" name="" descr="German Commanders Hindenburg and Ludendorff"/>
          <p:cNvPicPr/>
          <p:nvPr/>
        </p:nvPicPr>
        <p:blipFill>
          <a:blip r:embed="rId2"/>
          <a:stretch/>
        </p:blipFill>
        <p:spPr>
          <a:xfrm>
            <a:off x="457200" y="2057400"/>
            <a:ext cx="48006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Standards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USH15 The student will analyze the origins and impact of U.S. involvement in World War 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Describe the movement from U.S. neutrality to engagement in World War I, with reference to unrestricted submarine warfar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Explain the domestic impact of World War I, as reflected by the origins of the Great Migration, the Espionage Act, and socialist Eugene Deb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Explain Wilson’s Fourteen Points and the proposed League of Nation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USH16 The student will identify key developments in the aftermath of WW 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Explain how rising communism and socialism in the United States led to the Red Scare and immigrant restric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rench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4114800" cy="2533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ern Fro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man, French, and British armies dig 600 miles of trenches throughout Fr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3 years both sides battle over narrow strip of land between the trench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o man’s land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ed by mines and barbed wi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ddy and rat-infested– troops lived in their own “filth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62120" y="3886200"/>
            <a:ext cx="3581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3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8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3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6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1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6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New Weap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range g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 g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warf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Effects of Mustard Ga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eppel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imag1351.jpg 47.0K"/>
          <p:cNvPicPr/>
          <p:nvPr/>
        </p:nvPicPr>
        <p:blipFill>
          <a:blip r:embed="rId2"/>
          <a:stretch/>
        </p:blipFill>
        <p:spPr>
          <a:xfrm>
            <a:off x="2590920" y="2057400"/>
            <a:ext cx="6172200" cy="3494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imag0666.jpg 39.3K"/>
          <p:cNvPicPr/>
          <p:nvPr/>
        </p:nvPicPr>
        <p:blipFill>
          <a:blip r:embed="rId3"/>
          <a:stretch/>
        </p:blipFill>
        <p:spPr>
          <a:xfrm>
            <a:off x="2895480" y="2590920"/>
            <a:ext cx="5639040" cy="3450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imag1411.jpg 55.7K"/>
          <p:cNvPicPr/>
          <p:nvPr/>
        </p:nvPicPr>
        <p:blipFill>
          <a:blip r:embed="rId4"/>
          <a:stretch/>
        </p:blipFill>
        <p:spPr>
          <a:xfrm>
            <a:off x="4495680" y="1447920"/>
            <a:ext cx="3646440" cy="5029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imag0909.jpg 23.0K"/>
          <p:cNvPicPr/>
          <p:nvPr/>
        </p:nvPicPr>
        <p:blipFill>
          <a:blip r:embed="rId5"/>
          <a:stretch/>
        </p:blipFill>
        <p:spPr>
          <a:xfrm>
            <a:off x="4800600" y="1447920"/>
            <a:ext cx="3200400" cy="4971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imag1685.jpg 34.0K"/>
          <p:cNvPicPr/>
          <p:nvPr/>
        </p:nvPicPr>
        <p:blipFill>
          <a:blip r:embed="rId6"/>
          <a:stretch/>
        </p:blipFill>
        <p:spPr>
          <a:xfrm>
            <a:off x="3962520" y="2133720"/>
            <a:ext cx="4991040" cy="3085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imag0845.jpg 69.0K"/>
          <p:cNvPicPr/>
          <p:nvPr/>
        </p:nvPicPr>
        <p:blipFill>
          <a:blip r:embed="rId7"/>
          <a:stretch/>
        </p:blipFill>
        <p:spPr>
          <a:xfrm>
            <a:off x="3581280" y="1295280"/>
            <a:ext cx="5410440" cy="4176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imag1398.jpg 10.1K"/>
          <p:cNvPicPr/>
          <p:nvPr/>
        </p:nvPicPr>
        <p:blipFill>
          <a:blip r:embed="rId8"/>
          <a:stretch/>
        </p:blipFill>
        <p:spPr>
          <a:xfrm>
            <a:off x="3886200" y="1219320"/>
            <a:ext cx="5029200" cy="3471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imag0545.jpg 19.8K"/>
          <p:cNvPicPr/>
          <p:nvPr/>
        </p:nvPicPr>
        <p:blipFill>
          <a:blip r:embed="rId9"/>
          <a:stretch/>
        </p:blipFill>
        <p:spPr>
          <a:xfrm>
            <a:off x="3200400" y="1143000"/>
            <a:ext cx="54100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4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4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2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2" dur="15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5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6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7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305560" cy="41288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ubmarine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4495680" cy="457200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mans build U-boat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Unterseeboot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response to the powerful British Nav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ed to lurk under the water, strike w/out warning, and slip away quick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ermany uses on many trading vessel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8672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8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8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8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Impact"/>
              </a:rPr>
              <a:t>The Lusitani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 U-boats patrol the North Atlantic shipping la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7, 1915- British passenger boat is sunk by U-boa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1,200 people are killed, including 128 America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Secretary of State Robert Lansing issues strong pro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s issue a statement that ocean liners would no longer be target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69" name="" descr="Lusitania"/>
          <p:cNvPicPr/>
          <p:nvPr/>
        </p:nvPicPr>
        <p:blipFill>
          <a:blip r:embed="rId2"/>
          <a:stretch/>
        </p:blipFill>
        <p:spPr>
          <a:xfrm>
            <a:off x="4648320" y="1676520"/>
            <a:ext cx="4267080" cy="3454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858000" y="4038480"/>
            <a:ext cx="17254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8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8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8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8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8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lection of 1916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72" name="" descr="Photograph of U.S. President Woodrow Wilson"/>
          <p:cNvPicPr/>
          <p:nvPr/>
        </p:nvPicPr>
        <p:blipFill>
          <a:blip r:embed="rId2"/>
          <a:stretch/>
        </p:blipFill>
        <p:spPr>
          <a:xfrm>
            <a:off x="1600200" y="1371600"/>
            <a:ext cx="1928880" cy="297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cr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oodrow Wilson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ublic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harles Evans Hughes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runs on campaign slogan- “He kept us out of war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Highly criticized for neutrality policies, but orders a massive buildup of arms and munitio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narrowly wi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124080" y="3505320"/>
            <a:ext cx="217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6705720" cy="4816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enewal of Submarine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3809880" cy="449568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bruary, 1917- Germany informs United States that it would allow one (1) American passenger ship to sail to England each wee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breaks off diplomatic relations with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Zimmerman Telegra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, 19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tish intercept a telegram from German Foreign Secretary Alfred Zimmerman to Mexi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Germany offers alliance with Mexico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Urges to invade the United States and “reclaim its lost land.”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pose to create a 3rd front to the war, and keep the U.S. from aiding Brita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rican public demands U.S. enter the war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son announces that all American trading ships would be armed for defen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Photograph of the coded Zimmerman telegram"/>
          <p:cNvPicPr/>
          <p:nvPr/>
        </p:nvPicPr>
        <p:blipFill>
          <a:blip r:embed="rId2"/>
          <a:stretch/>
        </p:blipFill>
        <p:spPr>
          <a:xfrm>
            <a:off x="5257800" y="1143000"/>
            <a:ext cx="3476520" cy="4419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934320" y="4038480"/>
            <a:ext cx="194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040"/>
                            </p:stCondLst>
                            <p:childTnLst>
                              <p:par>
                                <p:cTn id="9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2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162920" cy="5121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merica Enters the War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00040" y="1371240"/>
            <a:ext cx="3809880" cy="5181480"/>
          </a:xfrm>
          <a:prstGeom prst="rect">
            <a:avLst/>
          </a:prstGeom>
          <a:solidFill>
            <a:srgbClr val="00cc99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h 12- 21 German U-boats sink 5 American shi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2, 1917- Wilson asks Congress to declare war on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ts to make the world safe for peace and democrac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s on Americans to support a “war effort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aising an Arm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ve Service 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Required the registration of all men between the ages of 21 and 30 (later amended to 18 and 45)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8 million “boys” are drafted into the arm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1,000 blacks join “black only” units commanded by whi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3227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Financing the War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 bo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overnments ability to borrow money from the people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ty Bonds raised over $21  million for the w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447920" y="1219320"/>
            <a:ext cx="3740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4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4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4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4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4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4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ssential Ques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id the US move from neutrality to engagement in World War 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 domestic impact of World War 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spurred on the Great Migra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as  the Espionage Act used against socialist Eugene Deb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re the purpose of Wilson’s Fourteen Points and the proposed League of N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rising communism and socialism in the United States led to the Red Scare and immigrant restric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onserving Foo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mendment- Prohib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ttempt to conserve grain for the war effor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Admini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Herbert Hoover lead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Encouraged expansion of agriculture and reduced wast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ood will win the war.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heatless Mondays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Meatless Tuesdays” 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3500640" cy="4953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80880" y="457200"/>
            <a:ext cx="18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Dissension Among the Peopl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ttee on Public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Circulated pro-war pamphlets to gain American citizenry support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ionage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Sentences of up to 20 years for persons found guilty of being disloyal to America or aiding the enemy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dition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Penalties for using “disloyal language” against the government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who speak out against the war are jail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Eugene V. Debs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Constitutional right violations?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41148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5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5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9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nd of the German Empi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884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iser Wilhelm II slowly loses control of the Empire to his genera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d with revolution in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icates on November 9, 19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rman Republic is cre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capes to the Netherla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d in 1941 of a heart attack at age 8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3267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4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5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6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9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1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6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7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Impact"/>
              </a:rPr>
              <a:t>The End of the Austrian-Hungarian Empire</a:t>
            </a:r>
            <a:endParaRPr b="0" lang="en-US" sz="36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7960" y="12189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, 1916- Emperor Franz Joseph dies at age 8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rl I (great-nephew) comes to the throne at age 29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es to make peace with France by giving back Alsace-Lorrain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 angere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4, 1918- Signs an armistice with Britain and Fr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11, 1918- Abdicates and flees to Switzerla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2- dies of tuberculo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87324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09480" y="1600200"/>
            <a:ext cx="3486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1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2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Armistic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11, 1918 at 11:00 a.m.- Germany signs the armistice and fighting cea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of the armis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s would evacuate Fran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 would surrender all war materials and release all prisoner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07" name="" descr="Signing the Armistice"/>
          <p:cNvPicPr/>
          <p:nvPr/>
        </p:nvPicPr>
        <p:blipFill>
          <a:blip r:embed="rId2"/>
          <a:stretch/>
        </p:blipFill>
        <p:spPr>
          <a:xfrm>
            <a:off x="304920" y="1600200"/>
            <a:ext cx="46479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77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7" dur="77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9" dur="77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1" dur="77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 Statistics- Total Kille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nte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France- 1.4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Russia- 3.7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Britain- 733,000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United States- 126,000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America only fought for 16 month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Austria-Hungary- 1.5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ermany- 2.5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4191120" cy="320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24280" y="4724280"/>
            <a:ext cx="4191120" cy="180036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total of 10-15 million people were killed between the two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3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3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3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3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3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3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2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Fourteen Point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odrow Wilson’s proposal for world pe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ed to Congress in January, 19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all “secret agreements” between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dom of the se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-militarization of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for self-determ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National groups should have the right to choose where to live w/in their own borders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of the League of 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655640" y="1447920"/>
            <a:ext cx="324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League of Na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son’s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ged the creation of a general association of nations to protect the independence of both large and small n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4120" y="2435400"/>
            <a:ext cx="38098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00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League of Na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quartered in Geneva, Switzerla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ve Counc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United States, France, Great Britain, Italy, and Japan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gue Coven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Each member nation agreed to solve problems in a “friendly way” before going to war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aggressor nations” never defined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Forcing peoples to live inside boundaries they did not want to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No way to solve economic problems that led to wars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342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7076880" cy="5343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Treaty of Versaill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00400" y="1752120"/>
            <a:ext cx="4038480" cy="4038840"/>
          </a:xfrm>
          <a:prstGeom prst="rect">
            <a:avLst/>
          </a:prstGeom>
          <a:solidFill>
            <a:srgbClr val="00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, 19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ould accept full responsibility for the w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ould pay war repar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as disarm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ies took German colon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ion of the League of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“blackmailed” into sign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vocabular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371600"/>
            <a:ext cx="2438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is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odrow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itar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a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i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n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son g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ppel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ion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v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120" y="1447560"/>
            <a:ext cx="358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ver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es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tr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mar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 s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ve Service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 bo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nate Rejection of Leagu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ry Cabot Lodge- leading Republican oppon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Objects to Article 10- League members would act together to put down any threats to pea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ants America to become isolated again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2737080" cy="403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892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8" dur="indefinite" restart="never" nodeType="tmRoot">
          <p:childTnLst>
            <p:seq>
              <p:cTn id="1539" dur="indefinite" nodeType="mainSeq">
                <p:childTnLst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ilson’s Respons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want to see the League of Nations weake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vels around the country by train making speeches in defense of the Trea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, 1919- collapses from exhaustion and suffers a mild strok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ife secretly runs the country during his illnes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364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nate Vot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, 191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ate rejects The Treaty of Versailles and the League of N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Never becomes a member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1- signs a separate peace treaty with German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8098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14440" y="304920"/>
            <a:ext cx="3352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ed Sc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sm in Russia after Lenin takes over and socialism in the United States lead to the firs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d S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ar of the reds, a term used to describe communists (taken from their red fla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 is immigrant restriction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let those commies in here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Flag of USSR"/>
          <p:cNvPicPr/>
          <p:nvPr/>
        </p:nvPicPr>
        <p:blipFill>
          <a:blip r:embed="rId2"/>
          <a:stretch/>
        </p:blipFill>
        <p:spPr>
          <a:xfrm>
            <a:off x="2438280" y="228600"/>
            <a:ext cx="20574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auses of World War I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r to end all war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National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ong feeling people have for their own count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Often results in revolutio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ief that peoples who share the same language, heritage, and history belong behind the same bord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43760" y="1919160"/>
            <a:ext cx="2190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Imperial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sire of a country to have colonies for the purpose of raw materials and presti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reat Britain- “The sun never set on the British Empire.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- wanted more colonies than the few it ha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65160" y="1447920"/>
            <a:ext cx="2821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Militar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 up of military and weaponry to gain new colonies and prepare for w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The one with the most toys wins.”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7339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ystem of Allianc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of Power- every nation tried to increase its strength by securing as many allies as pos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ple Alliance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ple Entente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 Brit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one or the other was threatened- the allies would come to their ai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Many secret alliances created between nations– leads to distrus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449604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8:13:27Z</dcterms:created>
  <dc:creator>Talking Point Graphics, Inc. (502) 456-9800</dc:creator>
  <dc:description/>
  <dc:language>en-US</dc:language>
  <cp:lastModifiedBy>ldesaulniers</cp:lastModifiedBy>
  <dcterms:modified xsi:type="dcterms:W3CDTF">2009-03-03T17:06:41Z</dcterms:modified>
  <cp:revision>44</cp:revision>
  <dc:subject/>
  <dc:title>International</dc:title>
</cp:coreProperties>
</file>