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A1ADE-CCA9-46C1-8382-1EBC47468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E7F18-E810-479A-94A7-F6DCCADD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D6EB2-02F5-4D06-8E0A-B2AF749BB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4C604-DC02-4BCB-9A3C-466BEAA96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9AB23-5913-492E-A10A-A569A1BF4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24406-051B-48C9-A056-EADA5E0DD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054F8-E026-4B1D-A88F-050A30267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5E36C-3212-4F72-B745-77A3113FE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E43F5-FE1B-4498-8D0C-F48DDE90E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C038C-0DCE-43FC-AC2B-684B9B21D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E825-0F83-45CA-9869-E4A7E981D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D479-3020-4AAA-B097-205A3599D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8CA9-A065-46D1-B84A-868917187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bulary for Unit 1 and 2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057400" y="22860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rietar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Owned by a private individual or corporation such as the colony of Georg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mbl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sembling or coming together of a number of persons, usually for a particular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gislative body, especially  the lower house of the legislature in certain states of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r>
              <a:rPr b="0" i="1" lang="en-US" sz="3200" spc="-1" strike="noStrike">
                <a:solidFill>
                  <a:srgbClr val="000000"/>
                </a:solidFill>
                <a:latin typeface="Arial"/>
              </a:rPr>
              <a:t>a bill before the assembly; the Georgia State Assembl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of Burgess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19112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gislative assembly in the New Wor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in Virgi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wn meet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 in New England that allowed colonists to meet and discuss their laws and government and make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agreement between two or more states in reference to peace, alliance, commerce, or other international rel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eaty of Paris 1763 and the Treaty of Paris 17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na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emn agreement between the members of a church to act together in harmony over an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half way coven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senters</a:t>
            </a:r>
            <a:endParaRPr b="0" lang="en-US" sz="4400" spc="-1" strike="noStrike">
              <a:solidFill>
                <a:srgbClr val="000000"/>
              </a:solidFill>
              <a:latin typeface="Arial"/>
            </a:endParaRPr>
          </a:p>
        </p:txBody>
      </p:sp>
      <p:sp>
        <p:nvSpPr>
          <p:cNvPr id="75" name="PlaceHolder 2"/>
          <p:cNvSpPr>
            <a:spLocks noGrp="1"/>
          </p:cNvSpPr>
          <p:nvPr>
            <p:ph/>
          </p:nvPr>
        </p:nvSpPr>
        <p:spPr>
          <a:xfrm>
            <a:off x="456840" y="1600200"/>
            <a:ext cx="5715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change or purify the Anglican church because they dissented with some of its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t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sts</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separate from the Anglican church such as the Pilgri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glican</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44197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church started by Henry VIII because the Roman catholic church would not allow him to divorce his w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sta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 Catholic</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in Rome , Italy that grew out of the teachings of Jes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e is the h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priest and nuns as religious work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atlantic triangular trad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ng goods and products across the Atlantic between Europe, Africa, and the Americ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ng path looks like a triang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stan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all over the world but that began in Germany with the teachings of Martin Lu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originally as a protest movement against practices of the Roman Catholic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workers are pastors, reverends, deacons, and e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ial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like, or pertaining to an emp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erial competition between England and France in the 7 years war that included the French and Indian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ompeting; rivalry for supremacy, a prize,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mpetition between the British and the Americans during the revolutionary war was bitt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olerab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olerable; unendurable; insuffer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olerable acts placed on Boston by the British after the tea party were terr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jus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572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air, abusive such as the practices outlined in the Declaration of Independence about George III and England towards the colon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lamation</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6095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claim or tell everyone that something is so and will be that way from now on such as the Proclamation of 1763 by the British that told settlers moving west of the Appalachian mountains to move back to the original 13 colonies and leave the western lands to the Native America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ittee</a:t>
            </a:r>
            <a:endParaRPr b="0" lang="en-US" sz="4400" spc="-1" strike="noStrike">
              <a:solidFill>
                <a:srgbClr val="000000"/>
              </a:solidFill>
              <a:latin typeface="Arial"/>
            </a:endParaRPr>
          </a:p>
        </p:txBody>
      </p:sp>
      <p:sp>
        <p:nvSpPr>
          <p:cNvPr id="95" name="PlaceHolder 2"/>
          <p:cNvSpPr>
            <a:spLocks noGrp="1"/>
          </p:cNvSpPr>
          <p:nvPr>
            <p:ph/>
          </p:nvPr>
        </p:nvSpPr>
        <p:spPr>
          <a:xfrm>
            <a:off x="456840" y="1600200"/>
            <a:ext cx="43434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people with a like purpose or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sponde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rrespond or communicate by mail, letter, email, no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acr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unnecessary, indiscriminate killing of a large number of human beings  such as in the Boston Massac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the Constitution, a strong centr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Madison and J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ederalist Pap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antilism</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ory that nations need to become wealthy by earning gold and silver and this is best done by establishing colonies and using their resources to become rich and prosp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 Federalist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a less strong Constitution with a Bill of Rights added , less strong Federal gover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like Thomas Jeff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where the people vote for their representatives who then make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 is a repub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ative </a:t>
            </a:r>
            <a:endParaRPr b="0" lang="en-US" sz="4400" spc="-1" strike="noStrike">
              <a:solidFill>
                <a:srgbClr val="000000"/>
              </a:solidFill>
              <a:latin typeface="Arial"/>
            </a:endParaRPr>
          </a:p>
        </p:txBody>
      </p:sp>
      <p:sp>
        <p:nvSpPr>
          <p:cNvPr id="107" name="PlaceHolder 2"/>
          <p:cNvSpPr>
            <a:spLocks noGrp="1"/>
          </p:cNvSpPr>
          <p:nvPr>
            <p:ph/>
          </p:nvPr>
        </p:nvSpPr>
        <p:spPr>
          <a:xfrm>
            <a:off x="456840" y="1600200"/>
            <a:ext cx="472428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voted into government office by the people who then does their w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egat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designated to act for or represent another or others as a representative such as in a political conven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s sent 55 delegates to the Constitutional Con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deratio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states, more or less permanently but loosely united for a common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cles of Confede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federate states of Ame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itution</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loosely allied states that have more power than their centr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ate and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impeach government offic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s concerning money start in the Ho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icial</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nch of government that interpret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v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enforc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mmander in chie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make war but not declar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veto laws Congress pa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es of governmen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30481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vorable balance of trad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amount of exports going out of a country is larger than the amount of imports coming in</a:t>
            </a:r>
            <a:endParaRPr b="0" lang="en-US" sz="3200" spc="-1" strike="noStrike">
              <a:solidFill>
                <a:srgbClr val="000000"/>
              </a:solidFill>
              <a:latin typeface="Arial"/>
            </a:endParaRPr>
          </a:p>
        </p:txBody>
      </p:sp>
      <p:pic>
        <p:nvPicPr>
          <p:cNvPr id="50" name="" descr=""/>
          <p:cNvPicPr/>
          <p:nvPr/>
        </p:nvPicPr>
        <p:blipFill>
          <a:blip r:embed="rId1"/>
          <a:stretch/>
        </p:blipFill>
        <p:spPr>
          <a:xfrm>
            <a:off x="4191120" y="2733840"/>
            <a:ext cx="4952880" cy="41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the Senate and House of Representati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by the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 of government in which the supreme power is vested in the people and exercised directly by them or by their elected agents under a free elector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ctator</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exercising absolute power, esp. a ruler who has absolute, unrestricted control in a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Contract theory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give up sovereignty or some of their rights to a government in order to receive or maintain order through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n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eting or formal assembly, as of representatives or delegates, for discussion of and action on particular matters of common concer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taining to the nature of a union of states under a central government distinct from the individual governments of the separate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the national or </a:t>
            </a:r>
            <a:r>
              <a:rPr b="0" i="1" lang="en-US" sz="3200" spc="-1" strike="noStrike">
                <a:solidFill>
                  <a:srgbClr val="000000"/>
                </a:solidFill>
                <a:latin typeface="Arial"/>
              </a:rPr>
              <a:t>federal government of the U.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meral</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50292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bodies of government such as Senate and House of represent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ameral</a:t>
            </a:r>
            <a:endParaRPr b="0" lang="en-US" sz="4400" spc="-1" strike="noStrike">
              <a:solidFill>
                <a:srgbClr val="000000"/>
              </a:solidFill>
              <a:latin typeface="Arial"/>
            </a:endParaRPr>
          </a:p>
        </p:txBody>
      </p:sp>
      <p:sp>
        <p:nvSpPr>
          <p:cNvPr id="137" name="PlaceHolder 2"/>
          <p:cNvSpPr>
            <a:spLocks noGrp="1"/>
          </p:cNvSpPr>
          <p:nvPr>
            <p:ph/>
          </p:nvPr>
        </p:nvSpPr>
        <p:spPr>
          <a:xfrm>
            <a:off x="456840" y="1600200"/>
            <a:ext cx="5181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ody of government as was in the Articles of Confe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ate</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pper house of the legislature of certain countries, such as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reme Court</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st court of the 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Passag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952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ddle leg of the transatlantic triangular oceanic trade that exported slaves to the Americas in the colonial era.</a:t>
            </a:r>
            <a:endParaRPr b="0" lang="en-US" sz="3200" spc="-1" strike="noStrike">
              <a:solidFill>
                <a:srgbClr val="000000"/>
              </a:solidFill>
              <a:latin typeface="Arial"/>
            </a:endParaRPr>
          </a:p>
        </p:txBody>
      </p:sp>
      <p:pic>
        <p:nvPicPr>
          <p:cNvPr id="53" name="" descr=""/>
          <p:cNvPicPr/>
          <p:nvPr/>
        </p:nvPicPr>
        <p:blipFill>
          <a:blip r:embed="rId1"/>
          <a:stretch/>
        </p:blipFill>
        <p:spPr>
          <a:xfrm>
            <a:off x="4572000" y="4114800"/>
            <a:ext cx="3848040" cy="2581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mer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 who wrote or framed our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6483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 or Method as in Mode of passing a Bill in congress means how one would pass a b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4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to the Constitution guaranteeing American citizens basic freedoms or rights such as the freedom of religion, press, assembly, du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on of Power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doctrine according to which the legislative, executive, and judicial branches of government are kept distinct in order to prevent abuse of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isory body to the president, consisting of the heads of the 13 executive departments of the fede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r clique within a larger group, party, government, organization, or the like: </a:t>
            </a:r>
            <a:r>
              <a:rPr b="0" i="1" lang="en-US" sz="3200" spc="-1" strike="noStrike">
                <a:solidFill>
                  <a:srgbClr val="000000"/>
                </a:solidFill>
                <a:latin typeface="Arial"/>
              </a:rPr>
              <a:t>a faction in favor of the Executive serving fo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3657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and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vernment by the people, both directly or indirectly, with free and frequent el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resentative democracy</a:t>
            </a:r>
            <a:r>
              <a:rPr b="1" lang="en-US" sz="3200" spc="-1" strike="noStrike">
                <a:solidFill>
                  <a:srgbClr val="000000"/>
                </a:solidFill>
                <a:latin typeface="Arial"/>
              </a:rPr>
              <a:t> </a:t>
            </a:r>
            <a:r>
              <a:rPr b="0" lang="en-US" sz="3200" spc="-1" strike="noStrike">
                <a:solidFill>
                  <a:srgbClr val="000000"/>
                </a:solidFill>
                <a:latin typeface="Arial"/>
              </a:rPr>
              <a:t>in which the  people elect those who govern and pass la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ism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 of arrangements, including checks and balances, federalism, separation of powers, rule of law, due process, and a bill of rights, that requires our leaders to listen, think, bargain, and explain before they act or make laws. We then hold them politically and legally accountable for how they exercise their pow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1148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of people settling in another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ity</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andidate or party that wins more than half the votes cast in an e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ticles of Confeder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irst governing document of the confederated states drafted in 1777, ratified in 1781, and replaced by the present Constitution in 178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rritory</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merican, government an organized political entity not yet enjoying full equal terms of a st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 Convention</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vention in Philadelphia, May 25 to September 17, 1787, that debated and agreed upon the Constitution of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hays’s Rebellion</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bellion led by Daniel Shays of farmers in western Massachusetts in 1786-1787, protesting mortgage foreclosures. It highlighted the need for a strong national government just as the call for the Constitutional Convention went ou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rginia Plan</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itial proposal at the Constitutional Convention made by the Virginia delegation for a strong central government with a bicameral legislature dominated by the big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Jersey Pla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posal at the Constitutional Convention made by William Paterson of New Jersey for a central government with a single-house legislature in which each state would be represented equ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necticut or Great Compromise</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agreement by states at the Constitutional Convention for a bicameral legislature with a lower house in which representation would be based on population and an upper house in which each state would have two senat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between northern and southern states at the Constitutional Convention that three-fifths of the slave population would be counted for determining direct taxation and representation in the House of Representati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orters of ratification of the Constitution and of a strong cent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a group of people go through when they settle in another 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tifederalists</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ponents of ratification of the Constitution and of a strong central government, gener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he Federalist</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Essays promoting ratification of the Constitution, published anonymously by Alexander Hamilton, John Jay, and James Madison in 1787 and 178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paration of power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division of powers among the legislative, executive, and judicial branches, with the legislative branch making law, the executive applying and enforcing the law, and the judiciary interpreting the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to</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formal decision to reject the bill passed by Congr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grant of powers that enables each of the three branches of government to check some acts of the others and therefore ensure that no branch can domin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rbury v. Madison</a:t>
            </a:r>
            <a:endParaRPr b="0" lang="en-US" sz="4400" spc="-1" strike="noStrike">
              <a:solidFill>
                <a:srgbClr val="000000"/>
              </a:solidFill>
              <a:latin typeface="Arial"/>
            </a:endParaRPr>
          </a:p>
        </p:txBody>
      </p:sp>
      <p:sp>
        <p:nvSpPr>
          <p:cNvPr id="193" name="PlaceHolder 2"/>
          <p:cNvSpPr>
            <a:spLocks noGrp="1"/>
          </p:cNvSpPr>
          <p:nvPr>
            <p:ph/>
          </p:nvPr>
        </p:nvSpPr>
        <p:spPr>
          <a:xfrm>
            <a:off x="380880" y="1981080"/>
            <a:ext cx="8229600" cy="4525920"/>
          </a:xfrm>
          <a:prstGeom prst="rect">
            <a:avLst/>
          </a:prstGeom>
          <a:solidFill>
            <a:srgbClr val="ffff00"/>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ndmark case in United States law and the basis for the exercise of judicial review in the United States, under Article Three of the United States Constitu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se resulted from a petition to the Supreme Court by William Marbury, who had been appointed as Justice of the Peace in the District of Columbia by President John Adams shortly before leaving office, but whose commission was not delivered as required by John Marshall, Adams's Secretary of St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omas Jefferson assumed office, he ordered the new Secretary of State, James Madison, to withhold Marbury's and several other men's commissions. Marbury and three others petitioned the Court to force Madison to deliver the commission to Marbu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denied Marbury's petition, holding that the statute upon which he based his claim was unconstitutio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udicial review</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ower of a court to refuse to enforce a law or a government regulation that in the opinion of the judges conflicts with the U.S. Constitution or, in a state court, the stat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eachment </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accusation by the lower house of legislature against a public official, the first step in removal from off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of official advisers to the head of a government; in the United States, it consists of the heads of the major executive departments. “The Constitution does not mention a cabin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arrangement in which power is distributed between a central government and subdivisional governments, called </a:t>
            </a:r>
            <a:r>
              <a:rPr b="0" i="1" lang="en-US" sz="3200" spc="-1" strike="noStrike">
                <a:solidFill>
                  <a:srgbClr val="000000"/>
                </a:solidFill>
                <a:latin typeface="Arial"/>
              </a:rPr>
              <a:t>states</a:t>
            </a:r>
            <a:r>
              <a:rPr b="0" lang="en-US" sz="3200" spc="-1" strike="noStrike">
                <a:solidFill>
                  <a:srgbClr val="000000"/>
                </a:solidFill>
                <a:latin typeface="Arial"/>
              </a:rPr>
              <a:t> in the United States. The national and the subdivisional governments both exercise direct authority over individu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Migration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1148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move from one area to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cessary and proper clause</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of the Constitution (Article 1, Section 8, Clause 3) setting forth the implied powers of Congress. It states that Congress, in addition to its express powers has the right to make all laws necessary and proper to carry out all powers the Constitution vests in the nation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 clause</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lause in the Constitution (Article 1, Section 8, Clause 1) that gives Congress the power to regulate all business activities that cross state lines or affect more than one state or other n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urrent powers</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wers that the Constitution gives to both the national and state governments, such as the power to levy tax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umerated or delegated powers</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powers expressly given to Congress in the Constitu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cessary and proper” clause</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in the Constitution that states that “Congress should have the power to make all laws necessary and proper for carrying into execution the foregoing powers. . . .” This clause is also known as the elastic clause as is a major and significant power of Congress, granting Congress the ability to interpret its lawmaking ability in a broad man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ural rights</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s of all people to dignity and worth; also called</a:t>
            </a:r>
            <a:r>
              <a:rPr b="0" i="1" lang="en-US" sz="3200" spc="-1" strike="noStrike">
                <a:solidFill>
                  <a:srgbClr val="000000"/>
                </a:solidFill>
                <a:latin typeface="Arial"/>
              </a:rPr>
              <a:t> human righ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ular sovereignty</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belief that ultimate power resides in the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graphic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tudy of the characteristics of popu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447920"/>
            <a:ext cx="8229600" cy="4572000"/>
          </a:xfrm>
          <a:prstGeom prst="rect">
            <a:avLst/>
          </a:prstGeom>
          <a:solidFill>
            <a:srgbClr val="ffff00"/>
          </a:solid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THE END</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e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 written grant from the sovereign power of a country such as the king conferring certain rights and privileges on a person, a corporation, or the peop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n example is the Massachusetts charter which </a:t>
            </a:r>
            <a:r>
              <a:rPr b="0" lang="en-US" sz="3200" spc="-1" strike="noStrike">
                <a:solidFill>
                  <a:srgbClr val="000000"/>
                </a:solidFill>
                <a:latin typeface="Arial"/>
              </a:rPr>
              <a:t>exempted the Massachusetts colony from direct interference by the English Cr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15:42:38Z</dcterms:created>
  <dc:creator>LDesaulniers</dc:creator>
  <dc:description/>
  <dc:language>en-US</dc:language>
  <cp:lastModifiedBy>LDesaulniers</cp:lastModifiedBy>
  <dcterms:modified xsi:type="dcterms:W3CDTF">2010-10-27T15:54:06Z</dcterms:modified>
  <cp:revision>9</cp:revision>
  <dc:subject/>
  <dc:title>Slide 1</dc:title>
</cp:coreProperties>
</file>