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9C7-5D00-400E-A3C6-5BAC26BE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C68-CE99-4D90-8D8A-A9D5780F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F1C-C69B-403F-8F2F-73EA90F8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57C-64E5-409C-993F-F8E2FFF5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632-E80D-4335-B5A4-7EF84BC8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388-238F-4CB3-AC54-0F37B06A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3C0-84B9-4818-A2BF-AED3223E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13B-7266-427E-A415-70FCA866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A77-65B0-4BA6-80CA-86D6EFC4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A78-2362-4E88-AF1F-983913E4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5AC-FB57-433D-9081-3AE530C3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0C7-BC93-4821-BB4D-4A98213A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F842-306B-4EF8-A047-CA9D1A85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2647800"/>
            <a:ext cx="1847880" cy="421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3505320" cy="38862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2057400" y="4210200"/>
            <a:ext cx="3305160" cy="264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362320" y="24379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Arial Black"/>
              </a:rPr>
              <a:t>A Parable on Populism”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Farming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rming is the #1 industry in the 187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rought, falling prices, and railroad monopolies place an economic strain on the farmer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191120" y="2057400"/>
            <a:ext cx="4762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National Grange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med in 1867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itant organization of farmers against the railroads and monopoli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rustful of banks and metal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ant to go to greenback currency whose value was controlled by the govern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324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Populist Part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191120" cy="449604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reated in the 1890’s by ex-Greenback Party member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maha Platfor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stablish a paper money system controlled by the government and a 16:1 coin system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un James B. Weaver for President in 1892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rries 4 states (Colorado, Kansas, Idaho, and Nevada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minates William Jennings Bryan along with the Democrats in the election of 1896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143000"/>
            <a:ext cx="4286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6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5638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3300"/>
                </a:solidFill>
                <a:latin typeface="Cooper Black"/>
              </a:rPr>
              <a:t>The Wonderful Wizar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Political and Monetary Allegor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5654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Doroth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aïve, young, and sim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American peopl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he is every man led astray who seeks a way home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3857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Scarecrow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Midwestern farm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rainless, but clever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t the end of the book, he is left in charge of Oz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 probably taken from this 1896 carto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86360" cy="5419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2590920"/>
            <a:ext cx="31845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in Woodsma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267080" cy="4876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industrial worker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 of the East had cursed him so that every time he swung his ax he lost a body par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laced by tin body parts that had rusted to immobil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Depression of 1893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bably taken from this 1899 soap a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3340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3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5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Cowardly Lion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038480" cy="403848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lliam Jennings Brya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ied to run for President 3 times, but faile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liticians were always drawn as lions by 1890’s cartoonist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103640" cy="5333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43400" y="990720"/>
            <a:ext cx="2706840" cy="3319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483408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Tornado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d in 1890’s by cartoonists to represent political upheaval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ilver standard movement that swept the country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029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467480" cy="5672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Kansa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4038480" cy="32004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opulist stronghold in the 1890’s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presents the sad times on a struggling farm in the Midwes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L. Frank Baum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orn in 1856 to a wealthy family in Pennsylvania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88- Moves with wife to South Dakota to open a stor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usiness fails due to bad credit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91- Moves to Chicago to work for the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Evening Pos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900- Along with illustrator W.W. Denslow, writes a “modern fairy tale.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he Wonderful Wizard of Oz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es on to write 13 other novels about the land of Oz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371600"/>
            <a:ext cx="3610080" cy="5181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477120" y="3962520"/>
            <a:ext cx="24256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tche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cked witches represent the supporters of McKinley in the East and the Wes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good witches represent the supporters of Bryan in the North and the South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96440" cy="4389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4876920" cy="438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Yellow Brick Roa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43400" y="1142640"/>
            <a:ext cx="4572000" cy="53341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presents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’s silver slippers represents the silver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journey to the Emerald City (greenbacks) represents how both gold and silver must work together to achieve succes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orothy could have clicked her silver shoes 3 times and gone hom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ryan ran for President 3 tim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900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8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Wiz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sident William McKinl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appears differently to each characte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e makes promises he cannot keep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ought to be all-powerful, but exposed to be a charlatan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10160" y="1371600"/>
            <a:ext cx="3940200" cy="5257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21877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5289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Other Character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unchkins- the ordinary citize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ncle Henry- Henry Wallace, farm magazine editor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Monkeys- The Indians of the Great Pla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oto- The Prohibition movemen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eetotaler”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930840" cy="5105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3440160" cy="4486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" y="1752480"/>
            <a:ext cx="360036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8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3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Land of Oz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42900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z= oun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standard unit of measurement for silver and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Emerald C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reen to represent the paper mone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622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Baum’s Politics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02920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pported William Jennings Bryan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rched in the torchlight parad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rote a poem for William McKinley in 1896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ave a speech to the Democrats against the Republica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e next night gave a speech to the Republicans against the Democrat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at was Baum’s politics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latively unknown!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12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8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and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Movement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Money Supply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038840" cy="4525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total amount of currency (paper and coin) in circulation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933- U.S. went to a fiat-money system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ollar only has value because people give it value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73364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Bi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metallic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nt Act of 1792- the basic monetary system in the U.S. would be gold and silver coin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lver coins- 371.25 grains of pure silv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old coins- 24.75 grains of pure gold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5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34- ratio was raised to 16:1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" descr="1792_cent_obv.jpg (87903 bytes)"/>
          <p:cNvPicPr/>
          <p:nvPr/>
        </p:nvPicPr>
        <p:blipFill>
          <a:blip r:embed="rId1"/>
          <a:stretch/>
        </p:blipFill>
        <p:spPr>
          <a:xfrm>
            <a:off x="30492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9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ffcc00"/>
                </a:solidFill>
                <a:latin typeface="Cooper Black"/>
              </a:rPr>
              <a:t>Gold 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876920"/>
          </a:xfrm>
          <a:prstGeom prst="rect">
            <a:avLst/>
          </a:prstGeom>
          <a:solidFill>
            <a:srgbClr val="ffff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old becomes very plentiful in 1849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inage Act of 1873- Silver taken off the list of coins due to its unpopularity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875- Congress orders all Civil War greenbacks to be redeemed in Gol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merican unofficially goes on the Gold Standard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77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The </a:t>
            </a:r>
            <a:r>
              <a:rPr b="0" lang="en-US" sz="4400" spc="-1" strike="noStrike">
                <a:solidFill>
                  <a:srgbClr val="808080"/>
                </a:solidFill>
                <a:latin typeface="Cooper Black"/>
              </a:rPr>
              <a:t>Silver</a:t>
            </a: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 Standard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80808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70’s- Silver producing states in the West (Nevada, Montana, Idaho) demand a return of silver to circulation at the 16:1 ratio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herman Silver Purchase Act of 1890- Congress purchases silver for coinag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nic of 1893 is blamed on the Gold Standard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pulist Party joins the silver crusad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16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oper Black"/>
              </a:rPr>
              <a:t>Populism in America</a:t>
            </a:r>
            <a:endParaRPr b="0" lang="en-US" sz="4400" spc="-1" strike="noStrike">
              <a:solidFill>
                <a:srgbClr val="cc3300"/>
              </a:solidFill>
              <a:latin typeface="Cooper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2:01:43Z</dcterms:created>
  <dc:creator>George Maruska</dc:creator>
  <dc:description/>
  <dc:language>en-US</dc:language>
  <cp:lastModifiedBy>LDesaulniers</cp:lastModifiedBy>
  <dcterms:modified xsi:type="dcterms:W3CDTF">2008-05-19T17:27:34Z</dcterms:modified>
  <cp:revision>10</cp:revision>
  <dc:subject/>
  <dc:title>The Wizard of Oz</dc:title>
</cp:coreProperties>
</file>