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41D7-7B4D-4308-B1F1-FFFD20B3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7800-FE90-4690-92C4-F8641288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B58-FC22-4FB2-A0CC-439B97F0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345-13A9-4C5D-A6DC-483441CA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B6B-BC3B-48E9-A19C-C3CFAECB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AA84-8455-42CB-A26B-A70AD25B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EAE-966F-4C8F-9F45-2A5DCC62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928-B9E3-47B6-B389-59AB7044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F6E-4048-41B1-B51C-9482B35D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F00-F2F6-4509-84FF-65A19DC8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A11-F36F-42CA-A3EB-AC006A54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6489-EC55-40E3-96E8-8839D9B4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A069-D539-4C39-B4A1-23546EF78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2647800"/>
            <a:ext cx="1847880" cy="4210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638680" y="2971800"/>
            <a:ext cx="3505320" cy="38862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2057400" y="4210200"/>
            <a:ext cx="3305160" cy="26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Wizard of Oz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362320" y="243792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A Parable on Populism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Farming in America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038840" cy="4525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arming is the #1 industry in the 1870’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ought, falling prices, and railroad monopolies place an economic strain on the farmer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191120" y="2057400"/>
            <a:ext cx="4762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4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National Grange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rmed in 1867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litant organization of farmers against the railroads and monopoli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strustful of banks and metal coi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ant to go to greenback currency whose value was controlled by the governme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3243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Populist Party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191120" cy="449604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reated in the 1890’s by ex-Greenback Party member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maha Platform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stablish a paper money system controlled by the government and a 16:1 coin system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un James B. Weaver for President in 1892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arries 4 states (Colorado, Kansas, Idaho, and Nevada.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minates William Jennings Bryan along with the Democrats in the election of 1896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4286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4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4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638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Cooper Black"/>
              </a:rPr>
              <a:t>The Wonderful Wizard of Oz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Political and Monetary Allego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565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Dorothy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7335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aïve, young, and simpl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American peopl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he is every man led astray who seeks a way hom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8577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Scarecrow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876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Midwestern farme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ainless, but cleve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t the end of the book, he is left in charge of Oz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dea probably taken from this 1896 cartoon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086360" cy="5419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47920" y="2590920"/>
            <a:ext cx="318456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Tin Woodsman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523520"/>
            <a:ext cx="4267080" cy="4876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presents the industrial worker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Wicked Witch of the East had cursed him so that every time he swung his ax he lost a body par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placed by tin body parts that had rusted to immobilit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Depression of 1893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bably taken from this 1899 soap a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3340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Cowardly Lion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038480" cy="403848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illiam Jennings Brya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ied to run for President 3 times, but faile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oliticians were always drawn as lions by 1890’s cartoonist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4103640" cy="5333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343400" y="990720"/>
            <a:ext cx="2706840" cy="3319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14800" y="3581280"/>
            <a:ext cx="483408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Tornado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d in 1890’s by cartoonists to represent political upheaval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silver standard movement that swept the country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029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3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467480" cy="5672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Kansa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4038480" cy="320040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opulist stronghold in the 1890’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sad times on a struggling farm in the Midwest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8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L. Frank Baum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orn in 1856 to a wealthy family in Pennsylvania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88- Moves with wife to South Dakota to open a stor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usiness fails due to bad credit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91- Moves to Chicago to work for the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Evening Post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900- Along with illustrator W.W. Denslow, writes a “modern fairy tale.”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he Wonderful Wizard of Oz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es on to write 13 other novels about the land of Oz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3610080" cy="5181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477120" y="3962520"/>
            <a:ext cx="24256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Witche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wicked witches represent the supporters of McKinley in the East and the Wes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good witches represent the supporters of Bryan in the North and the South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696440" cy="4389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57400" y="2209680"/>
            <a:ext cx="4876920" cy="4389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8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9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Yellow Brick Roa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43400" y="1142640"/>
            <a:ext cx="4572000" cy="53341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presents the Gold Standar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rothy’s silver slippers represents the silver standar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journey to the Emerald City (greenbacks) represents how both gold and silver must work together to achieve succes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rothy could have clicked her silver shoes 3 times and gone hom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ryan ran for President 3 tim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900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Wiz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sident William McKinle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appears differently to each characte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makes promises he cannot keep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ought to be all-powerful, but exposed to be a charlata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10160" y="1371600"/>
            <a:ext cx="3940200" cy="5257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21877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5289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Other Character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Munchkins- the ordinary citize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ncle Henry- Henry Wallace, farm magazine edito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Monkeys- The Indians of the Great Plai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to- The Prohibition moveme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etotaler”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3930840" cy="5105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3440160" cy="4486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" y="1752480"/>
            <a:ext cx="360036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0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Land of Oz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42900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z= oun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standard unit of measurement for silver and gol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Emerald C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reen to represent the paper mone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622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Baum’s Politic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502920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pported William Jennings Bryan in 1896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ched in the torchlight parad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rote a poem for William McKinley in 1896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ave a speech to the Democrats against the Republica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next night gave a speech to the Republicans against the Democrat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was Baum’s politics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latively unknown!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27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ffcc00"/>
                </a:solidFill>
                <a:latin typeface="Cooper Black"/>
              </a:rPr>
              <a:t>Gold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and </a:t>
            </a:r>
            <a:r>
              <a:rPr b="0" lang="en-US" sz="4400" spc="-1" strike="noStrike">
                <a:solidFill>
                  <a:srgbClr val="808080"/>
                </a:solidFill>
                <a:latin typeface="Cooper Black"/>
              </a:rPr>
              <a:t>Silver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Movement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Money Supply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038840" cy="4525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total amount of currency (paper and coin) in circulation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933- U.S. went to a fiat-money system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dollar only has value because people give it valu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191120" y="1828800"/>
            <a:ext cx="473364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ffcc00"/>
                </a:solidFill>
                <a:latin typeface="Cooper Black"/>
              </a:rPr>
              <a:t>Bi</a:t>
            </a:r>
            <a:r>
              <a:rPr b="0" lang="en-US" sz="4400" spc="-1" strike="noStrike">
                <a:solidFill>
                  <a:srgbClr val="808080"/>
                </a:solidFill>
                <a:latin typeface="Cooper Black"/>
              </a:rPr>
              <a:t>metallic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Stand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nt Act of 1792- the basic monetary system in the U.S. would be gold and silver coi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lver coins- 371.25 grains of pure silv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ld coins- 24.75 grains of pure gold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5:1 rati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834- ratio was raised to 16:1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" descr="1792_cent_obv.jpg (87903 bytes)"/>
          <p:cNvPicPr/>
          <p:nvPr/>
        </p:nvPicPr>
        <p:blipFill>
          <a:blip r:embed="rId1"/>
          <a:stretch/>
        </p:blipFill>
        <p:spPr>
          <a:xfrm>
            <a:off x="304920" y="18288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ffcc00"/>
                </a:solidFill>
                <a:latin typeface="Cooper Black"/>
              </a:rPr>
              <a:t>Gold 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Stand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4876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ld becomes very plentiful in 1849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inage Act of 1873- Silver taken off the list of coins due to its unpopularit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875- Congress orders all Civil War greenbacks to be redeemed in Gol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merican unofficially goes on the Gold Standar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8620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808080"/>
                </a:solidFill>
                <a:latin typeface="Cooper Black"/>
              </a:rPr>
              <a:t>Silver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Stand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70’s- Silver producing states in the West (Nevada, Montana, Idaho) demand a return of silver to circulation at the 16:1 rati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herman Silver Purchase Act of 1890- Congress purchases silver for coinag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anic of 1893 is blamed on the Gold Standard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ulist Party joins the silver crusad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4162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Populism in America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02:01:43Z</dcterms:created>
  <dc:creator>George Maruska</dc:creator>
  <dc:description/>
  <dc:language>en-US</dc:language>
  <cp:lastModifiedBy>LDesaulniers</cp:lastModifiedBy>
  <dcterms:modified xsi:type="dcterms:W3CDTF">2008-05-19T17:27:34Z</dcterms:modified>
  <cp:revision>10</cp:revision>
  <dc:subject/>
  <dc:title>The Wizard of Oz</dc:title>
</cp:coreProperties>
</file>