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0B6-9C3B-450D-B588-C542AFA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4DC-E93A-472F-ABFE-034950D4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7F0-B4B7-4ED7-8D91-3C551634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B86-7023-4C69-8D26-7B474CE4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D88-E8AD-426E-9146-32825E7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D93-8820-43FB-B3B8-A55328C6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A2B-8BA7-4231-80B4-0FBF7C34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790-F454-4B69-93DE-86E94EAC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CC1-0DB1-45DD-8E33-E4A4204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B82-5C95-4077-9609-D1954B4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FCF-83D0-486C-BA5A-76C5C3D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4C6-DA81-4D4E-B2F3-FAB3A09C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AC08-4A0B-4047-A38B-12CFEA11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647800"/>
            <a:ext cx="1847880" cy="421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057400" y="4210200"/>
            <a:ext cx="3305160" cy="26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 Parable on Populism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Farming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rming is the #1 industry in the 187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ought, falling prices, and railroad monopolies place an economic strain on the farmer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National Grange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ed in 1867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tant organization of farmers against the railroads and monopoli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rustful of banks and metal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nt to go to greenback currency whose value was controlled by the govern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Populist Part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4960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eated in the 1890’s by ex-Greenback Party membe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maha Platfor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stablish a paper money system controlled by the government and a 16:1 coin syst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n James B. Weaver for President in 1892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ries 4 states (Colorado, Kansas, Idaho, and Nevada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minates William Jennings Bryan along with the Democrats in the election of 18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286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oper Black"/>
              </a:rPr>
              <a:t>The Wonderful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olitical and Monetary Alleg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6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Doroth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ïve, young, and sim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American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is every man led astray who seeks a way ho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57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Scarecrow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Midwestern farm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inless, but clev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 the end of the book, he is left in charge of Oz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 probably taken from this 1896 carto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86360" cy="541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3184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in Woodsma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industrial worker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 of the East had cursed him so that every time he swung his ax he lost a body pa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laced by tin body parts that had rusted to immobil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Depression of 1893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bably taken from this 1899 soap 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3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Cowardly Lio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0384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lliam Jennings Bry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ed to run for President 3 times, but faile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liticians were always drawn as lions by 1890’s cartoonis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03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2706840" cy="33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834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ornado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in 1890’s by cartoonists to represent political upheav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ilver standard movement that swept the count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029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67480" cy="567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Kansa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4038480" cy="32004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ist stronghold in the 189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ad times on a struggling farm in the Midwes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L. Frank Baum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n in 1856 to a wealthy family in Pennsylva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88- Moves with wife to South Dakota to open a stor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usiness fails due to bad credit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91- Moves to Chicago to work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ning Pos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900- Along with illustrator W.W. Denslow, writes a “modern fairy tale.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he Wonderful Wizard of Oz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es on to write 13 other novels about the land of Oz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10080" cy="51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256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tche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es represent the supporters of McKinley in the East and the Wes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good witches represent the supporters of Bryan in the North and the South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438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876920" cy="438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Yellow Brick Roa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400" y="1142640"/>
            <a:ext cx="4572000" cy="53341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’s silver slippers represents the silver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journey to the Emerald City (greenbacks) represents how both gold and silver must work together to achieve succes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 could have clicked her silver shoes 3 times and gone hom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ryan ran for President 3 tim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00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ident William McKinl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appears differently to each charact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makes promises he cannot keep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ought to be all-powerful, but exposed to be a charlata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10160" y="1371600"/>
            <a:ext cx="3940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187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28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Other Character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unchkins- the ordinary citize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cle Henry- Henry Wallace, farm magazine edit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onkeys- The Indians of the Great Pla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o- The Prohibition move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etotal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30840" cy="5105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440160" cy="448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600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7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Lan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z= ou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unit of measurement for silver and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merald C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een to represent the paper mon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2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7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Baum’s Politic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029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ed William Jennings Bryan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ched in the torchlight par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ote a poem for William McKinley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ve a speech to the Democrats against the Republica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next night gave a speech to the Republicans against the Democra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as Baum’s politic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atively unknown!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2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and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Movemen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Money Suppl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total amount of currency (paper and coin) in circ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33- U.S. went to a fiat-money syst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ollar only has value because people give it valu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33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Bi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metallic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t Act of 1792- the basic monetary system in the U.S. would be gold and silver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lver coins- 371.25 grains of pure sil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ld coins- 24.75 grains of pure gol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34- ratio was raised to 16:1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1792_cent_obv.jpg (87903 bytes)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 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 becomes very plentiful in 1849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inage Act of 1873- Silver taken off the list of coins due to its unpopular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75- Congress orders all Civil War greenbacks to be redeemed in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erican unofficially goes on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70’s- Silver producing states in the West (Nevada, Montana, Idaho) demand a return of silver to circulation at the 16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erman Silver Purchase Act of 1890- Congress purchases silver for coina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nic of 1893 is blamed on the Gold Standar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ulist Party joins the silver crusad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6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Populism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2:01:43Z</dcterms:created>
  <dc:creator>George Maruska</dc:creator>
  <dc:description/>
  <dc:language>en-US</dc:language>
  <cp:lastModifiedBy>LDesaulniers</cp:lastModifiedBy>
  <dcterms:modified xsi:type="dcterms:W3CDTF">2008-05-19T17:27:34Z</dcterms:modified>
  <cp:revision>10</cp:revision>
  <dc:subject/>
  <dc:title>The Wizard of Oz</dc:title>
</cp:coreProperties>
</file>