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BD1-2725-4160-B94A-A52CAB1F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325-38AB-47F6-937F-3AE24B23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274-68C5-4583-9154-7AFB5D77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40E-A44B-43E8-9D85-90C94986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7FA-A2D1-4FA0-AEE8-94DF4DE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C71-C541-41C6-8F60-8AB9183A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460-1884-4300-84A3-97088290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36A-BEAE-443D-A13A-AE24E7B3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B2D-7C01-4E7F-87F3-48FF4E01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BCB-63D7-4A48-AA33-2BF74A24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833-1659-402D-BBD5-EAEA8F14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E646-E809-44F1-9612-1CAC0110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BAC-ED5E-4981-A2D1-9EF2C673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has this ppt review on it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issdworldofsocialstudie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ldesaulniers</cp:lastModifiedBy>
  <dcterms:modified xsi:type="dcterms:W3CDTF">2009-12-15T12:39:31Z</dcterms:modified>
  <cp:revision>4</cp:revision>
  <dc:subject/>
  <dc:title>Review for Colonial Era-1600’s </dc:title>
</cp:coreProperties>
</file>