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BFE8-FBBA-4039-ABB2-8FBC45ED3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B7A9-9DAC-4FE7-AF94-B39201244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C1E3-17C4-4F97-A195-AB83F9D07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5E81-9E38-47D6-87B3-05D0A4499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8C40-E19E-4F36-8AF0-1C509CD8E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8F39-D223-4BC9-8D61-D07386FD2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D04B-764D-4E77-866F-B9E2D3460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7CC9-93A7-4D3A-B115-B11B0288F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19FD-7E91-4482-B8CE-F98970CCB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B2B0-BE9A-4133-9653-274CD3829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65B1-D61B-4BF6-94DA-4B1B84B3C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ACA4-1B55-412D-BF03-9DF0B3540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36F89-70EE-42BC-9BF2-F4B27DAE0F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content.answers.com/main/content/wp/en/d/d3/Triangle_trade.png" TargetMode="External"/><Relationship Id="rId2" Type="http://schemas.openxmlformats.org/officeDocument/2006/relationships/image" Target="../media/image1.png"/><Relationship Id="rId3" Type="http://schemas.openxmlformats.org/officeDocument/2006/relationships/hyperlink" Target="http://upload.wikimedia.org/wikipedia/en/2/20/Am_I_not_a_man.jpg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view for Colonial Era-1600’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04920" y="2895120"/>
            <a:ext cx="85341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andards 1, 2, 4: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iki has this ppt review on it 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missdworldofsocialstudies.wikispaces.com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23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English seized this island at the base of the Hudson River’s mouth and called i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3123720"/>
            <a:ext cx="8229600" cy="30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New York City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9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dian tribal chief  who gave the Jamestown colonists food and helped them survive was call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3657240"/>
            <a:ext cx="8229600" cy="24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Arial"/>
              </a:rPr>
              <a:t>Powhatan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Puritans were called Dissenters because the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isagreed with the Anglican Church and wanted to purify i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9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breadbasket of the colonies i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New York and Philadelphia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ntesquieu and Locke influenced what  American docu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eclaration of Independenc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onstitu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4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7" dur="2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onathan Edwards and George Whitefiel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eached the Great Awakening, a series of revivals, in the Colonial Er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y told people they had freedom to chose whether to serve God or not and therefore could chose their future and afterlif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Americas, Africa, Englan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points of the Triangular tra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00200" y="2362320"/>
            <a:ext cx="5943600" cy="43383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 rot="1716600">
            <a:off x="1524240" y="3962160"/>
            <a:ext cx="125532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lon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rot="19882800">
            <a:off x="6097680" y="3048120"/>
            <a:ext cx="105696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412240" y="6248520"/>
            <a:ext cx="10447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File:Am I not a ma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505320" y="5181480"/>
            <a:ext cx="7030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2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amples of a Proprietary Colon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sylvania / Philadelph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amples of a royal colon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Jamestow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oint stock compa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inanced the settlement at Jamestow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9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immigrants who were blown off course by a storm and landed in Plymouth were called the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3580920"/>
            <a:ext cx="8153280" cy="25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Pilgrim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bac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ade the fortunes of Jamestown settler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2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rst elected legislative assembly in the New Worl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House of Burgesse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9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amples of religious colon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Massachusetts Bay Colon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Marylan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6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1" dur="2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ouse of Burgesses is known for what and wher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n Virgini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irst locally elected legislative assembly in North Americ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8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1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iddle Passag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g of the Triangular trade that carried slaves from Africa to the coloni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eter Stuyvesan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Dutch Governor of the colony of New Netherlands when the English came to take it ov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w Amsterdam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main city of the Dutch colony of New Netherland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cated on the island of Manhatt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ter called New York c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4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7" dur="2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0" dur="2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rst permanent English settl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Jamestow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rcantilism wants wha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esources like timber and tobacco from the coloni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ffer colon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Arial"/>
              </a:rPr>
              <a:t>Georgia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3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Colony established by Roger Williams and Anne Hutchinson  for reasons of religious freedom wa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3200040"/>
            <a:ext cx="8229600" cy="29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Rhode Island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athaniel Bac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d revolt against Jamestown because as a newly freed indentured servant he wanted more land and specifically Indian la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lmost burnt down Jamestown but then his bacon got fri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1" dur="2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4" dur="2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yflower compact established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irst step towards democracy and representative government in the New Worl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y did the English colonists begin to use sla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fter Bacon’s Rebellion, no longer trusted indentured servant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9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was preached in the Great Awakenin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Whitefield and Edward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6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bot did wha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xplored North America for England and gave her a claim her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3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espucci did wha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Gave his name to Americ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0" dur="2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Holy Experiment is wha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Quaker colony of Philadelphi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 called because the Quakers wanted to try  to live in peace  with all peo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7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0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roup that settled Maryland and wh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English Roman Catholics running from religious persecution in Englan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7" dur="2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roup that settled Pennsylvani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English Quakers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4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utch colony in North Americ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New Netherlands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1" dur="2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274320"/>
            <a:ext cx="8153280" cy="24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man who “saved” Jamestown from extinction  by saying only those who worked could eat w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120" y="3276360"/>
            <a:ext cx="8077320" cy="28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John Smith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y did England want colonie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 gain wealt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e more 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ategic defense in times of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ablish themselves as an empi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8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1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4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7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ohn Locke influenced what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The Declaration of Independenc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ree ways that democracy grew in colon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House of Burgess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ayflower compac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own meeting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2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5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8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wo steps toward representative government  in colon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yflower Compact and House of Burge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o limited colonies’ trade with other nations and why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mother country because she was not into sharing any of that wealth with another country or letting another country become rich with her colon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reat Awakening was led/preached by wh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dwards and Whitefiel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0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ere did the Puritans sett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Massachusetts Bay Colony in New Englan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2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lony Built on Smo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Jamestow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en Franklin did wha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nted swim fins, bifoc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mented with electri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lished books, advice  column, articles and news and a almana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 a diplo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2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7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2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7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3520" y="274320"/>
            <a:ext cx="8153280" cy="25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area had more peaceful relations with Native Americans and wh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3429000"/>
            <a:ext cx="8229600" cy="26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bec because they were not after land and instead trapped for furs which were seen as an eternal re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4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274680"/>
            <a:ext cx="8153280" cy="22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theory that if a country’s wealth increased, all other country’s wealth decreased was calle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3276360"/>
            <a:ext cx="8229600" cy="28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Mercantilism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ow did the Great awakening affect the 13 colonie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d people to realize that they had a choice in their religion and therefore their politics, government, economics, and rul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1" dur="2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lorida belonged to what country in the 1600’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Spai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8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lonial symbol of the ideal man and wh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en Franklin because he worked his way from very poor to rich, did well in so many areas, was wise and hard working, had a sense of humor, and treated people equal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5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lony based on search for gol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Jamestown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 what year was Jamestown settle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9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1607 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0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year did the Pilgrims land in Cape Co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1620 which is in the 17th centur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7" dur="2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ntesquieu believed in what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eparation of powers in a government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illiam Penn did what and is what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ettled Philadelphia, one of the 13 colonies,  and was a Quak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2" dur="2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akers belief involves wh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Do not go to wa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Do not use weapons against peop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Do not allow slave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9" dur="2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2" dur="2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5" dur="2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hiladelphia was created by whom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William Penn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274680"/>
            <a:ext cx="815328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war between the Native Americans and the Puritans was calle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3352680"/>
            <a:ext cx="8229600" cy="27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King Philip’s War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did the belief in mercantilism limit in the colonie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ree trade with other countries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0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w Netherland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ame of colony founded by the Dutch East India company in the New Worl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7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Know Location of 13 colonies on a ma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paratists are who? And what do they want to d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ilgrims because they wanted to separate from the Anglican churc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4" dur="2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wn meetings are one of the steps towards what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Democracy and representative governmen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51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rst British colony that fails because it disappeared without a tr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80880" y="2590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Roanoke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8" dur="2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ssenters are who? And what do they want to d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uritans who disagree with the Anglican church and want to purify i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5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portion of the triangular trade brought slaves to Amer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he Middle Passage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2" dur="2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 result of King Philip’s wa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eginning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of an American identity among the colonis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olonists no longer think of themselves as English but as the colonis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79" dur="2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82" dur="20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3520" y="274320"/>
            <a:ext cx="8153280" cy="29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tems did the Columbian exchange bring to the colonies that positively affected the colonist’s survival in the New World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3809880"/>
            <a:ext cx="822960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Horse, pig , honey bees, earth worms, apples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9" dur="20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1920" y="274680"/>
            <a:ext cx="853452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portion of the triangular trade that brought slaves to the New World was called th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3429000"/>
            <a:ext cx="8229600" cy="26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iddle Passag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s New England noted for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or so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p buil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is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ll farms and busi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men taught to read and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6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1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6" dur="5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1" dur="50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6" dur="500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1" dur="500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6" dur="500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are the Southern colonies noted for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r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w fa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mal water p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sl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3" dur="20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8" dur="20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3" dur="20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8" dur="20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3" dur="20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4560" y="274680"/>
            <a:ext cx="8381880" cy="36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en Massachusetts lost its charter to be a colony, a governor (Andros) was appointed by the King but he did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wha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hich resulted in his running away on  a ship back to England before he was killed by the colonis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477000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 stopped town meetings and assembl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4" dur="indefinite" restart="never" nodeType="tmRoot">
          <p:childTnLst>
            <p:seq>
              <p:cTn id="655" dur="indefinite" nodeType="mainSeq">
                <p:childTnLst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0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alf way covenant is about what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uritans trying to allow people to remain in the church while not following all of the church r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7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fur trade in Quebec led to what kind of relationship with the Native American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2590920"/>
            <a:ext cx="8229600" cy="35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 more peaceful one then the 13 colonies ha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4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ohn Locke advocated what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l people are equal and independent and have a right to life, liberty, property . In some cases, where people’s rights are being abused, revolution is a right als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1" dur="20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o wrote the Declaration of Independenc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8229600" cy="36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homas Jeffers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8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 mercantilism how is wealth measured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Gold and Silver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5" dur="20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458200" cy="23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dian who gave the Pilgrims food and helped them survive was call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3276360"/>
            <a:ext cx="8229600" cy="28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Squanto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02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o did Quebec belong to in the 17th century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New France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9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w York city  was once calle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New Amsterdam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9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o was King Philip? And what did he d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2296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ative American Leader (Metacom) in New England who made a last stand against the White man but did not win the war named after hi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6" dur="20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alem, Mass is noted for what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Salem witch trial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Puritans established what colon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Massachusetts Bay Colony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8T00:22:08Z</dcterms:created>
  <dc:creator>default</dc:creator>
  <dc:description/>
  <dc:language>en-US</dc:language>
  <cp:lastModifiedBy>ldesaulniers</cp:lastModifiedBy>
  <dcterms:modified xsi:type="dcterms:W3CDTF">2009-12-15T12:39:31Z</dcterms:modified>
  <cp:revision>4</cp:revision>
  <dc:subject/>
  <dc:title>Review for Colonial Era-1600’s </dc:title>
</cp:coreProperties>
</file>