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FF8-1636-4215-9BC9-FDA16CE2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19A-39A5-4BE1-8368-3597AF2A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59A1-55C8-4CE2-A4FD-0B582914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A9C-D908-4A00-8C13-4B5524AD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29A-ED38-45AA-AFC1-6BC0FFB6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A11-7FCA-49EB-AA3C-427D0FE7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00C-A180-4ACC-AEE1-F93FA89B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791-5B0C-4C39-BCC6-9E6DA524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6BF-D227-4613-8C56-C078C248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E11-B523-4C77-AA2A-34F17824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B90-E72E-4F0B-8110-704EEB10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87E-A875-431D-A3C7-281C59BD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7034-0786-43DA-9378-23D9AEE59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ntent.answers.com/main/content/wp/en/d/d3/Triangle_trade.pn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upload.wikimedia.org/wikipedia/en/2/20/Am_I_not_a_man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for Colonial Era-160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s 1, 2, 4: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ki has this ppt review on it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issdworldofsocialstudies.wikispac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nglish seized this island at the base of the Hudson River’s mouth and called 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tribal chief  who gave the Jamestown colonist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Powhata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uritans were called Dissenters because th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agreed with the Anglican Church and wanted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breadbasket of the colonies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New York and Philadelph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esquieu and Locke influenced what  American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laration of Indepen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nathan Edwards and George Whitefie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ached the Great Awakening, a series of revivals, in the Colonial E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told people they had freedom to chose whether to serve God or not and therefore could chose their future and after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mericas, Africa, Eng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oints of the Triangular t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362320"/>
            <a:ext cx="5943600" cy="433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1716600">
            <a:off x="1524240" y="3962160"/>
            <a:ext cx="1255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882800">
            <a:off x="6097680" y="3048120"/>
            <a:ext cx="1056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2240" y="6248520"/>
            <a:ext cx="1044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File:Am I not a ma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5181480"/>
            <a:ext cx="703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a Proprietary 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sylvania / Philadelp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a royal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stock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anced the settlement at Jamest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mmigrants who were blown off course by a storm and landed in Plymouth were called th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ilgri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 the fortunes of Jamestown settl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elected legislative assembly in the New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religious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use of Burgesses is known for what and w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Virgi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locally elected legislative assembly in North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dle Pa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g of the Triangular trade that carried slaves from Africa to the colon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ter Stuyves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tch Governor of the colony of New Netherlands when the English came to take it o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Amsterd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city of the Dutch colony of 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d on the island of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 called New York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permanent English sett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cantilism want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s like timber and tobacco from the colon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ffer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lony established by Roger Williams and Anne Hutchinson  for reasons of religious freedom w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haniel Ba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revolt against Jamestown because as a newly freed indentured servant he wanted more land and specifically Indian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most burnt down Jamestown but then his bacon got f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flower compact establish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step towards democracy and representative government in the New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did the English colonists begin to use s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fter Bacon’s Rebellion, no longer trusted indentured serv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as preached in the Great Awake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itefield and Edw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bot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plored North America for England and gave her a claim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spucci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ave his name to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oly Experiment i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Quaker colony of Philadelp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called because the Quakers wanted to try  to live in peace  with all peo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that settled Maryland and w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 Roman Catholics running from religious persecution in Eng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that settled Pennsylv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nglish Quaker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tch colony in North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n who “saved” Jamestown from extinction  by saying only those who worked could eat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80773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did England want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ain weal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mor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defense in tim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blish themselves as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hn Locke influenc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Declaration of Independ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ways that democracy grew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wn meet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eps toward representative government 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 and House of Burg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limited colonies’ trade with other nations and wh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ther country because she was not into sharing any of that wealth with another country or letting another country become rich with h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at Awakening was led/preached by w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dwards and Whitefie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did the Puritans set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 in New Eng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y Built on Sm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n Franklin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swim fins, bifo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ed with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books, advice  column, articles and news and a alma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dipl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a had more peaceful relations with Native Americans and w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because they were not after land and instead trapped for furs which were seen as an eternal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heory that if a country’s wealth increased, all other country’s wealth decreased was cal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id the Great awakening affect the 13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people to realize that they had a choice in their religion and therefore their politics, government, economics, and ru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rida belonged to what country in the 1600’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ial symbol of the ideal man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 Franklin because he worked his way from very poor to rich, did well in so many areas, was wise and hard working, had a sense of humor, and treated people equ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y based on search for g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what year was Jamestown sett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1607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year did the Pilgrims land in Cape C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20 which is in the 17th centu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esquieu believ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paration of powers in a govern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iam Penn did what and i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ttled Philadelphia, one of the 13 colonies,  and was a Qu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kers belief involves 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go to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use weapons against 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allow sla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iladelphia was created by wh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illiam Pen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war between the Native Americans and the Puritans was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King Philip’s W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id the belief in mercantilism limit in the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ee trade with other countri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ame of colony founded by the Dutch East India company in the New Wor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Location of 13 colonies on a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ists are who? And what do they want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ilgrims because they wanted to separate from the Anglican chu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wn meetings are one of the steps toward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mocracy and representative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British colony that fails because it disappeared without a t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oanoke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senters are who? And what do they want to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ritans who disagree with the Anglican church and want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portion of the triangular trade brought slaves to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Middle Passa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result of King Philip’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an American identity among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lonists no longer think of themselves as English but as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tems did the Columbian exchange bring to the colonies that positively affected the colonist’s survival in the New Wor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rse, pig , honey bees, earth worms, apples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ortion of the triangular trade that brought slaves to the New World was called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le Pa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New England noted fo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arms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taught to read and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the Southern colonies noted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fa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wate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Massachusetts lost its charter to be a colony, a governor (Andros) was appointed by the King but he di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ich resulted in his running away on  a ship back to England before he was killed by the coloni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4770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stopped town meetings and assemb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lf way covenant is about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ritans trying to allow people to remain in the church while not following all of the church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ur trade in Quebec led to what kind of relationship with the Native America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ore peaceful one then the 13 colonies h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hn Locke advocat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people are equal and independent and have a right to life, liberty, property . In some cases, where people’s rights are being abused, revolution is a right als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wrote the Declaration of Independ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mercantilism how is wealth measur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old and Silv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who gave the Pilgrim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qua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did Quebec belong to in the 17th centu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Fr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York city  was once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Amsterda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was King Philip? And what did he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ve American Leader (Metacom) in New England who made a last stand against the White man but did not win the war named after h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m, Mass is noted for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uritans established what colo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0:22:08Z</dcterms:created>
  <dc:creator>default</dc:creator>
  <dc:description/>
  <dc:language>en-US</dc:language>
  <cp:lastModifiedBy>ldesaulniers</cp:lastModifiedBy>
  <dcterms:modified xsi:type="dcterms:W3CDTF">2009-12-15T12:39:31Z</dcterms:modified>
  <cp:revision>4</cp:revision>
  <dc:subject/>
  <dc:title>Review for Colonial Era-1600’s </dc:title>
</cp:coreProperties>
</file>