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383E-EC49-473D-BCE3-B059D18C8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5E3A-2C4F-4C60-B3FD-542C842D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A340-D53E-45D5-AF5F-C49C0D26C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6751-3C68-4390-B46D-72370910B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37C4-630F-4B0B-AB0A-61397F4A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F58A-E6D9-4E84-90EB-16A8DAF2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08E1-544A-4E27-B7A2-1905925E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4840-F63D-4461-8D43-776AE1A8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5EB9-EE10-426B-BFCB-63FEADC6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2430-6DD9-4D93-A88F-ABFD311E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F472-181D-49D9-B371-8ED4F9E8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74AD-9C4C-41BD-B8A9-B0FEED97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3C5A-C750-4659-8198-1E8A0AE97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ontent.answers.com/main/content/wp/en/d/d3/Triangle_trade.png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upload.wikimedia.org/wikipedia/en/2/20/Am_I_not_a_man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ew for Colonial Era-1600’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2895120"/>
            <a:ext cx="8534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ndards 1, 2, 4: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ki has this ppt review on it 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missdworldofsocialstudies.wikispaces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English seized this island at the base of the Hudson River’s mouth and called i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New York Cit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an tribal chief  who gave the Jamestown colonists food and helped them survive was cal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365724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Powhatan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Puritans were called Dissenters because the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isagreed with the Anglican Church and wanted to purify 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breadbasket of the colonies i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New York and Philadelphi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ntesquieu and Locke influenced what  American docu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claration of Independ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nstitu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nathan Edwards and George Whitefiel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ached the Great Awakening, a series of revivals, in the Colonial Er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y told people they had freedom to chose whether to serve God or not and therefore could chose their future and after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mericas, Africa, Engla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points of the Triangular tra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2362320"/>
            <a:ext cx="5943600" cy="4338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rot="1716600">
            <a:off x="1524240" y="3962160"/>
            <a:ext cx="12553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o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9882800">
            <a:off x="6097680" y="3048120"/>
            <a:ext cx="10569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12240" y="6248520"/>
            <a:ext cx="1044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File:Am I not a man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05320" y="5181480"/>
            <a:ext cx="7030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s of a Proprietary Colo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sylvania / Philadelph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s of a royal colon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Jamestow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int stock compa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inanced the settlement at Jamestow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immigrants who were blown off course by a storm and landed in Plymouth were called the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3580920"/>
            <a:ext cx="815328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Pilgrim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bac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de the fortunes of Jamestown settle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rst elected legislative assembly in the New Wor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House of Burgess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s of religious colon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ssachusetts Bay Colo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ryl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6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use of Burgesses is known for what and w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 Virgin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rst locally elected legislative assembly in North Amer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ddle Passag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g of the Triangular trade that carried slaves from Africa to the colon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ter Stuyvesa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utch Governor of the colony of New Netherlands when the English came to take it ov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Amsterda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ain city of the Dutch colony of New Netherlan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ted on the island of Manhatt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er called New York 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7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0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rst permanent English settl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Jamestow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rcantilism wants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sources like timber and tobacco from the coloni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ffer colon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Colony established by Roger Williams and Anne Hutchinson  for reasons of religious freedom wa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hode Islan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haniel Bac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d revolt against Jamestown because as a newly freed indentured servant he wanted more land and specifically Indian 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most burnt down Jamestown but then his bacon got fri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1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4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flower compact establishe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rst step towards democracy and representative government in the New Wor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y did the English colonists begin to use sla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fter Bacon’s Rebellion, no longer trusted indentured serva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was preached in the Great Awaken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Whitefield and Edward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bot did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xplored North America for England and gave her a claim he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3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spucci did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Gave his name to Americ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0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Holy Experiment is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Quaker colony of Philadelph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 called because the Quakers wanted to try  to live in peace  with all peo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oup that settled Maryland and w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nglish Roman Catholics running from religious persecution in Engl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7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oup that settled Pennsylvan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English Quakers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utch colony in North Amer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New Netherlands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1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an who “saved” Jamestown from extinction  by saying only those who worked could eat w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3276360"/>
            <a:ext cx="807732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John Smit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y did England want coloni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gain wealt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more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 defense in times of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ablish themselves as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hn Locke influenced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e Declaration of Independenc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ree ways that democracy grew in colon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use of Burgess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ayflower compac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own meeting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o steps toward representative government  in colon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flower Compact and House of Burg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o limited colonies’ trade with other nations and wh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other country because she was not into sharing any of that wealth with another country or letting another country become rich with her colon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eat Awakening was led/preached by wh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dwards and Whitefiel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re did the Puritans sett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ssachusetts Bay Colony in New Engl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ony Built on Smo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Jamestow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n Franklin did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ed swim fins, bifo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ed with electr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shed books, advice  column, articles and news and a alman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a diplo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2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7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area had more peaceful relations with Native Americans and wh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because they were not after land and instead trapped for furs which were seen as an eternal re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theory that if a country’s wealth increased, all other country’s wealth decreased was call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Mercantilis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did the Great awakening affect the 13 coloni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d people to realize that they had a choice in their religion and therefore their politics, government, economics, and ru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1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lorida belonged to what country in the 1600’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onial symbol of the ideal man and 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n Franklin because he worked his way from very poor to rich, did well in so many areas, was wise and hard working, had a sense of humor, and treated people equ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lony based on search for gol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Jamestown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what year was Jamestown settl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9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1607 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year did the Pilgrims land in Cape C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620 which is in the 17th centu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7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ntesquieu believed in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paration of powers in a government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lliam Penn did what and is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ettled Philadelphia, one of the 13 colonies,  and was a Quak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2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kers belief involves wh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 not go to w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 not use weapons against peo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 not allow slave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9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2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5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hiladelphia was created by who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William Pen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war between the Native Americans and the Puritans was call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King Philip’s Wa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did the belief in mercantilism limit in the coloni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ree trade with other countrie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0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Netherlan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ame of colony founded by the Dutch East India company in the New Worl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7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now Location of 13 colonies on a m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paratists are who? And what do they want to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ilgrims because they wanted to separate from the Anglican chur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4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wn meetings are one of the steps towards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Democracy and representative governme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rst British colony that fails because it disappeared without a t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2590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oanoke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8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senters are who? And what do they want to 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uritans who disagree with the Anglican church and want to purify 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5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portion of the triangular trade brought slaves to Ame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 Middle Passag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2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result of King Philip’s wa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eginn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f an American identity among the colonis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lonists no longer think of themselves as English but as the colonis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2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tems did the Columbian exchange bring to the colonies that positively affected the colonist’s survival in the New Worl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orse, pig , honey bees, earth worms, apples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9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274680"/>
            <a:ext cx="853452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portion of the triangular trade that brought slaves to the New World was called th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iddle Passa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s New England noted for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 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s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farms and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en taught to read and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1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6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1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1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6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are the Southern colonies noted f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w fa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water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s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3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8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3" dur="2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8" dur="2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3" dur="2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Massachusetts lost its charter to be a colony, a governor (Andros) was appointed by the King but he did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wha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hich resulted in his running away on  a ship back to England before he was killed by the colonis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4770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stopped town meetings and assembl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lf way covenant is about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uritans trying to allow people to remain in the church while not following all of the church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7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fur trade in Quebec led to what kind of relationship with the Native American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more peaceful one then the 13 colonies h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hn Locke advocated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people are equal and independent and have a right to life, liberty, property . In some cases, where people’s rights are being abused, revolution is a right als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1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o wrote the Declaration of Independenc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omas Jeffers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8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mercantilism how is wealth measure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Gold and Silver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5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an who gave the Pilgrims food and helped them survive was cal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Squant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2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o did Quebec belong to in the 17th centur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New Franc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9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York city  was once call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New Amsterda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o was King Philip? And what did he d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ve American Leader (Metacom) in New England who made a last stand against the White man but did not win the war named after hi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6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lem, Mass is noted for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alem witch trial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dfb6d"/>
            </a:gs>
            <a:gs pos="100000">
              <a:srgbClr val="89b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Puritans established what colon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Massachusetts Bay Colon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8T00:22:08Z</dcterms:created>
  <dc:creator>default</dc:creator>
  <dc:description/>
  <dc:language>en-US</dc:language>
  <cp:lastModifiedBy>ldesaulniers</cp:lastModifiedBy>
  <dcterms:modified xsi:type="dcterms:W3CDTF">2009-12-15T12:39:31Z</dcterms:modified>
  <cp:revision>4</cp:revision>
  <dc:subject/>
  <dc:title>Review for Colonial Era-1600’s </dc:title>
</cp:coreProperties>
</file>