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2C4-4F6F-41C0-A365-5B98DAED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5A5E-7E03-4A13-9BBC-F59F0E44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D03-1ECB-4311-85D0-3F1E2965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837-BA29-4F14-A4C8-60DBE3B2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53F4-EE88-458C-B81F-C4810C7C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547-AEBA-4FE8-9556-7564744A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72E-DF2A-4E76-8A75-4E5CAD75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AA4-7BCF-4BF8-846A-D4D4D4FE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D40-5838-4836-AF08-C98484D1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4F5-6434-451F-9044-52E28BD3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54B9-EFF6-4930-AB3B-11F38062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73A-1E8C-41B9-BBE8-4912D34D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5676-6C6F-462F-BBEA-0380821D8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default</cp:lastModifiedBy>
  <dcterms:modified xsi:type="dcterms:W3CDTF">2009-08-28T01:21:37Z</dcterms:modified>
  <cp:revision>3</cp:revision>
  <dc:subject/>
  <dc:title>Review for Colonial Era-1600’s </dc:title>
</cp:coreProperties>
</file>