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37A-D17C-4F23-A8FC-206D1C70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9EE-F68E-4B54-AC7F-11FBD39D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37B-66FC-43CF-8443-73DA5073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1B1-47B1-43D0-9379-AD5AC1AE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BCC-6329-4E35-9FEF-477D9997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EED-B63A-48A2-B785-3C75899B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335-583E-4550-BE04-963D1808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F76-8E6B-4AC4-8B71-764CB06C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13D-F6CB-46B3-8DC8-9CFC104A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09E-5A5F-48EE-9FD7-30CA9AC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30C-7C0D-4202-A318-3FC4BB3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032-CD01-4687-ADEC-D12E96F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6C11-F6F2-4307-833C-7851F48C8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default</cp:lastModifiedBy>
  <dcterms:modified xsi:type="dcterms:W3CDTF">2009-08-28T01:21:37Z</dcterms:modified>
  <cp:revision>3</cp:revision>
  <dc:subject/>
  <dc:title>Review for Colonial Era-1600’s </dc:title>
</cp:coreProperties>
</file>