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394-779E-406C-8EDF-95E4A4ED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32A-865B-419F-ADF2-0ADD3730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DC4-E592-4F2E-8282-401C4D78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5E7-0105-46DC-BDC3-D4A6392D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5A3-1C2C-435F-B0F9-C700E29A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7F3-1DA0-49DC-8610-CF06D3C0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ECB-33E2-4BCB-BC45-50A8B340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FB7-963F-4C37-9AAE-A5DA8948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E29-EC16-4635-9A1E-9C6716C8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49E-F47D-4602-81CE-E8A61277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E6E-9BFD-45F5-8E72-FB9827A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5E7-4D18-4919-B008-CF8CCDDA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6DD1-4A14-41FB-A056-D7ACE440C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tent.answers.com/main/content/wp/en/d/d3/Triangle_trade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en/2/20/Am_I_not_a_man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or Colonial Era-160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1, 2, 4: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glish seized this island at the base of the Hudson River’s mouth and called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tribal chief  who gave the Jamestown colonist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itans were called Dissenters because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agreed with the Anglican Church and wanted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eadbasket of the colonies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w York and Philadelph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esquieu and Locke influenced what  American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athan Edwards and George White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ached the Great Awakening, a series of revivals, in the Colonial 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ld people they had freedom to chose whether to serve God or not and therefore could chose their future and after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mericas, Africa, 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 of the Triangular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1716600">
            <a:off x="1524240" y="3962160"/>
            <a:ext cx="1255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82800">
            <a:off x="6097680" y="3048120"/>
            <a:ext cx="1056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240" y="6248520"/>
            <a:ext cx="1044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File:Am I not a m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5181480"/>
            <a:ext cx="703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a Proprietary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sylvania / Philadelp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a royal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stock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anced the settlement at Jamest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migrants who were blown off course by a storm and landed in Plymouth were called th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ilgri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the fortunes of Jamestown sett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elected legislative assembly in the New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religious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se of Burgesses is known for what and 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Virgi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locally elected legislative assembly in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Pa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 of the Triangular trade that carried slaves from Africa to the colo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 Stuyve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ch Governor of the colony of New Netherlands when the English came to take it 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Amsterd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ity of the Dutch colony of 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d on the island of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called New York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permanent English sett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antilism want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s like timber and tobacco from the colo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er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lony established by Roger Williams and Anne Hutchinson  for reasons of religious freedom w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haniel Ba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revolt against Jamestown because as a newly freed indentured servant he wanted more land and specifically Indian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most burnt down Jamestown but then his bacon got f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flower compact estab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step towards democracy and representative government in the New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English colonists begin to use 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ter Bacon’s Rebellion, no longer trusted indentured serv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preached in the Great Awak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itefield and Edw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bot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ored North America for England and gave her a claim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pucci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ave his name to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y Experiment i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aker colony of Philadelp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called because the Quakers wanted to try  to live in peace  with all peo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that settled Maryland and 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 Roman Catholics running from religious persecution in 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that settled 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glish Quaker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tch colony in North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n who “saved” Jamestown from extinction  by saying only those who worked could ea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773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England want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ain weal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mor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defense in tim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themselves a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 influenc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eclaration of Independ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ways that democracy grew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wn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steps toward representative government 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 and 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limited colonies’ trade with other nations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ther country because she was not into sharing any of that wealth with another country or letting another country become rich with h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Awakening was led/preached by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dwards and White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the Puritans se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 in New Eng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y Built on Sm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 Franklin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swim fins, bif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ed with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books, advice  column, articles and news and a alma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dipl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a had more peaceful relations with Native Americans and 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because they were not after land and instead trapped for furs which were seen as an eternal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eory that if a country’s wealth increased, all other country’s wealth decreased was cal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Great awakening affect the 13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people to realize that they had a choice in their religion and therefore their politics, government, economics, and 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rida belonged to what country in the 1600’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al symbol of the ideal man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 Franklin because he worked his way from very poor to rich, did well in so many areas, was wise and hard working, had a sense of humor, and treated people eq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y based on search for g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year was Jamestown sett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1607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year did the Pilgrims land in Cape C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0 which is in the 17th cent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esquieu believ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paration of powers in a govern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Penn did what and i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led Philadelphia, one of the 13 colonies,  and was a Qu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kers belief involves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go to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use weapons against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allow sla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ladelphia was created by wh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illiam Pen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tween the Native Americans and the Puritans was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belief in mercantilism limit in the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ee trade with other countri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me of colony founded by the Dutch East India company in the New Wor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 Location of 13 colonies on a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aratists are who? And what do they want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lgrims because they wanted to separate from the Anglican chu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n meetings are one of the steps toward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ocracy and representative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British colony that fails because it disappeared without a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anoke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senters are who? And what do they want to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ritans who disagree with the Anglican church and want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ortion of the triangular trade brought slaves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Middle Pass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sult of King Philip’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n American identity among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onists no longer think of themselves as English but as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tems did the Columbian exchange bring to the colonies that positively affected the colonist’s survival in the New Wor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rse, pig , honey bees, earth worms, apple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rtion of the triangular trade that brought slaves to the New World was call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New England noted f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taught to 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Southern colonies note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wate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Massachusetts lost its charter to be a colony, a governor (Andros) was appointed by the King but he d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ich resulted in his running away on  a ship back to England before he was killed by the coloni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topped town meetings and assemb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lf way covenant is about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itans trying to allow people to remain in the church while not following all of the chur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r trade in Quebec led to what kind of relationship with the Native Americ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ore peaceful one then the 13 colonies h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 advoc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eople are equal and independent and have a right to life, liberty, property . In some cases, where people’s rights are being abused, revolution is a right al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rote the Declaration of Independ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ercantilism how is wealth measu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old and Silv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who gave the Pilgrim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qua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did Quebec belong to in the 17th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York city  was once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Amsterd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King Philip? And what did he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American Leader (Metacom) in New England who made a last stand against the White man but did not win the war named after h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, Mass is noted for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itans established what colo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0:22:08Z</dcterms:created>
  <dc:creator>default</dc:creator>
  <dc:description/>
  <dc:language>en-US</dc:language>
  <cp:lastModifiedBy>default</cp:lastModifiedBy>
  <dcterms:modified xsi:type="dcterms:W3CDTF">2009-08-28T01:21:37Z</dcterms:modified>
  <cp:revision>3</cp:revision>
  <dc:subject/>
  <dc:title>Review for Colonial Era-1600’s </dc:title>
</cp:coreProperties>
</file>