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3D7-5F9A-4294-9CCD-5F3447E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4C4-BEA5-44F8-B1B1-56486DAB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F71-5A42-4589-9349-8C3B617C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02B-4B3F-4461-A599-EA7929A0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21F-82C1-4CFE-87AA-772203B5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3C6-A25C-4222-B39E-72721595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B39-6D01-4824-A79C-BA7E360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7E1-4EDC-4FFB-963D-C696C284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D65-D0DD-41B3-91E0-3ED0228F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6FD-649C-4DFF-A490-90F6F2BD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25A-2E7A-4680-9F85-33ECBD9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A98-0E1B-40F8-8F70-2A754E0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070D-DE91-4231-9C99-85C3661ED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default</cp:lastModifiedBy>
  <dcterms:modified xsi:type="dcterms:W3CDTF">2009-08-28T01:21:37Z</dcterms:modified>
  <cp:revision>3</cp:revision>
  <dc:subject/>
  <dc:title>Review for Colonial Era-1600’s </dc:title>
</cp:coreProperties>
</file>