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E6A-6181-44F1-9FE6-65327EEF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471-86B0-44C8-8AE9-126AA6A4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AAB-276C-46F3-9883-5C6D0743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348-6232-4BFB-8371-A3E37CF7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B0C-85B8-40BC-89A1-45773007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D33-159C-40F0-961D-2D0C3450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9EB-E296-4C0B-8AD4-796A8D0D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EFB-1FE6-4549-9F58-4233D8F5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2B6-1A94-49D8-85DD-8235018D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17D-0BEB-4DB7-86B7-7A5C388A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A37-28D3-4F12-B242-17079E27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7F5-3CD8-4F1E-AA29-33B35949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A988-2AA0-4608-BF76-8FF9C7D6B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at least 5 weaknesses of the Articles of confeder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286000"/>
            <a:ext cx="7467480" cy="419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had only on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 had as much power as Virgi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 required 9 of the 13 states to 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esident or execu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ver money not given to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bility to levy taxes on im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1 of the 13 states could ignore a treaty written by the new go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213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main argument used by the Anti-Federalists against ratifying the new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nothing guaranteeing the rights of American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advantage of the Land Ordinance of 178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ntinental Congress agreed that all the new western states would be admitted on equal terms as the original 13 thereby stopping what could have been a great cause of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1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of the Bill to the Bill of Rights confirms the principle of Federalis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- Powers not delegated to the United States government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r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land west of the Appalachians give the new government so many proble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ioneers moved out west at the end of the Revolution and there were no rules on how to control them, the Indians, the lan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rdinance settled the western land problems after the Revolutionary w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rdinance of 17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depress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292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harp decline in business activity and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states added to the un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Northwest Ordinance of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by a governor and 3 judges appointed by Congress. (Territory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reached 5,000 free, voting age males- legislature could be elected and a non-voting delegate could be sent to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reached 60,000 free inhabitants, people could draft a constitution and apply for state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the 2 groups who did not receive the freedoms guaranteed in the Declaration of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states’ argument against strong central governments after the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not want any strong centralized government such as the British used to abus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cond Continental Congress was the American government during what perio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saying “worthless as a constitutional dollar” me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able to create its own money and value along w/ the Continental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orth a Continent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irginia Plan favors who? The New Jersey plan favors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3733920" cy="338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 favors larg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2880" y="2742840"/>
            <a:ext cx="3733920" cy="330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 favors smal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mendment states that one must have a search warrant to search a citizen’s hous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urth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states that you have a Right to a jury tri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220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states that  you have a Right to keep a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mendment states that you are not required to give housing to troop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Jersey Plan wanted what kind of Congr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house legisl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would have equal # of represent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tate- on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eat Compromise wanted what kind of Cong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houses of Con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e- each state gets 2 Sen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of Representative- # determined by the population of th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“money” bills must come from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5th Compromise st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would be counted as 3/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erson for both representation and tax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does the chief executive ser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for 4 year terms with unlimited reelection until FDR dies and then it is changed to only 2- 4 yea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01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the Constitution had been written, what had to be done with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3581280" cy="300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Daniel Sh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 of the Revolutionary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ing in the De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uld it take to make the Constitution, “the supreme law of the land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states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ists Favored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central government and Constit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Federalists Oppos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central government and the Constit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4 things wrong with the Constitution as the Anti-Federalists saw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3657600" cy="345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 of 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nough freedom for sl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0" y="2666520"/>
            <a:ext cx="4038480" cy="342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endering too much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voter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ederalist Papers;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es of brilliant essays defending the Constit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the Federalist Pap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lexander Hami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James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John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77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eparation of 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branch of government is separated b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ecks and balanc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branch of government is given certain powers that can restrain or “place a check” on another branch of government to create a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and describe the function of  the 3 branches of gover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l- determines the constitutionality of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ve-makes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-carries out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Delegat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regulate comme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raise an 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2 conditions of his time was Daniel Shay rebelling again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losure of homes by banks/courts in the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ayment of wages to revolutionary War v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presentation in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Reserv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ver roads, marriages, public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fication means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14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as the Bill of Rights added to the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the Anti-federalists to ratify or vote for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Constitutional amendmen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rds of both houses of Congress or 2/3rds of the States may propose an Amendment to the Con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4ths of the States must ratify the Amend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Shar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350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role of Alexander Hamilton in the making of the Constit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it, wrote in the Federalist Papers, argued it brilliantly, was adamant about his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role of James Madison in the making of the Constitut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of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to the Congressional Congress with his idea for a Constitution already in 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Constitution developed by and whe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 delegates, mainly educated, veterns of the War and farmers with medium to large size sp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iladelphia because the Articles of Confederation did not work and had led to Shay’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goal of the Constitutional Conven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655308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ublican form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rests in the voters who el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resenta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un the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limited governme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does not reside in  only one part or person or branch of a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shared among the branches of a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during Shay’s Rebe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 disgruntled farmers and former vets in a rebellion against the Massachusetts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y the courthouse for 3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s the issue of slavery settled at the Constitutional Convent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may continue to import slaves until 1808, but after that, they must decide how to handle the 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rotector of citizen’s rights in Ame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the American Constitution one of the most enduring documents in the Western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flexibility due to the ability to add amend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is the term that senators ser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274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yea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justices serve on the Supreme Cour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574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15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man said that slavery was, “as repugnant to humanity as it is inconsistent with the Bible and destructive of liberty.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3581280" cy="254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k He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last state to ratify the Articles of Confed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8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last state to ratify the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put down Shay’s Rebe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Mili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Daniel Shay’s rebellion e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disbanded and government either pardoned or did not got after the ring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Daniel Shays’ Rebellion led to a call for a stronger central governme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ee that the nation is in need of a stronger government or people like Shay may take i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Northwest Ordinance of 1787  make provision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59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ntrol, How to settle, How to govern, and How to handle Indians in the west of the Appalachian Mountains  terri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2:17:35Z</dcterms:created>
  <dc:creator>default</dc:creator>
  <dc:description/>
  <dc:language>en-US</dc:language>
  <cp:lastModifiedBy>ldesaulniers</cp:lastModifiedBy>
  <dcterms:modified xsi:type="dcterms:W3CDTF">2009-12-15T12:38:32Z</dcterms:modified>
  <cp:revision>3</cp:revision>
  <dc:subject/>
  <dc:title>List at least 5 weaknesses of the Articles of confederation.</dc:title>
</cp:coreProperties>
</file>