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955-E81F-4DF7-8606-CBFB3761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8455-1329-4261-821B-4AE1FA23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E49-233B-49B5-8022-5B5B6C2A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CE1-4609-4082-A16B-EC90936E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F5E-E01C-4835-BCB2-29BE88E5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D78-4B84-4862-8278-F8E0AF98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D6D3-EF92-4D0E-81EF-73DA220A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090-2E6E-4B01-9431-B7DE5E8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FAB-125E-493E-8061-BB236D8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8D7-AFCE-49E1-A442-6FA74C84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CB3F-2C68-4783-8265-1C058B8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156-3DC1-4475-BE34-C39107F6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EE43-3668-411D-92CD-DFC1D7FFF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at least 5 weaknesses of the Articles of confeder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286000"/>
            <a:ext cx="746748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 had as much power as Virgi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ver money not given to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bility to levy taxes on im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213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main argument used by the Anti-Federalists against ratifying the new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nothing guaranteeing the rights of American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advantage of the Land Ordinance of 178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 thereby stopping what could have been a great cause of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of the Bill to the Bill of Rights confirms the principle of Federalis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- Powers not delegated to the United States government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erv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land west of the Appalachians give the new government so many proble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ioneers moved out west at the end of the Revolution and there were no rules on how to control them, the Indians, the lan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Ordinance settled the western land problems after the Revolutionary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rdinance of 17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depress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292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re states added to the un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Northwest Ordinance of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d by a governor and 3 judges appointed by Congress. (Territory St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reached 60,000 free inhabitants, people could draft a constitution and apply for state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the 2 groups who did not receive the freedoms guaranteed in the Declaration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states’ argument against strong central governments after the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8229600" cy="307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want any strong centralized government such as the British used to abus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0010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econd Continental Congress was the American government during what peri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e saying “worthless as a constitutional dollar” me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te able to create its own money and value along w/ the Continental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worth a Continenta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irginia Plan favors who? The New Jersey plan favors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3733920" cy="33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 favors larg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2880" y="2742840"/>
            <a:ext cx="3733920" cy="330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J favors small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mendment states that one must have a search warrant to search a citizen’s hous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urth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states that you have a Right to a jury tr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220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mendment states that  you have a Right to keep a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6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mendment states that you are not required to give housing to troop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733560"/>
            <a:ext cx="822960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Jersey Plan wanted what kind of Congr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house legisl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te would have equal # of represent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tate- one vo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eat Compromise wanted what kind of Cong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houses of Con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e- each state gets 2 Sen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of Representative- # determined by the population of the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“money” bills must come from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5th Compromise st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would be counted as 3/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person for both representation and tax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oes the chief executive ser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for 4 year terms with unlimited reelection until FDR dies and then it is changed to only 2- 4 yea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011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ce the Constitution had been written, what had to be done with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3581280" cy="300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Daniel Sh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 of the Revolutionary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ing in the Depre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93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uld it take to make the Constitution, “the supreme law of the land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states v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ists Favor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central government and Con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Federalists Oppos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ong central government and the Constit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4 things wrong with the Constitution as the Anti-Federalists saw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3657600" cy="3459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arantee of 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nough freedom for sl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0" y="2666520"/>
            <a:ext cx="4038480" cy="342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endering too much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nough vote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ederalist Papers;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es of brilliant essays defending the Constit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Federalist Pap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lexander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ames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John J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77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770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77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77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2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4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6" dur="77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77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5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7" dur="77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77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77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eparation of 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branch of government is separated by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checks and balance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branch of government is given certain powers that can restrain or “place a check” on another branch of government to create a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and describe the function of  the 3 branches of govern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l- determines the constitutionality of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ive-makes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-carries out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Delegat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regulate comme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to raise an ar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2 conditions of his time was Daniel Shay rebelling again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losure of homes by banks/courts in the 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payment of wages to revolutionary War v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presentation in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Reserv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0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ver roads, marriages, public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fication means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146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as the Bill of Rights added to the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the Anti-federalists to ratify or vote for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Constitutional amend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rds of both houses of Congress or 2/3rds of the States may propose an Amendment to the Co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4ths of the States must ratify the Amend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3 Shared po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819520" cy="350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role of Alexander Hamilton in the making of the Constit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it, wrote in the Federalist Papers, argued it brilliantly, was adamant about his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role of James Madison in the making of the Constitu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of the Con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 to the Congressional Congress with his idea for a Constitution already in 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Constitution developed by and whe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 delegates, mainly educated, veterns of the War and farmers with medium to large size sp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iladelphia because the Articles of Confederation did not work and had led to Shay’s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the goal of the Constitutional Conven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6553080" cy="2819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ublican form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rests in the voters who elec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presentati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run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mited governm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does not reside in  only one part or person or branch of a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is shared among the branches of a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during Shay’s Rebe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 disgruntled farmers and former vets in a rebellion against the Massachusetts Cou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py the courthouse for 3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s the issue of slavery settled at the Constitutional Conventio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 may continue to import slaves until 1808, but after that, they must decide how to handle the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protector of citizen’s rights in Ame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the American Constitution one of the most enduring documents in the Western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flexibility due to the ability to add amend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5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6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2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is the term that senators ser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2743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year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justices serve on the Supreme Cour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574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154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man said that slavery was, “as repugnant to humanity as it is inconsistent with the Bible and destructive of liberty.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3581280" cy="254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last state to ratify the Articles of Confed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175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8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the last state to ratify the Constit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205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put down Shay’s Rebe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Mili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Daniel Shay’s rebellion e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erans disbanded and government either pardoned or did not got after the ring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Daniel Shays’ Rebellion led to a call for a stronger central governme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ee that the nation is in need of a stronger government or people like Shay may take i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Northwest Ordinance of 1787  make provisio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259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ntrol, How to settle, How to govern, and How to handle Indians in the west of the Appalachian Mountains  terri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22:17:35Z</dcterms:created>
  <dc:creator>default</dc:creator>
  <dc:description/>
  <dc:language>en-US</dc:language>
  <cp:lastModifiedBy>ldesaulniers</cp:lastModifiedBy>
  <dcterms:modified xsi:type="dcterms:W3CDTF">2009-12-15T12:38:32Z</dcterms:modified>
  <cp:revision>3</cp:revision>
  <dc:subject/>
  <dc:title>List at least 5 weaknesses of the Articles of confederation.</dc:title>
</cp:coreProperties>
</file>