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05D-FFCC-46F0-A22A-659A093F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54A-2397-4EC4-92AF-E76BC1AD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C3D-8BA0-42F6-9C4F-45FC2B03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71E-91E2-4461-9C93-998129D4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A4F-10D1-49A0-838B-DE909E9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0FA-E205-489C-A6A0-F9C92D2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193-1FEE-4061-841C-7D4D8AD8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E07-4ED5-43F6-8FD3-8951DA95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872-9C34-4099-A2AE-16409C8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97D-1FEF-49B8-96B8-2B29D6A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C20-652C-4BB0-B2EE-4234E61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6E5-869A-4CF1-B14B-ACAA98D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90B8-B794-4059-A52A-6A1747BB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at least 5 weaknesses of the Articles of confeder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286000"/>
            <a:ext cx="746748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had as much power as Virgi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ver money not given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ility to levy taxes on im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21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main argument used by the Anti-Federalists against ratifying the new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nothing guaranteeing the rights of American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advantage of the Land Ordinance of 178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 thereby stopping what could have been a great cause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of the Bill to the Bill of Rights confirms the principle of Federa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- Powers not delegated to the United States governmen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land west of the Appalachians give the new government so many proble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ioneers moved out west at the end of the Revolution and there were no rules on how to control them, the Indians, the lan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rdinance settled the western land problems after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epr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states added to the un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Northwest Ordinance of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a governor and 3 judges appointed by Congress. (Territory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60,000 free inhabitants, people could draft a constitution and apply for state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2 groups who did not receive the freedoms guaranteed in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states’ argument against strong central governments after 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want any strong centralized government such as the British used to abus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cond Continental Congress was the American government during what peri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saying “worthless as a constitutional dollar”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able to create its own money and value along w/ the Continental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orth a Continent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rginia Plan favors who? The New Jersey plan favors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373392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favors larg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2880" y="2742840"/>
            <a:ext cx="3733920" cy="330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favors sm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one must have a search warrant to search a citizen’s hous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urth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you have a Right to a jury t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220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 you have a Right to keep a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you are not required to give housing to troop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Jersey Plan wanted what kind of Congr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house legisl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would have equal # of represent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ate-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eat Compromise wanted what kind of Cong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ouses of Co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- each state gets 2 Se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Representative- # determined by the population of th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“money” bills must come from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5th Compromise st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ould be counted as 3/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erson for both representation and t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oes the chief executive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for 4 year terms with unlimited reelection until FDR dies and then it is changed to only 2- 4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the Constitution had been written, what had to be done with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3581280" cy="300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Daniel Sh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 of the Revolutionary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ing in the 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it take to make the Constitution, “the supreme law of the land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s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ists Favor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Federalists Oppos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the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4 things wrong with the Constitution as the Anti-Federalists saw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3657600" cy="345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of 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freedom for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0" y="2666520"/>
            <a:ext cx="4038480" cy="342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dering too muc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vote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ederalist Papers;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es of brilliant essays defending the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Federalist Pa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lexander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ames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ohn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eparation of 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separated b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ecks and balan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given certain powers that can restrain or “place a check” on another branch of government to create a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and describe the function of  the 3 branches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- determines the constitutionality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-makes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-carries out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Delegat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egulate comme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aise an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2 conditions of his time was Daniel Shay rebelling again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losure of homes by banks/courts in the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ayment of wages to revolutionary War v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 in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Reserv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roads, marriages, public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ication means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14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as the Bill of Rights added to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the Anti-federalists to ratify or vote for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onstitutional amend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rds of both houses of Congress or 2/3rds of the States may propose an Amendment to the Co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4ths of the States must ratify the Amend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Shar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350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Alexander Hamilton in the making of the Constit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it, wrote in the Federalist Papers, argued it brilliantly, was adamant about hi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James Madison in the making of the Constitu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of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to the Congressional Congress with his idea for a Constitution already in 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Constitution developed by and whe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delegates, mainly educated, veterns of the War and farmers with medium to large size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 because the Articles of Confederation did not work and had led to Shay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goal of the Constitutional Co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655308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ublican form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rests in the voters who 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resent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un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mited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does not reside in  only one part or person or branch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shared among the branches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during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 disgruntled farmers and former vets in a rebellion against the Massachusetts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y the courthouse for 3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the issue of slavery settled at the Constitutional Conven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may continue to import slaves until 1808, but after that, they must decide how to handle the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rotector of citizen’s rights in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he American Constitution one of the most enduring documents in the Western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flexibility due to the ability to add ame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is the term that senators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27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justices serve on the Supreme Cou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574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man said that slavery was, “as repugnant to humanity as it is inconsistent with the Bible and destructive of liberty.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358128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Articles of Confe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put down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Mili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Daniel Shay’s rebellion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disbanded and government either pardoned or did not got after the ring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aniel Shays’ Rebellion led to a call for a stronger central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ee that the nation is in need of a stronger government or people like Shay may take 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Northwest Ordinance of 1787  make provisio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59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trol, How to settle, How to govern, and How to handle Indians in the west of the Appalachian Mountains  terri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7:35Z</dcterms:created>
  <dc:creator>default</dc:creator>
  <dc:description/>
  <dc:language>en-US</dc:language>
  <cp:lastModifiedBy>ldesaulniers</cp:lastModifiedBy>
  <dcterms:modified xsi:type="dcterms:W3CDTF">2009-12-15T12:38:32Z</dcterms:modified>
  <cp:revision>3</cp:revision>
  <dc:subject/>
  <dc:title>List at least 5 weaknesses of the Articles of confederation.</dc:title>
</cp:coreProperties>
</file>