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FAF6-FA48-4CA8-A389-783EBE1B1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E834-7936-43BB-9AF1-0B4380D2A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A419-CEEA-4D53-9BE4-9C38243CB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3F86-4DB2-4B89-B36D-68EA3453C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A3C1-415E-40CC-BA8D-F90922EAC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1793-5DA7-453D-8E98-DF328E127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F3DB-10D3-4290-9759-2C9507D23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6B65-35EA-4B7C-89B3-E9C3C5E54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BA24-B7BD-4E5A-BBF4-A6F3188DF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2996-57B0-4FAD-BEC2-8B35361F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69D1-21FB-4462-860E-A5E4C868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AEDA-BC45-416A-979E-23EF15C8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AAFA9-F8E3-4732-876D-98F431DE6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469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st at least 5 weaknesses of the Articles of confederat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2286000"/>
            <a:ext cx="7467480" cy="419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tate had only one vo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hode Island had as much power as Virgin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ws required 9 of the 13 states to agr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President or execu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ou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over money not given to Cong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bility to levy taxes on impor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1 of the 13 states could ignore a treaty written by the new gov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2133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was the main argument used by the Anti-Federalists against ratifying the new Constituti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3733560"/>
            <a:ext cx="8229600" cy="2392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as nothing guaranteeing the rights of American citiz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was the advantage of the Land Ordinance of 1785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Continental Congress agreed that all the new western states would be admitted on equal terms as the original 13 thereby stopping what could have been a great cause of confl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2011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mendment of the Bill to the Bill of Rights confirms the principle of Federalis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mendment- Powers not delegated to the United States government a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serv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the st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5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id the land west of the Appalachians give the new government so many problem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3200040"/>
            <a:ext cx="8229600" cy="2925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ioneers moved out west at the end of the Revolution and there were no rules on how to control them, the Indians, the land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Ordinance settled the western land problems after the Revolutionary wa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 Ordinance of 178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depression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895120"/>
            <a:ext cx="8229600" cy="2925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Sharp decline in business activity and job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9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are states added to the uni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the Northwest Ordinance of 178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d by a governor and 3 judges appointed by Congress. (Territory Stat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reached 5,000 free, voting age males- legislature could be elected and a non-voting delegate could be sent to Cong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reached 60,000 free inhabitants, people could draft a constitution and apply for statehoo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1859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st the 2 groups who did not receive the freedoms guaranteed in the Declaration of Independ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8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935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was the states’ argument against strong central governments after the Revolu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3048120"/>
            <a:ext cx="8229600" cy="307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do not want any strong centralized government such as the British used to abuse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5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2392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econd Continental Congress was the American government during what perio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3352680"/>
            <a:ext cx="8229600" cy="277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 r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7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e saying “worthless as a constitutional dollar” mea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state able to create its own money and value along w/ the Continental mon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worth a Continental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Virginia Plan favors who? The New Jersey plan favors wh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3733920" cy="3382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 favors large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52880" y="2742840"/>
            <a:ext cx="3733920" cy="3306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J favors small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2392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mendment states that one must have a search warrant to search a citizen’s house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3580920"/>
            <a:ext cx="8229600" cy="2544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Fourth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mendment states that you have a Right to a jury trial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362320" cy="2209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mendment states that  you have a Right to keep arm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819520" cy="2057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8077320" cy="2468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mendment states that you are not required to give housing to troops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3733560"/>
            <a:ext cx="8229600" cy="2392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r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1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Jersey Plan wanted what kind of Congres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house legisl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tate would have equal # of representat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state- one vo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reat Compromise wanted what kind of Congre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houses of Cong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ate- each state gets 2 Sena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use of Representative- # determined by the population of the s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“money” bills must come from the Ho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9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2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5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8" dur="2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5th Compromise stated what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aves would be counted as 3/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 person for both representation and tax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0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long does the chief executive serv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e for 4 year terms with unlimited reelection until FDR dies and then it is changed to only 2- 4 year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2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2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2011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ce the Constitution had been written, what had to be done with 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3123720"/>
            <a:ext cx="3581280" cy="3002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was Daniel Sha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r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teran of the Revolutionary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ffering in the Depre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935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would it take to make the Constitution, “the supreme law of the land”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8229600" cy="3382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 states v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deralists Favored w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rong central government and Constitu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-Federalists Opposed what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rong central government and the Constitu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e the 4 things wrong with the Constitution as the Anti-Federalists saw 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3657600" cy="3459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guarantee of  r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enough freedom for sl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0" y="2666520"/>
            <a:ext cx="4038480" cy="3429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rendering too much po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voter contr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Federalist Papers; What are the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ies of brilliant essays defending the Constitu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wrote the Federalist Pap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ten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Alexander Hamil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James Mad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John J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77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0" dur="770" fill="hold"/>
                                        <p:tgtEl>
                                          <p:spTgt spid="1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2" dur="77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4" dur="77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77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1" dur="77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3" dur="77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5" dur="77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77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2" dur="77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4" dur="77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6" dur="77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77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3" dur="77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5" dur="77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7" dur="77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77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4" dur="77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6" dur="77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8" dur="77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Separation of po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ch branch of government is separated by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checks and balances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ch branch of government is given certain powers that can restrain or “place a check” on another branch of government to create a bal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st and describe the function of  the 3 branches of governm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dicial- determines the constitutionality of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islative-makes the la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cutive-carries out the la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3 Delegated power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to 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to regulate commer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to raise an arm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2 conditions of his time was Daniel Shay rebelling agains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closure of homes by banks/courts in the de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payment of wages to revolutionary War v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representation in con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3 Reserved power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0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over roads, marriages, public edu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tification means what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14600" cy="160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v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was the Bill of Rights added to the Constituti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rder to get the Anti-federalists to ratify or vote for the Constit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a Constitutional amendmen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3rds of both houses of Congress or 2/3rds of the States may propose an Amendment to the Constit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4ths of the States must ratify the Amend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3 Shared power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819520" cy="3505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ce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2392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as the role of Alexander Hamilton in the making of the Constitu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3657240"/>
            <a:ext cx="8229600" cy="2468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ed it, wrote in the Federalist Papers, argued it brilliantly, was adamant about his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468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as the role of James Madison in the making of the Constitution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3657240"/>
            <a:ext cx="8229600" cy="2468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ther of the Constit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e to the Congressional Congress with his idea for a Constitution already in 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5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2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2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2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was the Constitution developed by and wher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5 delegates, mainly educated, veterns of the War and farmers with medium to large size sp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hiladelphia because the Articles of Confederation did not work and had led to Shay’s rebell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was the goal of the Constitutional Conventi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6553080" cy="2819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publican form of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rests in the voters who elec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presentativ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run the gover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1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8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limited government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does not reside in  only one part or person or branch of a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is shared among the branches of a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happened during Shay’s Rebelli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s  disgruntled farmers and former vets in a rebellion against the Massachusetts Cou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py the courthouse for 3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2392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was the issue of slavery settled at the Constitutional Convention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3657240"/>
            <a:ext cx="8229600" cy="2468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s may continue to import slaves until 1808, but after that, they must decide how to handle the iss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0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protector of citizen’s rights in Americ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ill of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is the American Constitution one of the most enduring documents in the Western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8229600" cy="2697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flexibility due to the ability to add amend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5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6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7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2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3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4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long is the term that senators serv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505320" cy="2743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year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many justices serve on the Supreme Cour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057400" cy="1752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4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3154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man said that slavery was, “as repugnant to humanity as it is inconsistent with the Bible and destructive of liberty.”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3580920"/>
            <a:ext cx="3581280" cy="2544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rick Hen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5" dur="indefinite" restart="never" nodeType="tmRoot">
          <p:childTnLst>
            <p:seq>
              <p:cTn id="1026" dur="indefinite" nodeType="mainSeq">
                <p:childTnLst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3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36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was the last state to ratify the Articles of Confede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743200" cy="1752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y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43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48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was the last state to ratify the Constituti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352680" cy="2057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hode Is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put down Shay’s Rebelli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achusetts Milit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id Daniel Shay’s rebellion en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terans disbanded and government either pardoned or did not got after the ringle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id Daniel Shays’ Rebellion led to a call for a stronger central government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3352680"/>
            <a:ext cx="8229600" cy="277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see that the nation is in need of a stronger government or people like Shay may take it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4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id the Northwest Ordinance of 1787  make provision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514240"/>
            <a:ext cx="8229600" cy="2590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control, How to settle, How to govern, and How to handle Indians in the west of the Appalachian Mountains  territo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4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9T22:17:35Z</dcterms:created>
  <dc:creator>default</dc:creator>
  <dc:description/>
  <dc:language>en-US</dc:language>
  <cp:lastModifiedBy>ldesaulniers</cp:lastModifiedBy>
  <dcterms:modified xsi:type="dcterms:W3CDTF">2009-12-15T12:38:32Z</dcterms:modified>
  <cp:revision>3</cp:revision>
  <dc:subject/>
  <dc:title>List at least 5 weaknesses of the Articles of confederation.</dc:title>
</cp:coreProperties>
</file>