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496-83AE-487B-BE39-DEB3151E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FA47-C41F-4F81-9C39-C91F35E8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236-A6AA-4D74-B82F-F79C470C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CB6-5D0B-41A9-8AAD-BA91DD44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B5B-8B03-4C56-A155-BEFC30D2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FE72-B55E-44DA-960C-C5309840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1CA-7BF5-464F-BC37-B68FDF6A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F666-628F-4BF6-ABEA-34D87130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1303-9AC8-4BA6-AA9B-6D66AD04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F22-7AC9-4AF9-B7BE-F800B24B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75FC-43AC-42A3-A20C-E5A27AA5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0D9-A7FB-45BC-9666-539E0E5D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27C3-5B16-4F2C-BDC7-2D4CFC704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ps.ablongman.com/wps/media/objects/1483/1518969/DIVI117.jp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irkwood.k12.mo.us/parent_student/khs/plattes/topics3and4/topics3and4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rps.org/amhersthistory/Shay&apos;s%20Pages/Sites/site4.htm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orldmapsonline.com/UnivHist/30050_6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orldmapsonline.com/UnivHist/30050_6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orldmapsonline.com/UnivHist/30050_6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trangemaps.files.wordpress.com/2007/05/page2_large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ootsweb.com/~ndsargen/stwnshp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e/Northwest-territory-usa-1787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rcRect l="0" t="7735" r="0" b="10463"/>
          <a:stretch/>
        </p:blipFill>
        <p:spPr>
          <a:xfrm>
            <a:off x="609480" y="914400"/>
            <a:ext cx="766944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examine the settlement of the Northwest Territory and the importance of Shays’ Rebell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, in 1786, Daniel Shays led a group of farmers in an attempt to capture a federal arse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915840"/>
            <a:ext cx="5942160" cy="5942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943600" y="533412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en Fighting During Shays' Rebell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/>
          </p:cNvPr>
          <p:cNvPicPr/>
          <p:nvPr/>
        </p:nvPicPr>
        <p:blipFill>
          <a:blip r:embed="rId2"/>
          <a:srcRect l="0" t="2167" r="0" b="0"/>
          <a:stretch/>
        </p:blipFill>
        <p:spPr>
          <a:xfrm>
            <a:off x="0" y="838080"/>
            <a:ext cx="8866080" cy="6019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.S., without an organized army, was powerless. Massachusetts sent a militia to stop the rebell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ys’ Rebellion convinced many people that the U.S. needed a new, stronger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990720"/>
            <a:ext cx="79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rticles of Confederation needed to be replac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14490" r="0" b="0"/>
          <a:stretch/>
        </p:blipFill>
        <p:spPr>
          <a:xfrm>
            <a:off x="0" y="1459080"/>
            <a:ext cx="914076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04920"/>
            <a:ext cx="7313760" cy="5902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is is a picture of Daniel Shays grave in Scottsburg, 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38880" y="1828800"/>
            <a:ext cx="1905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gress surveyed the land into squares 6 miles on each side. (townshi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rcRect l="11573" t="10080" r="8644" b="14081"/>
          <a:stretch/>
        </p:blipFill>
        <p:spPr>
          <a:xfrm>
            <a:off x="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315200" y="10476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nd Ordinance of 17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rcRect l="11573" t="10080" r="8644" b="14081"/>
          <a:stretch/>
        </p:blipFill>
        <p:spPr>
          <a:xfrm>
            <a:off x="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315200" y="10476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nd Ordinance of 17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1905120"/>
            <a:ext cx="19810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town was divided into 36 smaller sections, 640 acres each. (the cost was a minimum of $1 per acr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238880" y="1905120"/>
            <a:ext cx="19051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ople pooled their money in order to be able to afford a piece of la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rcRect l="11573" t="10080" r="8644" b="14081"/>
          <a:stretch/>
        </p:blipFill>
        <p:spPr>
          <a:xfrm>
            <a:off x="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315200" y="104760"/>
            <a:ext cx="182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nd Ordinance of 17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rcRect l="5812" t="17003" r="6640" b="2049"/>
          <a:stretch/>
        </p:blipFill>
        <p:spPr>
          <a:xfrm>
            <a:off x="3240" y="-3240"/>
            <a:ext cx="6864120" cy="6870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0" y="228600"/>
            <a:ext cx="228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heoretical township diagram showing method of numbering sections with adjoining s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" y="0"/>
            <a:ext cx="9140760" cy="600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867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wnship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argent County, North Dak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680"/>
            <a:ext cx="866628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12408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population reached 60,000 free citizens, the area could apply for statehood. Ex.) OH, IN, IL, MI, W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rthwest Ordinance (178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85800"/>
            <a:ext cx="3505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5,000 free males of voting age settled an area, it became self-gove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0" y="601992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avery was outlaw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252" t="1737" r="3723" b="3464"/>
          <a:stretch/>
        </p:blipFill>
        <p:spPr>
          <a:xfrm>
            <a:off x="3505320" y="609480"/>
            <a:ext cx="56386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ays’ Rebe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39720"/>
            <a:ext cx="403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rmer’s income decreased while taxes incre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209680"/>
            <a:ext cx="4038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rmers who could not pay their debts had their farms taken away by the cou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043520" y="0"/>
            <a:ext cx="51004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505764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ssachusetts farmer Daniel Shays and his supporters occupy a Massachusetts courtho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5:59:31Z</dcterms:created>
  <dc:creator>aberlin</dc:creator>
  <dc:description/>
  <dc:language>en-US</dc:language>
  <cp:lastModifiedBy>default</cp:lastModifiedBy>
  <dcterms:modified xsi:type="dcterms:W3CDTF">2009-08-29T17:25:58Z</dcterms:modified>
  <cp:revision>18</cp:revision>
  <dc:subject/>
  <dc:title>Slide 1</dc:title>
</cp:coreProperties>
</file>