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DF3-4959-43D3-9D92-3FFBC84F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06C-4023-47E2-B6A4-752A3382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917-4C2D-40A8-8D33-A6E47D09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3F3-3F5E-43DF-9727-E540FCF9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58B-4977-463C-87EF-6D1EFEEB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509-7DCF-47EF-A3F1-703B30C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F8B-92F0-4587-B8F1-33EE86D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88D-245B-4676-B3F4-ABB4849B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A69-75D5-492D-8C8A-53CEE630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AC9-29DB-4771-B74B-B9B4ACD5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F50-5D87-4D1A-AD7E-3101828B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B26-DF42-4F6D-923B-EC6F78E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DA40-3C3E-48B0-930D-F52FC43E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ps.ablongman.com/wps/media/objects/1483/1518969/DIVI117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rkwood.k12.mo.us/parent_student/khs/plattes/topics3and4/topics3and4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rps.org/amhersthistory/Shay&apos;s%20Pages/Sites/site4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rangemaps.files.wordpress.com/2007/05/page2_large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otsweb.com/~ndsargen/stwnshp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Northwest-territory-usa-1787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rcRect l="0" t="7735" r="0" b="10463"/>
          <a:stretch/>
        </p:blipFill>
        <p:spPr>
          <a:xfrm>
            <a:off x="609480" y="914400"/>
            <a:ext cx="766944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examine the settlement of the Northwest Territory and the importance of Shays’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in 1786, Daniel Shays led a group of farmers in an attempt to capture a federal ars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5942160" cy="59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3600" y="53341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n Fighting During Shays' Rebe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rcRect l="0" t="2167" r="0" b="0"/>
          <a:stretch/>
        </p:blipFill>
        <p:spPr>
          <a:xfrm>
            <a:off x="0" y="838080"/>
            <a:ext cx="886608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, without an organized army, was powerless. Massachusetts sent a militia to stop the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ys’ Rebellion convinced many people that the U.S. needed a new, stronger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90720"/>
            <a:ext cx="79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cles of Confederation needed to be repla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4490" r="0" b="0"/>
          <a:stretch/>
        </p:blipFill>
        <p:spPr>
          <a:xfrm>
            <a:off x="0" y="1459080"/>
            <a:ext cx="9140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920"/>
            <a:ext cx="7313760" cy="590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is a picture of Daniel Shays grave in Scottsburg, 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38880" y="182880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gress surveyed the land into squares 6 miles on each side. (townshi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905120"/>
            <a:ext cx="1981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own was divided into 36 smaller sections, 640 acres each. (the cost was a minimum of $1 per ac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8880" y="1905120"/>
            <a:ext cx="1905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pooled their money in order to be able to afford a piece of 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rcRect l="5812" t="17003" r="6640" b="2049"/>
          <a:stretch/>
        </p:blipFill>
        <p:spPr>
          <a:xfrm>
            <a:off x="3240" y="-3240"/>
            <a:ext cx="686412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228600"/>
            <a:ext cx="228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oretical township diagram showing method of numbering sections with adjoining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" y="0"/>
            <a:ext cx="9140760" cy="600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867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wnship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rgent County, Nor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680"/>
            <a:ext cx="86662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12408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population reached 60,000 free citizens, the area could apply for statehood. Ex.) OH, IN, IL, MI, 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thwest Ordinance (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8580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5,000 free males of voting age settled an area, it became self-gove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199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outla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252" t="1737" r="3723" b="3464"/>
          <a:stretch/>
        </p:blipFill>
        <p:spPr>
          <a:xfrm>
            <a:off x="3505320" y="609480"/>
            <a:ext cx="5638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ys’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97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’s income decreased while tax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968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s who could not pay their debts had their farms taken away by the cou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5764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ssachusetts farmer Daniel Shays and his supporters occupy a Massachusetts court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59:31Z</dcterms:created>
  <dc:creator>aberlin</dc:creator>
  <dc:description/>
  <dc:language>en-US</dc:language>
  <cp:lastModifiedBy>default</cp:lastModifiedBy>
  <dcterms:modified xsi:type="dcterms:W3CDTF">2009-08-29T17:25:58Z</dcterms:modified>
  <cp:revision>18</cp:revision>
  <dc:subject/>
  <dc:title>Slide 1</dc:title>
</cp:coreProperties>
</file>