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338-23AB-41B4-8906-C1654A06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21D-5531-4E62-BC67-ADD83E83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DD4-4832-4129-B645-6B306FA6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455-B80B-4AED-84EB-39DD1FC0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BDD-A601-4252-A9E1-FDF758A9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356-DE4E-4677-882A-A8A750B3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7A8-4A2F-46C1-84E4-4E4C3F7B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043-E82C-4CDF-B119-FEA4194D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802-C012-4CC7-BB74-7874704F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93C-3153-4458-AF3A-28E20C59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E7E-296F-4B55-A55B-4D4193B7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60E-2FC3-4E81-85A3-7817DFB7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87DE-44EC-4915-9112-003B68812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ps.ablongman.com/wps/media/objects/1483/1518969/DIVI117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rkwood.k12.mo.us/parent_student/khs/plattes/topics3and4/topics3and4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rps.org/amhersthistory/Shay&apos;s%20Pages/Sites/site4.htm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rangemaps.files.wordpress.com/2007/05/page2_large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otsweb.com/~ndsargen/stwnshp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e/Northwest-territory-usa-1787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rcRect l="0" t="7735" r="0" b="10463"/>
          <a:stretch/>
        </p:blipFill>
        <p:spPr>
          <a:xfrm>
            <a:off x="609480" y="914400"/>
            <a:ext cx="766944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examine the settlement of the Northwest Territory and the importance of Shays’ Rebe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in 1786, Daniel Shays led a group of farmers in an attempt to capture a federal ars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5942160" cy="594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3600" y="53341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n Fighting During Shays' Rebell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rcRect l="0" t="2167" r="0" b="0"/>
          <a:stretch/>
        </p:blipFill>
        <p:spPr>
          <a:xfrm>
            <a:off x="0" y="838080"/>
            <a:ext cx="886608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, without an organized army, was powerless. Massachusetts sent a militia to stop the rebe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ys’ Rebellion convinced many people that the U.S. needed a new, stronger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90720"/>
            <a:ext cx="79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ticles of Confederation needed to be repla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4490" r="0" b="0"/>
          <a:stretch/>
        </p:blipFill>
        <p:spPr>
          <a:xfrm>
            <a:off x="0" y="1459080"/>
            <a:ext cx="91407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920"/>
            <a:ext cx="7313760" cy="590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s is a picture of Daniel Shays grave in Scottsburg, 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38880" y="182880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gress surveyed the land into squares 6 miles on each side. (townshi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905120"/>
            <a:ext cx="1981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town was divided into 36 smaller sections, 640 acres each. (the cost was a minimum of $1 per ac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38880" y="1905120"/>
            <a:ext cx="19051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pooled their money in order to be able to afford a piece of l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rcRect l="5812" t="17003" r="6640" b="2049"/>
          <a:stretch/>
        </p:blipFill>
        <p:spPr>
          <a:xfrm>
            <a:off x="3240" y="-3240"/>
            <a:ext cx="686412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228600"/>
            <a:ext cx="228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oretical township diagram showing method of numbering sections with adjoining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" y="0"/>
            <a:ext cx="9140760" cy="600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867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wnship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rgent County, North Dak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680"/>
            <a:ext cx="86662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12408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population reached 60,000 free citizens, the area could apply for statehood. Ex.) OH, IN, IL, MI, 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rthwest Ordinance (17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8580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5,000 free males of voting age settled an area, it became self-gove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60199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ry was outla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252" t="1737" r="3723" b="3464"/>
          <a:stretch/>
        </p:blipFill>
        <p:spPr>
          <a:xfrm>
            <a:off x="3505320" y="609480"/>
            <a:ext cx="5638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ys’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397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’s income decreased while taxes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0968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s who could not pay their debts had their farms taken away by the cou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43520" y="0"/>
            <a:ext cx="51004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05764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ssachusetts farmer Daniel Shays and his supporters occupy a Massachusetts courtho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5:59:31Z</dcterms:created>
  <dc:creator>aberlin</dc:creator>
  <dc:description/>
  <dc:language>en-US</dc:language>
  <cp:lastModifiedBy>default</cp:lastModifiedBy>
  <dcterms:modified xsi:type="dcterms:W3CDTF">2009-08-29T17:25:58Z</dcterms:modified>
  <cp:revision>18</cp:revision>
  <dc:subject/>
  <dc:title>Slide 1</dc:title>
</cp:coreProperties>
</file>