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336-FF83-4081-ACD7-76D8120C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900-BA08-44C7-B173-B53B62C2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DA0-BA30-4A57-ABFE-D6425039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14DD-E382-41C3-BF30-A58B59E6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570-AA91-48F2-9E1C-59E4873B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645-EE90-4409-8EC8-6BDC80E6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CFD-BD7D-45F9-B34B-287E2D74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FE5-98AC-4751-A7F8-16F64C83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4948-DF01-425D-A88C-111D10A3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846B-1F5D-487D-A4E8-D4D0B1BE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70F-7778-4D18-8F48-D3F19DCF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1D0E-8637-48B5-9C06-589DD272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3FF4-D9C2-4F39-BA34-97B101615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constitution of the United States clearly states in the Preamble in order to form a more perfect union it does five things. What is the third thing it do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7720" y="2743200"/>
            <a:ext cx="83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vides for the common def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hat is the following object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57909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374840" y="2362320"/>
            <a:ext cx="600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Liberty Be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hat were the names of the five men who wrote the declaration of independenc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133720"/>
            <a:ext cx="469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Group 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Question #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080" y="1905120"/>
            <a:ext cx="9228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omas Jefferson, John Adam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jamin Franklin, Roger Sherma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Robert R. Livingst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at you have just experienced has been a small example of what it was like to be segregated.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im Crow laws were put in place to make the blacks of the south be limited in what they wanted to do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laws were in place in Transportation, health care, education, recreation, entertainment, and personal relationship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voting, blacks were given impossible tests to try to obtain the privilege to vot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 were defeated like you felt if you were on the “B team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have given up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82640" y="1600200"/>
            <a:ext cx="3386160" cy="4525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66680" y="62784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gar Ev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097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h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1600200"/>
            <a:ext cx="318456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1640" y="623736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. Al Shar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856040" y="1600200"/>
            <a:ext cx="362124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99160" y="6278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tta Scott 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at is this a picture of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Statue of Libert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373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4880" y="1600200"/>
            <a:ext cx="354312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6400" y="633888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lcolm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91120" y="1600200"/>
            <a:ext cx="3151080" cy="452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487120" y="6278400"/>
            <a:ext cx="23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sa P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21804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6278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sse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738680" y="1600200"/>
            <a:ext cx="3855960" cy="4525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8440" y="63388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uis Farrakh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4038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1440" y="6278400"/>
            <a:ext cx="44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tin Luther King J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8120" y="6278400"/>
            <a:ext cx="35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lph Abernat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343400" cy="2667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08040" y="37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19720" y="1295280"/>
            <a:ext cx="472428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403848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419720" y="3938760"/>
            <a:ext cx="4724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5486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46483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64832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951440" y="1600200"/>
            <a:ext cx="3430440" cy="4525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736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.E.B.Dub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400" y="60958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gomery Bus Boy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66960" cy="4876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13360" y="621180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ker T. Wash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20400" y="633888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a W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8920" y="6338880"/>
            <a:ext cx="33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rgood Mars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560" y="627840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SE PEOPLE DIDN’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385632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13080" y="633888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hael Schwer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018040" y="1600200"/>
            <a:ext cx="329724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16600" y="6313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mes Earl Cha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462560" cy="6126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9360" y="2895480"/>
            <a:ext cx="797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omas Ric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reator of Jim Crow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many American Colonies were in the revolutionary wa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7640" y="1981080"/>
            <a:ext cx="131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uestion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ho is this man?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409680"/>
            <a:ext cx="4697280" cy="6448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74160" y="2287440"/>
            <a:ext cx="9262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Nathan Bedford Fore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Founder of the KK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What country is this map showing?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160" y="2362320"/>
            <a:ext cx="86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United States of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roup B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How many states are 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Continental United Stat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6440" y="2209680"/>
            <a:ext cx="1677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Group A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o was the first President of the United State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9360" y="243828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3:58:23Z</dcterms:created>
  <dc:creator>Preferred Customer</dc:creator>
  <dc:description/>
  <dc:language>en-US</dc:language>
  <cp:lastModifiedBy>Preferred Customer</cp:lastModifiedBy>
  <dcterms:modified xsi:type="dcterms:W3CDTF">2005-02-09T01:35:22Z</dcterms:modified>
  <cp:revision>2</cp:revision>
  <dc:subject/>
  <dc:title>Group A Question #1</dc:title>
</cp:coreProperties>
</file>