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7FB-48BA-4CEB-BB27-425EC32A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143-2FCD-4CFC-A987-16D1BDFE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5CF-5098-4962-B4DB-53C10782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3EF-66F0-4312-B21B-13BA10EE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30D-847C-44B9-819E-4B94FCEC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7FF-0598-4E44-8728-A60AF27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41A-152D-46DB-9C04-8B6334B2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B63-43B9-4DD2-BAB8-AC4FA756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7B6-8C1C-4557-BF99-8F7A877D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53D-6E0C-4275-9792-39A00B4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F64-C965-4CBE-96C1-272F13B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359-5433-4AF6-9E97-B41AFA02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376E-1842-471E-8FAE-A585D34A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onstitution of the United States clearly states in the Preamble in order to form a more perfect union it does five things. What is the third thing it do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720" y="2743200"/>
            <a:ext cx="83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s for the common 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e following objec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840" y="236232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ere the names of the five men who wrote the declaration of independenc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33720"/>
            <a:ext cx="469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oup 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Question #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080" y="1905120"/>
            <a:ext cx="922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mas Jefferson, John Adam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jamin Franklin, Roger Sherm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Robert R. Livings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you have just experienced has been a small example of what it was like to be segregated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im Crow laws were put in place to make the blacks of the south be limited in what they wanted to do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laws were in place in Transportation, health care, education, recreation, entertainment, and personal relationship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voting, blacks were given impossible tests to try to obtain the privilege to v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were defeated like you felt if you were on the “B team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have given up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gar E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097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640" y="62373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. Al Shar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99160" y="6278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tta Scott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is a picture of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431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6400" y="6338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71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180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78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se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38680" y="1600200"/>
            <a:ext cx="385596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8440" y="6338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is Farrakh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40" y="62784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8120" y="62784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lph Abernat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0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938760"/>
            <a:ext cx="4724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648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1440" y="1600200"/>
            <a:ext cx="343044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736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.E.B.Dub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400" y="6095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Bus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66960" cy="487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3360" y="62118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0400" y="6338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a W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920" y="633888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560" y="62784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3080" y="63388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Schwe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16600" y="6313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mes Earl Ch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462560" cy="612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9360" y="2895480"/>
            <a:ext cx="797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omas Ri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reator of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American Colonies were in the revolutionary w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981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409680"/>
            <a:ext cx="4697280" cy="64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4160" y="2287440"/>
            <a:ext cx="926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athan Bedford For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under of the KK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country is this map showing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" y="2362320"/>
            <a:ext cx="86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many states are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ntinental United St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6440" y="2209680"/>
            <a:ext cx="167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o was the first President of the United State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3:58:23Z</dcterms:created>
  <dc:creator>Preferred Customer</dc:creator>
  <dc:description/>
  <dc:language>en-US</dc:language>
  <cp:lastModifiedBy>Preferred Customer</cp:lastModifiedBy>
  <dcterms:modified xsi:type="dcterms:W3CDTF">2005-02-09T01:35:22Z</dcterms:modified>
  <cp:revision>2</cp:revision>
  <dc:subject/>
  <dc:title>Group A Question #1</dc:title>
</cp:coreProperties>
</file>