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6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8B08-B149-47EE-8977-BF0C9DBAD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C0DF-E28D-4D1D-9D8A-38CC4331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E5AD-87D9-4D42-82A1-DB9F18B95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5467-873F-4E27-896E-42905ABF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D523-39D2-4905-900B-657BDF64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A950-B975-4BAF-83E2-DF51712B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116F-7514-42B1-AFF4-77616FFF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4FD3-7BAF-432E-AA1F-9EAC9038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2FDB-293A-416F-8152-8759F37D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CBCC-9719-42DB-ACED-E3212FE2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4EC8-09F9-410C-BC27-F8D9C087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F6D3-2882-4789-94B3-75CCEB83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2D37-C34D-4CE9-BCB0-9AAD56CDF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Group A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Question #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Group B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Question #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constitution of the United States clearly states in the Preamble in order to form a more perfect union it does five things. What is the third thing it do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7720" y="2743200"/>
            <a:ext cx="83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vides for the common defe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Group A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Question #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 is the following object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5790960" cy="5715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374840" y="2362320"/>
            <a:ext cx="6005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e Liberty Bel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B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were the names of the five men who wrote the declaration of independence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2133720"/>
            <a:ext cx="4698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Group 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Question #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1080" y="1905120"/>
            <a:ext cx="9228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omas Jefferson, John Adams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njamin Franklin, Roger Sherman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Robert R. Livingst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at you have just experienced has been a small example of what it was like to be segregated.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im Crow laws were put in place to make the blacks of the south be limited in what they wanted to do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se laws were in place in Transportation, health care, education, recreation, entertainment, and personal relationship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n voting, blacks were given impossible tests to try to obtain the privilege to v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y were defeated like you felt if you were on the “B team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Would you have given up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82640" y="1600200"/>
            <a:ext cx="3386160" cy="4525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66680" y="62784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dgar Ev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091120" y="1600200"/>
            <a:ext cx="3151080" cy="4525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409720" y="627840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h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84160" y="1600200"/>
            <a:ext cx="3184560" cy="4525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21640" y="623736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. Al Shar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856040" y="1600200"/>
            <a:ext cx="362124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799160" y="6278400"/>
            <a:ext cx="37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retta Scott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at is this a picture of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e Statue of Libert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373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04880" y="1600200"/>
            <a:ext cx="3543120" cy="4525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26400" y="6338880"/>
            <a:ext cx="19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lcolm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091120" y="1600200"/>
            <a:ext cx="3151080" cy="4525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487120" y="627840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sa P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3218040" cy="4525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85800" y="6278400"/>
            <a:ext cx="304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sse Jack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738680" y="1600200"/>
            <a:ext cx="3855960" cy="4525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38440" y="633888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uis Farrakh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495680" cy="4038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018040" y="1600200"/>
            <a:ext cx="3297240" cy="4525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-1440" y="6278400"/>
            <a:ext cx="44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tin Luther King J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28120" y="6278400"/>
            <a:ext cx="354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lph Abernath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4343400" cy="2667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08040" y="3770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419720" y="1295280"/>
            <a:ext cx="4724280" cy="2590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4038480"/>
            <a:ext cx="4267080" cy="2819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419720" y="3938760"/>
            <a:ext cx="472428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181480" y="1371600"/>
            <a:ext cx="3962520" cy="5486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3733920"/>
            <a:ext cx="4648320" cy="3124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1143000"/>
            <a:ext cx="464832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4648320" cy="4190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951440" y="1600200"/>
            <a:ext cx="3430440" cy="4525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37360" y="6338880"/>
            <a:ext cx="25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.E.B.Dubo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0400" y="60958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tgomery Bus Boyc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666960" cy="4876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018040" y="1600200"/>
            <a:ext cx="3297240" cy="4525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013360" y="621180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oker T. Wash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20400" y="6338880"/>
            <a:ext cx="17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a W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3297240" cy="4525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38920" y="6338880"/>
            <a:ext cx="33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urgood Marsh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018040" y="1600200"/>
            <a:ext cx="3297240" cy="4525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335560" y="6278400"/>
            <a:ext cx="246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 War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385632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13080" y="633888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chael Schwer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018040" y="1600200"/>
            <a:ext cx="3297240" cy="4525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016600" y="6313320"/>
            <a:ext cx="35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ames Earl Chan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Group B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#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Who is this man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462560" cy="6126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9360" y="2895480"/>
            <a:ext cx="797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omas Ric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creator of Jim Crow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Group A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Question #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ow many American Colonies were in the revolutionary wa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87640" y="198108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Group B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Question #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Who is this man?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33720" y="409680"/>
            <a:ext cx="4697280" cy="6448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-74160" y="2287440"/>
            <a:ext cx="9262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Nathan Bedford Fores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Founder of the KK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Group A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Question #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hat country is this map showing?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160" y="2362320"/>
            <a:ext cx="86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United States of Amer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Group B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#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How many states are 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Continental United Stat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36440" y="2209680"/>
            <a:ext cx="1677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7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Group A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Question #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ho was the first President of the United States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49360" y="2438280"/>
            <a:ext cx="66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23:58:23Z</dcterms:created>
  <dc:creator>Preferred Customer</dc:creator>
  <dc:description/>
  <dc:language>en-US</dc:language>
  <cp:lastModifiedBy>Preferred Customer</cp:lastModifiedBy>
  <dcterms:modified xsi:type="dcterms:W3CDTF">2005-02-09T01:35:22Z</dcterms:modified>
  <cp:revision>2</cp:revision>
  <dc:subject/>
  <dc:title>Group A Question #1</dc:title>
</cp:coreProperties>
</file>