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B9B-6E55-4D68-867E-5796C31D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8164-978F-434C-8E0C-5D7230F8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7AF-ADC7-4AAB-89B9-FF079BFE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F4B-A926-496C-A365-5F0B3D2A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BF89-673F-45F9-A358-228B4931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F4A-F551-40BD-AF89-38B4688C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DE3-F270-48CB-ADCB-89AFCA98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0C4A-B096-4C81-80F9-F0E67E75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A525-1F46-4B3F-B621-74161DBF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87B-6625-47C7-9B91-FE0E58B3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FAF-FDED-4C80-AC8D-E3DCC8F4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0BDE-6FE2-4305-B527-0AEF351C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367C-A1DE-4EFF-B8B9-9C7EBE538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 #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Question #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onstitution of the United States clearly states in the Preamble in order to form a more perfect union it does five things. What is the third thing it do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7720" y="2743200"/>
            <a:ext cx="83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vides for the common def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stion #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is the following object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909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4840" y="2362320"/>
            <a:ext cx="60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Liberty Be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were the names of the five men who wrote the declaration of independence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133720"/>
            <a:ext cx="469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Group 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Question #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080" y="1905120"/>
            <a:ext cx="9228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omas Jefferson, John Adam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jamin Franklin, Roger Sherma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Robert R. Livingst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you have just experienced has been a small example of what it was like to be segregated.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im Crow laws were put in place to make the blacks of the south be limited in what they wanted to do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se laws were in place in Transportation, health care, education, recreation, entertainment, and personal relationship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n voting, blacks were given impossible tests to try to obtain the privilege to v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y were defeated like you felt if you were on the “B team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ould you have given up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82640" y="1600200"/>
            <a:ext cx="338616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66680" y="6278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gar Ev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91120" y="1600200"/>
            <a:ext cx="315108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09720" y="62784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h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84160" y="1600200"/>
            <a:ext cx="318456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1640" y="623736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. Al Shar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56040" y="1600200"/>
            <a:ext cx="362124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99160" y="62784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etta Scott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this a picture of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Statue of Liber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373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4880" y="1600200"/>
            <a:ext cx="354312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6400" y="633888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lcolm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91120" y="1600200"/>
            <a:ext cx="315108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487120" y="62784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sa P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21804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627840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sse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38680" y="1600200"/>
            <a:ext cx="385596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8440" y="633888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uis Farrakh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403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1440" y="6278400"/>
            <a:ext cx="44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tin Luther King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8120" y="6278400"/>
            <a:ext cx="35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lph Abernath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4343400" cy="2667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08040" y="377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472428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419720" y="3938760"/>
            <a:ext cx="47242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5486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46483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648320" cy="4190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1440" y="1600200"/>
            <a:ext cx="343044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736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.E.B.Dub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400" y="60958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tgomery Bus Boy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666960" cy="4876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13360" y="62118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oker T.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20400" y="633888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a W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8920" y="6338880"/>
            <a:ext cx="33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urgood Mars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5560" y="6278400"/>
            <a:ext cx="24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 War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385632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3080" y="633888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hael Schwe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16600" y="63133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mes Earl Cha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#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Who is this ma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462560" cy="612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9360" y="2895480"/>
            <a:ext cx="797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omas Ric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creator of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 #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many American Colonies were in the revolutionary wa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7640" y="19810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Question #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Who is this man?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409680"/>
            <a:ext cx="4697280" cy="644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74160" y="2287440"/>
            <a:ext cx="926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Nathan Bedford For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Founder of the KK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stion #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country is this map showing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160" y="2362320"/>
            <a:ext cx="86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United States of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#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ow many states are 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Continental United Stat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6440" y="2209680"/>
            <a:ext cx="1677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 #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o was the first President of the United States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9360" y="243828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23:58:23Z</dcterms:created>
  <dc:creator>Preferred Customer</dc:creator>
  <dc:description/>
  <dc:language>en-US</dc:language>
  <cp:lastModifiedBy>Preferred Customer</cp:lastModifiedBy>
  <dcterms:modified xsi:type="dcterms:W3CDTF">2005-02-09T01:35:22Z</dcterms:modified>
  <cp:revision>2</cp:revision>
  <dc:subject/>
  <dc:title>Group A Question #1</dc:title>
</cp:coreProperties>
</file>