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11C9-384E-4DD0-B308-69B9390B4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F1CF-091D-440E-8119-978C2BFF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3E91-8C38-4481-9085-0A547166E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D27E-B282-4F6B-A440-A61625A36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B3D1-BBC5-4518-B4F1-DEBC2B9C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C16C-0DF9-4BE4-9AD0-64796B57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9990-6417-4BA4-80D9-E0EECA67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4262-950A-486B-9388-873842BE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FBEC-F6DD-43C3-BAF5-2333BD2D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08AC-AAAC-4187-A1AE-35394AC3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F653-FEAA-4C82-B7AE-B6328140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C879-4250-49A3-8BB6-3D2E3275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1750-98A8-4A41-B114-9F20C297A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ksonian Democracy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were women more frequently hired to work in the facto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be paid less than 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rothea Dix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ocate for mental illness re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ublic educational system that existed in the United States before 1830 can be described 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3429000"/>
            <a:ext cx="769608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mand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only rich male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laration of Sentime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men and women are created equal issued at the Seneca falls Confer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riet Tubm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uctor on the Underground Rail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 had the right to vote in the United States in the late 1700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 males with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ttle of Tippecanoe in 1811 was betwee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s and Native Americ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were the organizers of the women's rights convention held in Seneca Falls, New York in 184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zabeth Cady Stanton and Lucretia Mo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race Man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ormer for public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ncipal goal of the supporters of Manifest Destin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pread the USA from the Atlantic ocean to the Pacific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an removal act resulted in wha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ans forced to move west of the Mississippi river to Oklahoma terri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limate and topography of the southeastern United States can be characterized 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ral and agricul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iffs in the 19th century were intended 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government revenue and protect American manufactu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appened at a state dinner at the white House between Jackson and Calhou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d each other’s views on null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Kitchen Cabi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official advisors to Jack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major Tariff of Jackson's administration was passed in what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ckson was nicknamed "Old Hickory” because?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hard and st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state threatened to secede during the Nullification Cris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 Car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ariff of 1828 caused what crisis to happe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llification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"corrupt bargain" after the election of 1824 concerned w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son accused Henry Clay of this because he did not get elected president and instead John Quincy Adams d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ckson asked Congress to do what regarding the bank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use spe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rail of Tears is what rout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rokee traveled from Georgia to Oklah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e 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ld and sil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Era of Good Feelings is known f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transportation. Better inventions and technology. Stable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made  transportation on rivers more effic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ton’s steam bo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what order in did these presidents ser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ton, Adams ,Jefferson, Madison, Monroe, Jack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roe Doctr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 to stay out of North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uropean  colonies in the Amer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derick Douglas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litionist against sla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riet Beecher Stow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ote book against slavery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cle Toms’ Cab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izabeth Cady Stant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es the woman’s rights conference at Seneca f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ourt case established the Supreme Court’s power of judicial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bury v. Mad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President introduced the present day Democratic par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what order did people earn the right to vote 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 males with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 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ck and white 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rew Jackson’s number one prior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tion or Federal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rew Jackson's vice presid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h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lienated Andrew Jackson from John Calhou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ggy Eaton Aff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“nullification crisis” of 1832-1833 was abou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iff of 18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’s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rew Jackson’s 3 charges against the Bank of the United Stat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te rich people controlled the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 was a tyrant and used money to corrupt politic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-wes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id Andrew Jackson’s administration support the removal of Native America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s wanted their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ffrage 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id Andrew Jackson extend suffrag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ve it to all white males with no property requirement attac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all reason for the War of 181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essment and concern over western lands of North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exander Hamilton's economic plan for the U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bank of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ilize cur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taxes and tariffs to increase government reve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formed a confederation of tribes in an effort to prevent further expansion of white settl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umse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eal to the common man is call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ist or popu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y’s American System consists of what 3 item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 a national 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a national transport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the 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a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s factory system with water powered mills in Rhode I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cCulloch v. Mary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reme Court case that says states do not have right to tax national 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818 convention settled what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rallel as boundary with Canada in the w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1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dams– Onis Trea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ed Florida to America and gave Spanish lands east of the Mississippi river to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erica for Americans”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roe Doctrine in a nut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linked western markets to New York 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ie Ca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ifest Destiny is the belief that Americans have the right to do w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3047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ess all of the American continent from the Atlantic to the Pacific Ocean for themsel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t invented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am 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6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were the Native American and American  views on land ownershi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s all about owning the land privately, Native Americans not at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poils system 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victorious political party to fill public offices with their suppor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li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ainst sla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nckney's Treaty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ed commerce with Canada and Great Bri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s 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large number of parts and use to make a lot of a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4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hn Calhoun, Vice-president to Andrew Jackson, from South Carolina believed that what rights reigned supre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ess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dnapping of American sailors on to British 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worked to reduce the consumption of alcoho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nce socie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Southerners' argument used in defense of slave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ontribute to a prosperous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id the cotton gin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seeds from cot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slavery in the s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4:08:55Z</dcterms:created>
  <dc:creator>ldesaulniers</dc:creator>
  <dc:description/>
  <dc:language>en-US</dc:language>
  <cp:lastModifiedBy>ldesaulniers</cp:lastModifiedBy>
  <dcterms:modified xsi:type="dcterms:W3CDTF">2008-12-03T20:29:59Z</dcterms:modified>
  <cp:revision>3</cp:revision>
  <dc:subject/>
  <dc:title>Indian removal act resulted in what? </dc:title>
</cp:coreProperties>
</file>