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7E3-0C5C-496E-8C00-C7C9CE12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C80-5394-4CB4-AE4A-478F96F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E30-E8B8-47EE-A263-B6E6E558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892-FD2A-469C-BD69-88E8ADAB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4BD-229E-4BD5-8565-A5E58467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C0C-5A27-4909-B0CD-362F6D81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C5C-2D1C-4C8E-8E4E-A8B251D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A5A-8972-4A95-8A22-DAE0931A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0EF-4075-469C-8DB4-F609EC80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85F-CA96-4513-B3EF-BF9DD72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E59-1138-4A23-9C9A-2906A6E8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D3C-F247-4C0C-AD2F-75B08D2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AD76-F166-46F8-A6B8-8FF613178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Democrac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ere women more frequently hired to work in the fa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paid les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te for mental illness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educational system that existed in the United States before 1830 can be described 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7696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nly rich ma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on of Senti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n and women are created equal issued at the Seneca falls Con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 had the right to vote in the United States in the late 1700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Tippecanoe in 1811 wa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organizers of the women's rights convention held in Seneca Falls, New York in 18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Cady Stanton and Lucretia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er for public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al goal of the supporters of Manifest Desti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read the USA from the Atlantic ocean to the Pacif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removal act result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s forced to move west of the Mississippi river to Oklahoma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imate and topography of the southeastern United States can be characterized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and 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ffs in the 19th century were intended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vernment revenue and protect American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t a state dinner at the white House between Jackson and Calho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d each other’s views on nul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itchen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fficial advisors to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major Tariff of Jackson's administration was passed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was nicknamed "Old Hickory” becau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rd and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ate threatened to secede during the Nullification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riff of 1828 caused what crisis to happ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"corrupt bargain" after the election of 1824 concerne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accused Henry Clay of this because he did not get elected president and instead John Quincy Adams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asked Congress to do what regarding the ban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il of Tears is what rou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traveled from Georgia to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ra of Good Feelings is known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ransportation. Better inventions and technology. Stabl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de  transportation on rivers more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ton’s steam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in did these presidents se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Adams ,Jefferson, Madison, Monroe,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to stay out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uropean  colonies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ist 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Beecher Sto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book against slavery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cle Toms’ Ca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the woman’s rights conference at Seneca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rt case established the Supreme Court’s power of 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resident introduced the present day Democratic par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did people earn the right to vot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nd 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number one prio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or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's vice presi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h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lienated Andrew Jackson from John Calhou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gy Eaton Af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“nullification crisis” of 1832-1833 was abo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iff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3 charges against the Bank of the United St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te rich people controlled th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 was a tyrant and used money to corrupt 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Andrew Jackson’s administration support the removal of Native 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wanted thei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ffrag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Andrew Jackson extend suffra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it to all white males with no property requirement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reason for the War of 181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 and concern over western lands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Hamilton's economic plan for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bank of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axes and tariffs to increase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formed a confederation of tribes in an effort to prevent further expansion of white sett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al to the common man is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t or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y’s American System consists of what 3 ite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national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factory system with water powered mills in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ulloch v. Mary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case that says states do not have right to tax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 convention settled wha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s boundary with Canada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ams– Onis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Florida to America and gave Spanish lands east of the Mississippi river t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for Americans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 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inked western markets to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 is the belief that Americans have the right to do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 all of the American continent from the Atlantic to the Pacific Ocean for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t invent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Native American and American  views on land ow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ll about owning the land privately, Native Americans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ils syste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victorious political party to fill public offices with their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l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ckney's Trea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commerce with Canada and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arge number of parts and use to make a lot of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alhoun, Vice-president to Andrew Jackson, from South Carolina believed that what rights reigned supr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ing of American sailors on to British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orked to reduce the consumption of 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nce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utherners' argument used in defense of sla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ibute to a prosper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cotton gi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eeds from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lavery in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08:55Z</dcterms:created>
  <dc:creator>ldesaulniers</dc:creator>
  <dc:description/>
  <dc:language>en-US</dc:language>
  <cp:lastModifiedBy>ldesaulniers</cp:lastModifiedBy>
  <dcterms:modified xsi:type="dcterms:W3CDTF">2008-12-03T20:29:59Z</dcterms:modified>
  <cp:revision>3</cp:revision>
  <dc:subject/>
  <dc:title>Indian removal act resulted in what? </dc:title>
</cp:coreProperties>
</file>