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B83-724C-4E64-BA6D-DFE39879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7D3-41AB-4810-8DC3-6D1E286A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709-D2B2-4DF3-B090-B87783D8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AB2-4F2F-4D46-B27C-2C0E5468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9089-8379-4EB1-8F8E-DB42A3C8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1B9-5186-469D-8BDC-1940ED29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F0E-6520-4B3A-90A0-8C43E9D7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4E7-BB35-46FB-9D6F-6039CEF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A21-A5E1-4632-AA0F-8FF5EFFB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696-AAF9-4E73-AE08-B5A90AD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8DC-F4F4-4C27-96B7-56584CD7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590-F1AB-4D45-90CA-D204037E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0411-6E2D-4E35-99B5-35F58482C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Democrac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ere women more frequently hired to work in the fact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paid less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othea D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te for mental illness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blic educational system that existed in the United States before 1830 can be described 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429000"/>
            <a:ext cx="7696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nly rich ma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on of Senti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n and women are created equal issued at the Seneca falls Con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n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 had the right to vote in the United States in the late 1700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 of Tippecanoe in 1811 wa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nd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ere the organizers of the women's rights convention held in Seneca Falls, New York in 18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Cady Stanton and Lucretia M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ace Man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er for public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al goal of the supporters of Manifest Desti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pread the USA from the Atlantic ocean to the Pacif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removal act result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s forced to move west of the Mississippi river to Oklahoma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imate and topography of the southeastern United States can be characterized 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 and agri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ffs in the 19th century were intended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government revenue and protect American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at a state dinner at the white House between Jackson and Calho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d each other’s views on nul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itchen Cabi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fficial advisors to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major Tariff of Jackson's administration was passed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was nicknamed "Old Hickory” because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hard and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ate threatened to secede during the Nullification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riff of 1828 caused what crisis to happ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"corrupt bargain" after the election of 1824 concerne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accused Henry Clay of this because he did not get elected president and instead John Quincy Adams 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asked Congress to do what regarding the ban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il of Tears is what rou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traveled from Georgia to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nd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ra of Good Feelings is known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ransportation. Better inventions and technology. Stabl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de  transportation on rivers more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ton’s steam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in did these presidents ser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Adams ,Jefferson, Madison, Monroe,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 to stay out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uropean  colonies in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Doug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ist 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Beecher Sto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book against slavery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cle Toms’ Ca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Cady Stan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s the woman’s rights conference at Seneca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urt case established the Supreme Court’s power of judici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President introduced the present day Democratic par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did people earn the right to vot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and 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number one prio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or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's vice presi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h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lienated Andrew Jackson from John Calhou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ggy Eaton Af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“nullification crisis” of 1832-1833 was abo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iff of 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3 charges against the Bank of the United St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te rich people controlled th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 was a tyrant and used money to corrupt poli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Andrew Jackson’s administration support the removal of Native Ameri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s wanted thei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ffrag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Andrew Jackson extend suffra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it to all white males with no property requirement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reason for the War of 181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ment and concern over western lands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ander Hamilton's economic plan for the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bank of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axes and tariffs to increase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formed a confederation of tribes in an effort to prevent further expansion of white sett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al to the common man is ca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t or popu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y’s American System consists of what 3 ite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national transpor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h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factory system with water powered mills in 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ulloch v. Mary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case that says states do not have right to tax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8 convention settled what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llel as boundary with Canada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ams– Onis Tre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Florida to America and gave Spanish lands east of the Mississippi river t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for Americans”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roe Doctrine in a nut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inked western markets to New York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 is the belief that Americans have the right to do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ess all of the American continent from the Atlantic to the Pacific Ocean for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t invent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Native American and American  views on land ow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ll about owning the land privately, Native Americans not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ils system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victorious political party to fill public offices with their 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l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ckney's Trea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commerce with Canada and Great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arge number of parts and use to make a lot of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Calhoun, Vice-president to Andrew Jackson, from South Carolina believed that what rights reigned supre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apping of American sailors on to British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orked to reduce the consumption of alcoh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nce soc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utherners' argument used in defense of slav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ibute to a prosperous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cotton gin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eeds from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lavery in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08:55Z</dcterms:created>
  <dc:creator>ldesaulniers</dc:creator>
  <dc:description/>
  <dc:language>en-US</dc:language>
  <cp:lastModifiedBy>ldesaulniers</cp:lastModifiedBy>
  <dcterms:modified xsi:type="dcterms:W3CDTF">2008-12-03T20:29:59Z</dcterms:modified>
  <cp:revision>3</cp:revision>
  <dc:subject/>
  <dc:title>Indian removal act resulted in what? </dc:title>
</cp:coreProperties>
</file>