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C29-F9D0-478B-B686-253E660F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041-9F91-4DC1-B341-099A02A9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14D-49F2-4D13-A755-2DB8F68E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5A4-BAC3-4CD9-AC40-057B916C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7317-7F8F-437E-A30C-B85325F1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9C0F-B470-4D1A-84C4-BF21046F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39DD-7A4D-48AF-850D-3FE5717C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3DC7-1CB8-47B4-86DF-922C23B0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538F-B3D0-4926-B94E-B7A6DA9C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0717-5D0B-4900-9BD8-9EE8D122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B946-12E8-4006-B1DB-129D0551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B21-9EFA-4887-8F30-F7A676BC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B5B6-EE49-41C2-8B80-8A9471A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6786-6BA6-498B-8150-DB3E95FD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6320-EDD8-41D5-964C-4D961C9D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CC6A-DE8B-4EE5-8126-C85B9A76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C875-59D8-4A70-AC05-A9B360A9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746-7E74-41FF-9B89-EABA6B13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80C-1A37-493B-A705-B92EA8ED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8D2-4A8E-4F03-80B3-DE7FC5EF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A6F-B1FB-4CDD-A8FC-756EE54F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79A-1797-4298-9D1B-B980C887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A7A-2D4A-4C6C-9E2D-EC411A3E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F1E-773D-4F8E-9EC2-063DCAB9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0216-3C49-4217-91F2-45FC17F30E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578F-12C5-4025-92FE-E78A581530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onturk.net/images/mammoth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worldencyclopedia.org/entry/Image:Europe_map_de_2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hyfiles.org/coolimages/images/csi/gol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b5481"/>
                </a:solidFill>
                <a:latin typeface="Tahoma"/>
              </a:rPr>
              <a:t>Some Necessary Background on Why you are in the United States and sitting in that chair toda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624852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Mission Sites in Geor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1587-17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b5481"/>
                </a:solidFill>
                <a:uFillTx/>
                <a:latin typeface="Tahoma"/>
              </a:rPr>
              <a:t>6. Philosophic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begi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“Ed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place to try out the philosophies of the old country and see if they work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n outlet for the daring, adventurous element of Europe (and it did not hurt if you made a fortune or proved a theory in the do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72120" y="0"/>
            <a:ext cx="3971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b5481"/>
                </a:solidFill>
                <a:uFillTx/>
                <a:latin typeface="Tahoma"/>
              </a:rPr>
              <a:t>7. Ecologic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808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urope is in a “little ice age” that does not end until the late 1800’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ome areas are starving as their climate gets worse leading to a quest for survival and an 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outreach for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Some climates are much better leading to a population explosion in those areas and an outreach to find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9960" y="1371600"/>
            <a:ext cx="3587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9880"/>
            <a:ext cx="3352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</a:rPr>
              <a:t>Major European Explorer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of the America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9144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erigo Vespucci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Portugal- anything familiar about his na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agellan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Spain-first to sail around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lumbus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rom Spain- Looking for a short route to China and ran into the Americas. At least we get his name day of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59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hn Cabo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s” Nova Scot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John Cabot"/>
          <p:cNvPicPr/>
          <p:nvPr/>
        </p:nvPicPr>
        <p:blipFill>
          <a:blip r:embed="rId1"/>
          <a:stretch/>
        </p:blipFill>
        <p:spPr>
          <a:xfrm>
            <a:off x="457200" y="2435400"/>
            <a:ext cx="40384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Settling of 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t Colony” of Croa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Reminder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Not everyone came to the “New World” of their own free 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lav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riso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aptu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mpress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ail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609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1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Others had been here for a very long time…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40360" cy="461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23072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800600" y="2057400"/>
            <a:ext cx="4114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The End by Miz 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1814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Background on </a:t>
            </a:r>
            <a:br>
              <a:rPr sz="4000"/>
            </a:b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Early Amer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87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siatic peoples, Chinese, Polynesians, Irish, Vikings may have come to the Americas before the Europeans. They left almost no trace of being 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people believe present day Native Americans came via the Bering Land Bridge (Russia to Alaska) during an ice age in search of 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ventually parts of the Americas had thriving empires like the Aztec and May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of North America was inhabited by Stone Age, nomad peoples at the time the Europeans came. We used to call them “Indians”. Now we call them Native Amer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2b5481"/>
                </a:solidFill>
                <a:latin typeface="Jester"/>
              </a:rPr>
              <a:t>Factors that lead to the European colonization of the continent of North America</a:t>
            </a:r>
            <a:r>
              <a:rPr b="0" lang="en-US" sz="4400" spc="-1" strike="noStrike">
                <a:solidFill>
                  <a:srgbClr val="2b5481"/>
                </a:solidFill>
                <a:latin typeface="Jester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2895120"/>
            <a:ext cx="5334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ational/Nation State Rival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heory of Mercanti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nomic Opport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trategic Pos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Relig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Philosoph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log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3581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b5481"/>
                </a:solidFill>
                <a:uFillTx/>
                <a:latin typeface="Comic Sans MS"/>
              </a:rPr>
              <a:t>1. National Rivalr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Rise of Nation States in Eur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Fierce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mpetition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between the countries of France, Portugal, Italy, England, Spain. Who’s the biggest, the “baddest”, the richest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r and Trade wer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how competi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s express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A map of countries of Europe, where the ideal of the &quot;nation-state&quot; aros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076640"/>
            <a:ext cx="3886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38480" y="45684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2.</a:t>
            </a:r>
            <a:r>
              <a:rPr b="1" lang="en-US" sz="4400" spc="-1" strike="noStrike" u="sng">
                <a:solidFill>
                  <a:srgbClr val="009999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Mercantili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eory that if one country’s wealth increased, some other country’s wealth would decrease because there was only a finite amount of wealth in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Wealth was measured in gold and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To protect their gold and silver,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untries had to increase their trade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, armies and nav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Colonies were also a way to increase  resources that could be used for trade/ markets and increase w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3.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Economic</a:t>
            </a:r>
            <a:r>
              <a:rPr b="1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opportunity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provid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aw materials that could be made into exports to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were a Closed market for selling finished goods of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are an Investment opport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lonies will generally make a “mother’ country ri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2b5481"/>
                </a:solidFill>
                <a:uFillTx/>
                <a:latin typeface="Tahoma"/>
              </a:rPr>
              <a:t>4. Strategic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ew colonies  in positions near trade routes or other powers could supply raw materials, defense, soldiers, resources, safe havens in times of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1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5. Religious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oman Catholics from Spain, Portugal, and France sought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nverts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to Catholic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Protestants fled to the New World to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scape religious persecution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at hom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eligions saw a place they could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orship freely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without the interference of the s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3:30:43Z</dcterms:created>
  <dc:creator>Preferred Customer</dc:creator>
  <dc:description/>
  <dc:language>en-US</dc:language>
  <cp:lastModifiedBy>ldesaulniers</cp:lastModifiedBy>
  <dcterms:modified xsi:type="dcterms:W3CDTF">2008-08-11T19:20:10Z</dcterms:modified>
  <cp:revision>14</cp:revision>
  <dc:subject/>
  <dc:title>The factors that led to the colonization of the continent of North America   </dc:title>
</cp:coreProperties>
</file>