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04EE-EEAE-4EF0-966D-5D35A1E2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3386-154C-41EF-AEB2-A703812E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D4C-080C-45A4-8C16-67AFD9EE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DCAC-251C-44A8-B8E7-BF8CB953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101E-A4A3-49F2-93FC-7B48F0CA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04B0-6EC8-4DC9-90A6-B51370AA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DE4E-3EC3-4FF4-94FA-77E8C570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4A3E-AD68-45DD-97D7-ECD61855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C366-9CC1-4D3B-8E24-98A4F11E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5195-FA7D-4221-A23F-FE3653F5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C2FB-F9F2-40C6-9B50-A4BAAF89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448-4A19-4EE7-8CCB-417CEF02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A5C0-CB78-47D9-890F-0C2D09CD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7EDB-1BC1-41D2-85AE-874F4258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B8C9-4788-4622-81B6-4A59BD05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EA51-F4E9-48E4-8789-F7A34058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C73D-322F-4950-8B90-F644609A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66E0-734E-4B64-8879-81E9BC27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9914-5694-499F-B483-8A5C424E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F1B1-7B6F-48A8-95A7-F246BEAE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64FA-A20F-4E88-8FDE-881E4DED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6537-25EB-48C8-BF12-CD991792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35E2-76D0-4545-AE90-18233350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FB98-750D-44B9-9DBA-BA2C9D5F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DB29-53C5-4E35-B152-141A54966F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D3A2-D2DA-4D01-A239-3618E5B2B4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onturk.net/images/mammoth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ewworldencyclopedia.org/entry/Image:Europe_map_de_2.p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hyfiles.org/coolimages/images/csi/gold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b5481"/>
                </a:solidFill>
                <a:latin typeface="Tahoma"/>
              </a:rPr>
              <a:t>Some Necessary Background on Why you are in the United States and sitting in that chair today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0"/>
            <a:ext cx="6248520" cy="1800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5481"/>
                </a:solidFill>
                <a:latin typeface="Tahoma"/>
              </a:rPr>
              <a:t>Mission Sites in Georg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1587-17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4572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2b5481"/>
                </a:solidFill>
                <a:uFillTx/>
                <a:latin typeface="Tahoma"/>
              </a:rPr>
              <a:t>6. Philosophic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new 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new begi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new “Ede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 place to try out the philosophies of the old country and see if they work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5481"/>
                </a:solidFill>
                <a:latin typeface="Tahoma"/>
              </a:rPr>
              <a:t>An outlet for the daring, adventurous element of Europe (and it did not hurt if you made a fortune or proved a theory in the do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72120" y="0"/>
            <a:ext cx="397188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4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724280" y="30456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2b5481"/>
                </a:solidFill>
                <a:uFillTx/>
                <a:latin typeface="Tahoma"/>
              </a:rPr>
              <a:t>7. Ecologic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380880"/>
            <a:ext cx="4572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Europe is in a “little ice age” that does not end until the late 1800’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ome areas are starving as their climate gets worse leading to a quest for survival and an </a:t>
            </a: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outreach for more land, food, 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Some climates are much better leading to a population explosion in those areas and an outreach to find more land, food, 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79960" y="1371600"/>
            <a:ext cx="3587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809880"/>
            <a:ext cx="33526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</a:rPr>
              <a:t>Major European Explorers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of the America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33920" y="91440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merigo Vespucci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from Portugal- anything familiar about his nam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Magellan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from Spain-first to sail around the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lumbus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rom Spain- Looking for a short route to China and ran into the Americas. At least we get his name day off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591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ohn Cabo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al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497- Explores northeast North America for Engla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overs” Nova Scot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s England its first claim to North American la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John Cabot"/>
          <p:cNvPicPr/>
          <p:nvPr/>
        </p:nvPicPr>
        <p:blipFill>
          <a:blip r:embed="rId1"/>
          <a:stretch/>
        </p:blipFill>
        <p:spPr>
          <a:xfrm>
            <a:off x="457200" y="2435400"/>
            <a:ext cx="403848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glish Settling of Amer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r Walter Raleig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87- given permission to start a colony in Virgin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anoke- first colony in Amer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anish prevent supplies getting to colon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91- supplies arrive, but colony is go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st Colony” of Croat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3516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Reminder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Not everyone came to the “New World” of their own free 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lav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Priso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aptu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Impress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ail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6095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1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7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3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6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nd Others had been here for a very long time…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240360" cy="4614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423072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1476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800600" y="2057400"/>
            <a:ext cx="4114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The End by Miz 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181480" cy="1371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481"/>
                </a:solidFill>
                <a:latin typeface="Tahoma"/>
              </a:rPr>
              <a:t>Background on </a:t>
            </a:r>
            <a:br>
              <a:rPr sz="4000"/>
            </a:br>
            <a:r>
              <a:rPr b="0" lang="en-US" sz="4000" spc="-1" strike="noStrike">
                <a:solidFill>
                  <a:srgbClr val="2b5481"/>
                </a:solidFill>
                <a:latin typeface="Tahoma"/>
              </a:rPr>
              <a:t>Early Americ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87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Asiatic peoples, Chinese, Polynesians, Irish, Vikings may have come to the Americas before the Europeans. They left almost no trace of being he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Most people believe present day Native Americans came via the Bering Land Bridge (Russia to Alaska) during an ice age in search of f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Eventually parts of the Americas had thriving empires like the Aztec and May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Tahoma"/>
              </a:rPr>
              <a:t>Most of North America was inhabited by Stone Age, nomad peoples at the time the Europeans came. We used to call them “Indians”. Now we call them Native Americ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0"/>
            <a:ext cx="37339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Native Americans of North America -- Media -- Encarta ® Online 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US" sz="3600" spc="-1" strike="noStrike">
                <a:solidFill>
                  <a:srgbClr val="2b5481"/>
                </a:solidFill>
                <a:latin typeface="Jester"/>
              </a:rPr>
              <a:t>Factors that lead to the European colonization of the continent of North America</a:t>
            </a:r>
            <a:r>
              <a:rPr b="0" lang="en-US" sz="4400" spc="-1" strike="noStrike">
                <a:solidFill>
                  <a:srgbClr val="2b5481"/>
                </a:solidFill>
                <a:latin typeface="Jester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2895120"/>
            <a:ext cx="5334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National/Nation State Rival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Theory of Mercanti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Economic Opportun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Strategic Positio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Religi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Philosoph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2b5481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Ecologic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35812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2b5481"/>
                </a:solidFill>
                <a:uFillTx/>
                <a:latin typeface="Comic Sans MS"/>
              </a:rPr>
              <a:t>1. National Rivalr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Rise of Nation States in Europ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Fierce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ompetition</a:t>
            </a: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 between the countries of France, Portugal, Italy, England, Spain. Who’s the biggest, the “baddest”, the richest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War and Trade wer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how competitio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9999"/>
                </a:solidFill>
                <a:latin typeface="Tahoma"/>
              </a:rPr>
              <a:t>was express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A map of countries of Europe, where the ideal of the &quot;nation-state&quot; aros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4076640"/>
            <a:ext cx="3886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38480" y="456840"/>
            <a:ext cx="4648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Tahoma"/>
              </a:rPr>
              <a:t>2.</a:t>
            </a:r>
            <a:r>
              <a:rPr b="1" lang="en-US" sz="4400" spc="-1" strike="noStrike" u="sng">
                <a:solidFill>
                  <a:srgbClr val="009999"/>
                </a:solidFill>
                <a:uFillTx/>
                <a:latin typeface="Tahoma"/>
              </a:rPr>
              <a:t> </a:t>
            </a:r>
            <a:r>
              <a:rPr b="1" lang="en-US" sz="4400" spc="-1" strike="noStrike" u="sng">
                <a:solidFill>
                  <a:srgbClr val="ff3300"/>
                </a:solidFill>
                <a:uFillTx/>
                <a:latin typeface="Tahoma"/>
              </a:rPr>
              <a:t>Mercantilis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Theory that if one country’s wealth increased, some other country’s wealth would decrease because there was only a finite amount of wealth in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Wealth was measured in gold and sil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To protect their gold and silver,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ountries had to increase their trade</a:t>
            </a: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, armies and nav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ahoma"/>
              </a:rPr>
              <a:t>Colonies were also a way to increase  resources that could be used for trade/ markets and increase weal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429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 u="sng">
                <a:solidFill>
                  <a:srgbClr val="2b5481"/>
                </a:solidFill>
                <a:uFillTx/>
                <a:latin typeface="Comic Sans MS"/>
              </a:rPr>
              <a:t>3. </a:t>
            </a:r>
            <a:r>
              <a:rPr b="1" lang="en-US" sz="5400" spc="-1" strike="noStrike" u="sng">
                <a:solidFill>
                  <a:srgbClr val="2b5481"/>
                </a:solidFill>
                <a:uFillTx/>
                <a:latin typeface="Comic Sans MS"/>
              </a:rPr>
              <a:t>Economic</a:t>
            </a:r>
            <a:r>
              <a:rPr b="1" lang="en-US" sz="4000" spc="-1" strike="noStrike" u="sng">
                <a:solidFill>
                  <a:srgbClr val="2b5481"/>
                </a:solidFill>
                <a:uFillTx/>
                <a:latin typeface="Comic Sans MS"/>
              </a:rPr>
              <a:t> </a:t>
            </a:r>
            <a:r>
              <a:rPr b="1" lang="en-US" sz="5400" spc="-1" strike="noStrike" u="sng">
                <a:solidFill>
                  <a:srgbClr val="2b5481"/>
                </a:solidFill>
                <a:uFillTx/>
                <a:latin typeface="Comic Sans MS"/>
              </a:rPr>
              <a:t>opportunity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olonies provide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raw materials that could be made into exports to the “mother” count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olonies were a Closed market for selling finished goods of the “mother” count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ahoma"/>
              </a:rPr>
              <a:t>Colonies are an Investment opportun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olonies will generally make a “mother’ country ri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4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2b5481"/>
                </a:solidFill>
                <a:uFillTx/>
                <a:latin typeface="Tahoma"/>
              </a:rPr>
              <a:t>4. Strategic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Tahoma"/>
              </a:rPr>
              <a:t>New colonies  in positions near trade routes or other powers could supply raw materials, defense, soldiers, resources, safe havens in times of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711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2b5481"/>
                </a:solidFill>
                <a:uFillTx/>
                <a:latin typeface="Comic Sans MS"/>
              </a:rPr>
              <a:t>5. Religious</a:t>
            </a:r>
            <a:r>
              <a:rPr b="1" lang="en-US" sz="4000" spc="-1" strike="noStrike" u="sng">
                <a:solidFill>
                  <a:srgbClr val="e5ffff"/>
                </a:solidFill>
                <a:uFillTx/>
                <a:latin typeface="Comic Sans MS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5142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Some Roman Catholics from Spain, Portugal, and France sought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converts </a:t>
            </a: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to Catholicis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Some Protestants fled to the New World to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scape religious persecution</a:t>
            </a: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 at hom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Some religions saw a place they could </a:t>
            </a: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worship freely</a:t>
            </a:r>
            <a:r>
              <a:rPr b="0" lang="en-US" sz="3600" spc="-1" strike="noStrike">
                <a:solidFill>
                  <a:srgbClr val="2b5481"/>
                </a:solidFill>
                <a:latin typeface="Tahoma"/>
              </a:rPr>
              <a:t> without the interference of the st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23:30:43Z</dcterms:created>
  <dc:creator>Preferred Customer</dc:creator>
  <dc:description/>
  <dc:language>en-US</dc:language>
  <cp:lastModifiedBy>ldesaulniers</cp:lastModifiedBy>
  <dcterms:modified xsi:type="dcterms:W3CDTF">2008-08-11T19:20:10Z</dcterms:modified>
  <cp:revision>14</cp:revision>
  <dc:subject/>
  <dc:title>The factors that led to the colonization of the continent of North America   </dc:title>
</cp:coreProperties>
</file>