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0.jpeg" ContentType="image/jpeg"/>
  <Override PartName="/ppt/media/image5.png" ContentType="image/png"/>
  <Override PartName="/ppt/media/image7.jpeg" ContentType="image/jpeg"/>
  <Override PartName="/ppt/media/image20.png" ContentType="image/png"/>
  <Override PartName="/ppt/media/image19.jpeg" ContentType="image/jpeg"/>
  <Override PartName="/ppt/media/image1.jpeg" ContentType="image/jpeg"/>
  <Override PartName="/ppt/media/image4.wmf" ContentType="image/x-wmf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82E5-43BF-43C4-A9F8-45CF0235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73C9-B0A2-41D3-8321-D0A5A29E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BBAE-4ACD-4CE6-8DDC-61418237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B533-34C5-4667-8CA4-8CB84C9F5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62A5-8B95-442F-80A1-4FC3A0D3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A511-C2E4-4AF9-93AF-2626A663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ACB3-861E-4E13-964B-7B10B70B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6083-4DA6-41FE-967F-7CDFDF6B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DFDE-7FE5-4B7B-89C8-4431BD7D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338A-B707-4D41-9A72-1842DCF2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AE63-2F82-4FAE-943C-9A6E112D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A3E1-8F84-487C-9630-FC5515FA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0D2C-C8AD-4B6F-BC38-7B34C94A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43BD-CF61-40BB-92AC-D5358D7A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42A7-FBA2-43E1-BA26-F03E44CD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9821-E312-4398-8DCF-F3BF3E51B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DD7F-2E4F-4735-96BF-F12527896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D473-A0F9-41C4-B0F7-0B895AED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1D78-F98F-4985-AC99-84F9EA31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3754-E35F-4236-8D48-E066A933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14C8-3EF3-4EAA-AE4B-DFE49ACB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F7EF-B98D-4324-BF5F-F9DC779C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3296-3957-4010-942E-CA67D590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2C32-0AE1-43A4-9B36-C0F31EA1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7E75-40AC-4098-B591-22737BAD8B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9C36-B0EE-4F58-92E4-20CB0F80B3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onturk.net/images/mammoth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ewworldencyclopedia.org/entry/Image:Europe_map_de_2.pn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hyfiles.org/coolimages/images/csi/gold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b5481"/>
                </a:solidFill>
                <a:latin typeface="Tahoma"/>
              </a:rPr>
              <a:t>Some Necessary Background on Why you are in the United States and sitting in that chair today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0"/>
            <a:ext cx="6248520" cy="18003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Mission Sites in Georg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1587-17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4572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2b5481"/>
                </a:solidFill>
                <a:uFillTx/>
                <a:latin typeface="Tahoma"/>
              </a:rPr>
              <a:t>6. Philosophic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A new 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A new begin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A new “Ede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A place to try out the philosophies of the old country and see if they work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An outlet for the daring, adventurous element of Europe (and it did not hurt if you made a fortune or proved a theory in the do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172120" y="0"/>
            <a:ext cx="397188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4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9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724280" y="304560"/>
            <a:ext cx="3733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2b5481"/>
                </a:solidFill>
                <a:uFillTx/>
                <a:latin typeface="Tahoma"/>
              </a:rPr>
              <a:t>7. Ecological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380880"/>
            <a:ext cx="4572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Europe is in a “little ice age” that does not end until the late 1800’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Some areas are starving as their climate gets worse leading to a quest for survival and an </a:t>
            </a: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outreach for more land, food, tr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Some climates are much better leading to a population explosion in those areas and an outreach to find more land, food, tr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079960" y="1371600"/>
            <a:ext cx="3587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2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3809880"/>
            <a:ext cx="3352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</a:rPr>
              <a:t>Major European Explorers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2b5481"/>
                </a:solidFill>
                <a:latin typeface="Tahoma"/>
              </a:rPr>
              <a:t>of the America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33920" y="914400"/>
            <a:ext cx="5410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Amerigo Vespucci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from Portugal- anything familiar about his nam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Magellan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from Spain-first to sail around the wor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Columbus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rom Spain- Looking for a short route to China and ran into the Americas. At least we get his name day off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3591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8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John Cabo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al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497- Explores northeast North America for Engla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overs” Nova Scot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es England its first claim to North American la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John Cabot"/>
          <p:cNvPicPr/>
          <p:nvPr/>
        </p:nvPicPr>
        <p:blipFill>
          <a:blip r:embed="rId1"/>
          <a:stretch/>
        </p:blipFill>
        <p:spPr>
          <a:xfrm>
            <a:off x="457200" y="2435400"/>
            <a:ext cx="403848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nglish Settling of Amer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r Walter Raleig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587- given permission to start a colony in Virgin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anoke- first colony in Americ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anish prevent supplies getting to colon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591- supplies arrive, but colony is go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st Colony” of Croat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3516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3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8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Reminder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Not everyone came to the “New World” of their own free w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Slav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Priso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aptu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Impress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ail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048120" y="2590920"/>
            <a:ext cx="6095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1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4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7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0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3" dur="2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6" dur="2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nd Others had been here for a very long time…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240360" cy="4614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423072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1476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800600" y="2057400"/>
            <a:ext cx="4114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The End by Miz 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5181480" cy="1371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481"/>
                </a:solidFill>
                <a:latin typeface="Tahoma"/>
              </a:rPr>
              <a:t>Background on </a:t>
            </a:r>
            <a:br>
              <a:rPr sz="4000"/>
            </a:br>
            <a:r>
              <a:rPr b="0" lang="en-US" sz="4000" spc="-1" strike="noStrike">
                <a:solidFill>
                  <a:srgbClr val="2b5481"/>
                </a:solidFill>
                <a:latin typeface="Tahoma"/>
              </a:rPr>
              <a:t>Early Americ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4876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Asiatic peoples, Chinese, Polynesians, Irish, Vikings may have come to the Americas before the Europeans. They left almost no trace of being he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Most people believe present day Native Americans came via the Bering Land Bridge (Russia to Alaska) during an ice age in search of fo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Eventually parts of the Americas had thriving empires like the Aztec and May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Most of North America was inhabited by Stone Age, nomad peoples at the time the Europeans came. We used to call them “Indians”. Now we call them Native Americ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0"/>
            <a:ext cx="37339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Native Americans of North America -- Media -- Encarta ® Online 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en-US" sz="3600" spc="-1" strike="noStrike">
                <a:solidFill>
                  <a:srgbClr val="2b5481"/>
                </a:solidFill>
                <a:latin typeface="Jester"/>
              </a:rPr>
              <a:t>Factors that lead to the European colonization of the continent of North America</a:t>
            </a:r>
            <a:r>
              <a:rPr b="0" lang="en-US" sz="4400" spc="-1" strike="noStrike">
                <a:solidFill>
                  <a:srgbClr val="2b5481"/>
                </a:solidFill>
                <a:latin typeface="Jester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2895120"/>
            <a:ext cx="5334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2b548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National/Nation State Rival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2b548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Theory of Mercantil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2b548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Economic Opportun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2b548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Strategic Positio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2b548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Religi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2b548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Philosophi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2b548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Ecologic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2590920"/>
            <a:ext cx="35812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2b5481"/>
                </a:solidFill>
                <a:uFillTx/>
                <a:latin typeface="Comic Sans MS"/>
              </a:rPr>
              <a:t>1. National Rivalr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ahoma"/>
              </a:rPr>
              <a:t>Rise of Nation States in Europ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ahoma"/>
              </a:rPr>
              <a:t>Fierce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Competition</a:t>
            </a:r>
            <a:r>
              <a:rPr b="0" lang="en-US" sz="3600" spc="-1" strike="noStrike">
                <a:solidFill>
                  <a:srgbClr val="009999"/>
                </a:solidFill>
                <a:latin typeface="Tahoma"/>
              </a:rPr>
              <a:t> between the countries of France, Portugal, Italy, England, Spain. Who’s the biggest, the “baddest”, the richest?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ahoma"/>
              </a:rPr>
              <a:t>War and Trade wer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9999"/>
                </a:solidFill>
                <a:latin typeface="Tahoma"/>
              </a:rPr>
              <a:t>how competitio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9999"/>
                </a:solidFill>
                <a:latin typeface="Tahoma"/>
              </a:rPr>
              <a:t>was express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A map of countries of Europe, where the ideal of the &quot;nation-state&quot; aros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4076640"/>
            <a:ext cx="38862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38480" y="456840"/>
            <a:ext cx="4648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3300"/>
                </a:solidFill>
                <a:uFillTx/>
                <a:latin typeface="Tahoma"/>
              </a:rPr>
              <a:t>2.</a:t>
            </a:r>
            <a:r>
              <a:rPr b="1" lang="en-US" sz="4400" spc="-1" strike="noStrike" u="sng">
                <a:solidFill>
                  <a:srgbClr val="009999"/>
                </a:solidFill>
                <a:uFillTx/>
                <a:latin typeface="Tahoma"/>
              </a:rPr>
              <a:t> </a:t>
            </a:r>
            <a:r>
              <a:rPr b="1" lang="en-US" sz="4400" spc="-1" strike="noStrike" u="sng">
                <a:solidFill>
                  <a:srgbClr val="ff3300"/>
                </a:solidFill>
                <a:uFillTx/>
                <a:latin typeface="Tahoma"/>
              </a:rPr>
              <a:t>Mercantilis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Theory that if one country’s wealth increased, some other country’s wealth would decrease because there was only a finite amount of wealth in the wor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Wealth was measured in gold and sil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To protect their gold and silver,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countries had to increase their trade</a:t>
            </a: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, armies and navi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Colonies were also a way to increase  resources that could be used for trade/ markets and increase weal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429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-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 u="sng">
                <a:solidFill>
                  <a:srgbClr val="2b5481"/>
                </a:solidFill>
                <a:uFillTx/>
                <a:latin typeface="Comic Sans MS"/>
              </a:rPr>
              <a:t>3. </a:t>
            </a:r>
            <a:r>
              <a:rPr b="1" lang="en-US" sz="5400" spc="-1" strike="noStrike" u="sng">
                <a:solidFill>
                  <a:srgbClr val="2b5481"/>
                </a:solidFill>
                <a:uFillTx/>
                <a:latin typeface="Comic Sans MS"/>
              </a:rPr>
              <a:t>Economic</a:t>
            </a:r>
            <a:r>
              <a:rPr b="1" lang="en-US" sz="4000" spc="-1" strike="noStrike" u="sng">
                <a:solidFill>
                  <a:srgbClr val="2b5481"/>
                </a:solidFill>
                <a:uFillTx/>
                <a:latin typeface="Comic Sans MS"/>
              </a:rPr>
              <a:t> </a:t>
            </a:r>
            <a:r>
              <a:rPr b="1" lang="en-US" sz="5400" spc="-1" strike="noStrike" u="sng">
                <a:solidFill>
                  <a:srgbClr val="2b5481"/>
                </a:solidFill>
                <a:uFillTx/>
                <a:latin typeface="Comic Sans MS"/>
              </a:rPr>
              <a:t>opportunity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olonies provide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raw materials that could be made into exports to the “mother” count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olonies were a Closed market for selling finished goods of the “mother” count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olonies are an Investment opportuni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Colonies will generally make a “mother’ country ri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4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4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2b5481"/>
                </a:solidFill>
                <a:uFillTx/>
                <a:latin typeface="Tahoma"/>
              </a:rPr>
              <a:t>4. Strategic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114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New colonies  in positions near trade routes or other powers could supply raw materials, defense, soldiers, resources, safe havens in times of w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191120" y="1371600"/>
            <a:ext cx="47116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962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2b5481"/>
                </a:solidFill>
                <a:uFillTx/>
                <a:latin typeface="Comic Sans MS"/>
              </a:rPr>
              <a:t>5. Religious</a:t>
            </a:r>
            <a:r>
              <a:rPr b="1" lang="en-US" sz="4000" spc="-1" strike="noStrike" u="sng">
                <a:solidFill>
                  <a:srgbClr val="e5ffff"/>
                </a:solidFill>
                <a:uFillTx/>
                <a:latin typeface="Comic Sans MS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251424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b5481"/>
                </a:solidFill>
                <a:latin typeface="Tahoma"/>
              </a:rPr>
              <a:t>Some Roman Catholics from Spain, Portugal, and France sought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converts </a:t>
            </a:r>
            <a:r>
              <a:rPr b="0" lang="en-US" sz="3600" spc="-1" strike="noStrike">
                <a:solidFill>
                  <a:srgbClr val="2b5481"/>
                </a:solidFill>
                <a:latin typeface="Tahoma"/>
              </a:rPr>
              <a:t>to Catholicis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b5481"/>
                </a:solidFill>
                <a:latin typeface="Tahoma"/>
              </a:rPr>
              <a:t>Some Protestants fled to the New World to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escape religious persecution</a:t>
            </a:r>
            <a:r>
              <a:rPr b="0" lang="en-US" sz="3600" spc="-1" strike="noStrike">
                <a:solidFill>
                  <a:srgbClr val="2b5481"/>
                </a:solidFill>
                <a:latin typeface="Tahoma"/>
              </a:rPr>
              <a:t> at hom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b5481"/>
                </a:solidFill>
                <a:latin typeface="Tahoma"/>
              </a:rPr>
              <a:t>Some religions saw a place they could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worship freely</a:t>
            </a:r>
            <a:r>
              <a:rPr b="0" lang="en-US" sz="3600" spc="-1" strike="noStrike">
                <a:solidFill>
                  <a:srgbClr val="2b5481"/>
                </a:solidFill>
                <a:latin typeface="Tahoma"/>
              </a:rPr>
              <a:t> without the interference of the stat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1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6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23:30:43Z</dcterms:created>
  <dc:creator>Preferred Customer</dc:creator>
  <dc:description/>
  <dc:language>en-US</dc:language>
  <cp:lastModifiedBy>ldesaulniers</cp:lastModifiedBy>
  <dcterms:modified xsi:type="dcterms:W3CDTF">2008-08-11T19:20:10Z</dcterms:modified>
  <cp:revision>14</cp:revision>
  <dc:subject/>
  <dc:title>The factors that led to the colonization of the continent of North America   </dc:title>
</cp:coreProperties>
</file>