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0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1F8B-BDC3-4A07-9F5C-D64777F7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C92C-CA80-49A7-BBD8-F094EDF9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216E-54F9-41D4-9AF2-4C11BB9F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A77F-9499-43DF-A913-CA06F9CF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1198-D6CF-473A-AA5F-EFB5857E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AD26-C870-4B62-BB4D-685CDE2B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A446-7869-446E-959A-E015AD56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4423-BAB6-448E-AF6F-087EFDCF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CD0F-2364-4559-A12C-1DE9AB53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3B85-5EA6-4FC6-8D14-297475B8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3E27-B86F-4482-BF37-2C8D6E96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5BF7-1334-4404-9AFB-E4878026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840A-294A-4194-BA9F-82B622C3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E977-BFFB-4EC5-B7DB-78A764DE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98E7-1E1F-47AD-B482-6B6D9E5D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3CEA-32AF-4BBC-B598-6AC9CA67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57F9-EED0-4445-916A-900A0E47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B53A-3E39-4B31-8015-ECAC9041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7A1B-9D54-4C8E-AB2A-967EDF32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E76D-A119-4211-BCD2-B5D53976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7089-1FA6-4A51-A73B-6FB1C324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C427-54BD-4485-AB1E-206EED47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44BE-4B97-40C3-AB8E-2BE48B5C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3B8E-E9DE-48C9-9B7F-1C3357C6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1C02-E9D2-4794-B251-55D8492811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8EF9-57D6-4CAE-BD8E-96262FC058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onturk.net/images/mammoth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ewworldencyclopedia.org/entry/Image:Europe_map_de_2.p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hyfiles.org/coolimages/images/csi/gold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b5481"/>
                </a:solidFill>
                <a:latin typeface="Tahoma"/>
              </a:rPr>
              <a:t>Some Necessary Background on Why you are in the United States and sitting in that chair today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0"/>
            <a:ext cx="6248520" cy="1800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Mission Sites in Georg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1587-17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4572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b5481"/>
                </a:solidFill>
                <a:uFillTx/>
                <a:latin typeface="Tahoma"/>
              </a:rPr>
              <a:t>6. Philosophic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 new 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 new begin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 new “Ede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 place to try out the philosophies of the old country and see if they work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n outlet for the daring, adventurous element of Europe (and it did not hurt if you made a fortune or proved a theory in the do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72120" y="0"/>
            <a:ext cx="39718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4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724280" y="30456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2b5481"/>
                </a:solidFill>
                <a:uFillTx/>
                <a:latin typeface="Tahoma"/>
              </a:rPr>
              <a:t>7. Ecologic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380880"/>
            <a:ext cx="4572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Europe is in a “little ice age” that does not end until the late 1800’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ome areas are starving as their climate gets worse leading to a quest for survival and an </a:t>
            </a: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outreach for more land, food, tr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Some climates are much better leading to a population explosion in those areas and an outreach to find more land, food, tr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79960" y="1371600"/>
            <a:ext cx="3587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3809880"/>
            <a:ext cx="3352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</a:rPr>
              <a:t>Major European Explorers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of the America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33920" y="914400"/>
            <a:ext cx="5410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merigo Vespucci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from Portugal- anything familiar about his nam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Magellan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from Spain-first to sail around the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olumbus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rom Spain- Looking for a short route to China and ran into the Americas. At least we get his name day off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591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ohn Cabo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al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497- Explores northeast North America for Engla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overs” Nova Scot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s England its first claim to North American la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John Cabot"/>
          <p:cNvPicPr/>
          <p:nvPr/>
        </p:nvPicPr>
        <p:blipFill>
          <a:blip r:embed="rId1"/>
          <a:stretch/>
        </p:blipFill>
        <p:spPr>
          <a:xfrm>
            <a:off x="457200" y="2435400"/>
            <a:ext cx="403848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glish Settling of Amer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r Walter Raleig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87- given permission to start a colony in Virgin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anoke- first colony in Amer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anish prevent supplies getting to colon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91- supplies arrive, but colony is g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st Colony” of Croat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3516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8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Reminder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Not everyone came to the “New World” of their own free 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lav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Priso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aptu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Impress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ail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48120" y="2590920"/>
            <a:ext cx="6095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1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7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0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3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6" dur="2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nd Others had been here for a very long time…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240360" cy="4614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423072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1476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800600" y="2057400"/>
            <a:ext cx="4114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The End by Miz 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5181480" cy="1371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481"/>
                </a:solidFill>
                <a:latin typeface="Tahoma"/>
              </a:rPr>
              <a:t>Background on </a:t>
            </a:r>
            <a:br>
              <a:rPr sz="4000"/>
            </a:br>
            <a:r>
              <a:rPr b="0" lang="en-US" sz="4000" spc="-1" strike="noStrike">
                <a:solidFill>
                  <a:srgbClr val="2b5481"/>
                </a:solidFill>
                <a:latin typeface="Tahoma"/>
              </a:rPr>
              <a:t>Early Americ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87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Asiatic peoples, Chinese, Polynesians, Irish, Vikings may have come to the Americas before the Europeans. They left almost no trace of being h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Most people believe present day Native Americans came via the Bering Land Bridge (Russia to Alaska) during an ice age in search of fo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Eventually parts of the Americas had thriving empires like the Aztec and May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Most of North America was inhabited by Stone Age, nomad peoples at the time the Europeans came. We used to call them “Indians”. Now we call them Native Americ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0"/>
            <a:ext cx="3733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Native Americans of North America -- Media -- Encarta ® Online 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US" sz="3600" spc="-1" strike="noStrike">
                <a:solidFill>
                  <a:srgbClr val="2b5481"/>
                </a:solidFill>
                <a:latin typeface="Jester"/>
              </a:rPr>
              <a:t>Factors that lead to the European colonization of the continent of North America</a:t>
            </a:r>
            <a:r>
              <a:rPr b="0" lang="en-US" sz="4400" spc="-1" strike="noStrike">
                <a:solidFill>
                  <a:srgbClr val="2b5481"/>
                </a:solidFill>
                <a:latin typeface="Jester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2895120"/>
            <a:ext cx="5334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National/Nation State Rival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Theory of Mercanti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Economic Opportun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Strategic Positio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Religi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Philosoph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Ecologic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3581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b5481"/>
                </a:solidFill>
                <a:uFillTx/>
                <a:latin typeface="Comic Sans MS"/>
              </a:rPr>
              <a:t>1. National Rivalr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Rise of Nation States in Europ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Fierce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Competition</a:t>
            </a: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 between the countries of France, Portugal, Italy, England, Spain. Who’s the biggest, the “baddest”, the richest?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War and Trade wer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how competitio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was express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A map of countries of Europe, where the ideal of the &quot;nation-state&quot; aros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4076640"/>
            <a:ext cx="3886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38480" y="456840"/>
            <a:ext cx="4648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Tahoma"/>
              </a:rPr>
              <a:t>2.</a:t>
            </a:r>
            <a:r>
              <a:rPr b="1" lang="en-US" sz="4400" spc="-1" strike="noStrike" u="sng">
                <a:solidFill>
                  <a:srgbClr val="009999"/>
                </a:solidFill>
                <a:uFillTx/>
                <a:latin typeface="Tahoma"/>
              </a:rPr>
              <a:t> </a:t>
            </a:r>
            <a:r>
              <a:rPr b="1" lang="en-US" sz="4400" spc="-1" strike="noStrike" u="sng">
                <a:solidFill>
                  <a:srgbClr val="ff3300"/>
                </a:solidFill>
                <a:uFillTx/>
                <a:latin typeface="Tahoma"/>
              </a:rPr>
              <a:t>Mercantilis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Theory that if one country’s wealth increased, some other country’s wealth would decrease because there was only a finite amount of wealth in the wor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Wealth was measured in gold and sil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To protect their gold and silver,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ountries had to increase their trade</a:t>
            </a: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, armies and nav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Colonies were also a way to increase  resources that could be used for trade/ markets and increase weal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429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 u="sng">
                <a:solidFill>
                  <a:srgbClr val="2b5481"/>
                </a:solidFill>
                <a:uFillTx/>
                <a:latin typeface="Comic Sans MS"/>
              </a:rPr>
              <a:t>3. </a:t>
            </a:r>
            <a:r>
              <a:rPr b="1" lang="en-US" sz="5400" spc="-1" strike="noStrike" u="sng">
                <a:solidFill>
                  <a:srgbClr val="2b5481"/>
                </a:solidFill>
                <a:uFillTx/>
                <a:latin typeface="Comic Sans MS"/>
              </a:rPr>
              <a:t>Economic</a:t>
            </a:r>
            <a:r>
              <a:rPr b="1" lang="en-US" sz="4000" spc="-1" strike="noStrike" u="sng">
                <a:solidFill>
                  <a:srgbClr val="2b5481"/>
                </a:solidFill>
                <a:uFillTx/>
                <a:latin typeface="Comic Sans MS"/>
              </a:rPr>
              <a:t> </a:t>
            </a:r>
            <a:r>
              <a:rPr b="1" lang="en-US" sz="5400" spc="-1" strike="noStrike" u="sng">
                <a:solidFill>
                  <a:srgbClr val="2b5481"/>
                </a:solidFill>
                <a:uFillTx/>
                <a:latin typeface="Comic Sans MS"/>
              </a:rPr>
              <a:t>opportunity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olonies provide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raw materials that could be made into exports to the “mother” count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olonies were a Closed market for selling finished goods of the “mother” count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olonies are an Investment opportun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Colonies will generally make a “mother’ country ri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4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2b5481"/>
                </a:solidFill>
                <a:uFillTx/>
                <a:latin typeface="Tahoma"/>
              </a:rPr>
              <a:t>4. Strategic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New colonies  in positions near trade routes or other powers could supply raw materials, defense, soldiers, resources, safe havens in times of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4711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2b5481"/>
                </a:solidFill>
                <a:uFillTx/>
                <a:latin typeface="Comic Sans MS"/>
              </a:rPr>
              <a:t>5. Religious</a:t>
            </a:r>
            <a:r>
              <a:rPr b="1" lang="en-US" sz="4000" spc="-1" strike="noStrike" u="sng">
                <a:solidFill>
                  <a:srgbClr val="e5ffff"/>
                </a:solidFill>
                <a:uFillTx/>
                <a:latin typeface="Comic Sans MS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Some Roman Catholics from Spain, Portugal, and France sought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converts </a:t>
            </a: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to Catholicis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Some Protestants fled to the New World to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escape religious persecution</a:t>
            </a: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 at hom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Some religions saw a place they could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worship freely</a:t>
            </a: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 without the interference of the sta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23:30:43Z</dcterms:created>
  <dc:creator>Preferred Customer</dc:creator>
  <dc:description/>
  <dc:language>en-US</dc:language>
  <cp:lastModifiedBy>ldesaulniers</cp:lastModifiedBy>
  <dcterms:modified xsi:type="dcterms:W3CDTF">2008-08-11T19:20:10Z</dcterms:modified>
  <cp:revision>14</cp:revision>
  <dc:subject/>
  <dc:title>The factors that led to the colonization of the continent of North America   </dc:title>
</cp:coreProperties>
</file>