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85D-1566-4605-8E68-6216EF62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3EB-B1ED-42EE-B784-CFC4B44E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309-969F-41F8-93B5-7863349E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3EA-2AB1-405A-A288-8005AE57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BA42-2EA2-4A0D-95C9-B28D362D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2605-91F8-4032-8622-1512E758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9E3F-0A50-40E5-A8E7-6DF82899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3CA3-73AF-4C22-8F28-1DD1A076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F860-4400-4D76-8350-6BA34417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D604-016E-4531-AEBB-9C63B1FE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3CCB-283B-4A23-90B4-5DC86852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9B0-0FFD-409B-8DC5-971BB7A8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8D9F-97E6-4497-8AE1-60F2B7BB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33DA-7F3E-4242-8CB7-8D48ACB0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3B8A-0864-43A9-841D-A09F01CE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0A22-2B43-49C5-8CE8-81B52B04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A838-DC6B-48E6-820A-187CE708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EC3-E643-4F9E-99DD-A66F0347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282-33F1-4917-B250-E1B29ABD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611-1AB2-4A00-8D8A-457B3935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ECE-8B19-4582-A943-03B1FD1F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780-5A16-49F0-99F1-964BF6F9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5EF-936A-4183-A958-F572757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E04-C3D0-4D84-A5AC-7FB04F5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2E0C-8003-42C7-A7DC-111E247F59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78BF-0C27-4BE8-BD3F-88290FA200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onturk.net/images/mammoth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worldencyclopedia.org/entry/Image:Europe_map_de_2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hyfiles.org/coolimages/images/csi/gol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b5481"/>
                </a:solidFill>
                <a:latin typeface="Tahoma"/>
              </a:rPr>
              <a:t>Some Necessary Background on Why you are in the United States and sitting in that chair toda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624852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Mission Sites in Geor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1587-17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b5481"/>
                </a:solidFill>
                <a:uFillTx/>
                <a:latin typeface="Tahoma"/>
              </a:rPr>
              <a:t>6. Philosophic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begi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“Ed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place to try out the philosophies of the old country and see if they work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n outlet for the daring, adventurous element of Europe (and it did not hurt if you made a fortune or proved a theory in the do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72120" y="0"/>
            <a:ext cx="3971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b5481"/>
                </a:solidFill>
                <a:uFillTx/>
                <a:latin typeface="Tahoma"/>
              </a:rPr>
              <a:t>7. Ecologic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808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urope is in a “little ice age” that does not end until the late 1800’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ome areas are starving as their climate gets worse leading to a quest for survival and an 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outreach for more land, food,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Some climates are much better leading to a population explosion in those areas and an outreach to find more land, food,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79960" y="1371600"/>
            <a:ext cx="3587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9880"/>
            <a:ext cx="3352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</a:rPr>
              <a:t>Major European Explorers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of the America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920" y="9144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merigo Vespucci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from Portugal- anything familiar about his na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agellan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from Spain-first to sail around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lumbus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rom Spain- Looking for a short route to China and ran into the Americas. At least we get his name day of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59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hn Cabo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al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97- Explores northeast North America for Eng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s” Nova Scot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s England its first claim to North American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John Cabot"/>
          <p:cNvPicPr/>
          <p:nvPr/>
        </p:nvPicPr>
        <p:blipFill>
          <a:blip r:embed="rId1"/>
          <a:stretch/>
        </p:blipFill>
        <p:spPr>
          <a:xfrm>
            <a:off x="457200" y="2435400"/>
            <a:ext cx="40384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Settling of 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r Walter Ralei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87- given permission to start a colony in Virgi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anoke- first colony in Ame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nish prevent supplies getting to colon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91- supplies arrive, but colony is g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t Colony” of Croa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16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Reminder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Not everyone came to the “New World” of their own free 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lav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riso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aptu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mpress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ail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609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1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Others had been here for a very long time…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40360" cy="4614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23072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476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800600" y="2057400"/>
            <a:ext cx="4114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The End by Miz 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1814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Background on </a:t>
            </a:r>
            <a:br>
              <a:rPr sz="4000"/>
            </a:b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Early Ameri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87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siatic peoples, Chinese, Polynesians, Irish, Vikings may have come to the Americas before the Europeans. They left almost no trace of being 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Most people believe present day Native Americans came via the Bering Land Bridge (Russia to Alaska) during an ice age in search of 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ventually parts of the Americas had thriving empires like the Aztec and May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Most of North America was inhabited by Stone Age, nomad peoples at the time the Europeans came. We used to call them “Indians”. Now we call them Native Americ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2b5481"/>
                </a:solidFill>
                <a:latin typeface="Jester"/>
              </a:rPr>
              <a:t>Factors that lead to the European colonization of the continent of North America</a:t>
            </a:r>
            <a:r>
              <a:rPr b="0" lang="en-US" sz="4400" spc="-1" strike="noStrike">
                <a:solidFill>
                  <a:srgbClr val="2b5481"/>
                </a:solidFill>
                <a:latin typeface="Jester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2895120"/>
            <a:ext cx="5334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National/Nation State Rival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Theory of Mercanti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Economic Opportun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Strategic Posi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Relig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Philosoph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Ecologi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3581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b5481"/>
                </a:solidFill>
                <a:uFillTx/>
                <a:latin typeface="Comic Sans MS"/>
              </a:rPr>
              <a:t>1. National Rivalr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Rise of Nation States in Euro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Fierce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mpetition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between the countries of France, Portugal, Italy, England, Spain. Who’s the biggest, the “baddest”, the richest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War and Trade wer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how competi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was express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A map of countries of Europe, where the ideal of the &quot;nation-state&quot; aros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076640"/>
            <a:ext cx="3886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38480" y="45684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Tahoma"/>
              </a:rPr>
              <a:t>2.</a:t>
            </a:r>
            <a:r>
              <a:rPr b="1" lang="en-US" sz="4400" spc="-1" strike="noStrike" u="sng">
                <a:solidFill>
                  <a:srgbClr val="009999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Tahoma"/>
              </a:rPr>
              <a:t>Mercantilis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eory that if one country’s wealth increased, some other country’s wealth would decrease because there was only a finite amount of wealth in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Wealth was measured in gold and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To protect their gold and silver,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untries had to increase their trade</a:t>
            </a: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, armies and nav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Colonies were also a way to increase  resources that could be used for trade/ markets and increase w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2b5481"/>
                </a:solidFill>
                <a:uFillTx/>
                <a:latin typeface="Comic Sans MS"/>
              </a:rPr>
              <a:t>3. </a:t>
            </a: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Economic</a:t>
            </a:r>
            <a:r>
              <a:rPr b="1" lang="en-US" sz="4000" spc="-1" strike="noStrike" u="sng">
                <a:solidFill>
                  <a:srgbClr val="2b5481"/>
                </a:solidFill>
                <a:uFillTx/>
                <a:latin typeface="Comic Sans MS"/>
              </a:rPr>
              <a:t> </a:t>
            </a: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opportunity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provid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aw materials that could be made into exports to the “mother” cou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were a Closed market for selling finished goods of the “mother” cou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are an Investment opport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lonies will generally make a “mother’ country ri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2b5481"/>
                </a:solidFill>
                <a:uFillTx/>
                <a:latin typeface="Tahoma"/>
              </a:rPr>
              <a:t>4. Strategic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New colonies  in positions near trade routes or other powers could supply raw materials, defense, soldiers, resources, safe havens in times of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1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5. Religious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Roman Catholics from Spain, Portugal, and France sought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nverts 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to Catholici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Protestants fled to the New World to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scape religious persecution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 at hom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religions saw a place they could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orship freely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 without the interference of the s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3:30:43Z</dcterms:created>
  <dc:creator>Preferred Customer</dc:creator>
  <dc:description/>
  <dc:language>en-US</dc:language>
  <cp:lastModifiedBy>ldesaulniers</cp:lastModifiedBy>
  <dcterms:modified xsi:type="dcterms:W3CDTF">2008-08-11T19:20:10Z</dcterms:modified>
  <cp:revision>14</cp:revision>
  <dc:subject/>
  <dc:title>The factors that led to the colonization of the continent of North America   </dc:title>
</cp:coreProperties>
</file>