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34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2.jpeg" ContentType="image/jpeg"/>
  <Override PartName="/ppt/media/image30.jpeg" ContentType="image/jpeg"/>
  <Override PartName="/ppt/media/image7.wmf" ContentType="image/x-wm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156-BD24-423D-A792-FDA007DA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3080-0765-45CD-A5F9-ADC065F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EC8-331D-4D29-91BD-E45C8C20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794-6930-40C2-B2A8-23CF7F20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57A7C-07F9-4431-8498-B87E997E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E5B95-3A3E-4D1C-BE5A-2A791C72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68EB1-0D11-4D6B-8C5F-3C01C0F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87ABB-E74D-4290-B0AE-6FCE347F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A61F5-D5E4-4086-88EA-2083C21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FCC14-78F0-4CAD-AE2C-5E5E546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5DC9E-39AE-44CA-B703-9178F946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2F60-ACA0-4F8A-89D5-C45EC983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EB10-60D8-47CF-8CBF-B8CF1125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B950-6043-47A4-891E-D680177B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051EC-F52A-4843-8714-87E24D01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070FC-D796-43B4-A9DE-D2B0EC77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6DB34-D15D-40C2-A7B7-BF0D8F33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22F-CA5B-4145-88AC-C2383B53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00E-B977-4D59-A08D-F8F0DB3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632-0A84-4F0A-A3B0-8B91A198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60F-CD2B-430E-9920-62ADE1BC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EEA-924F-4783-9CE2-982F17DA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F96-F0DA-4933-B9FD-F5A7AAA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D7A-4EC3-4685-837D-FB6696F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F33B-135D-4223-BC1F-031C9650AB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8B19-C3E0-411D-855B-34CEF59E1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cs.ucalgary.ca/HIST/tutor/eurvoya/henry1.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osselbay.co.za/info/history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Columbus, Christopher -- Media -- Encarta ® Online "/>
          <p:cNvPicPr/>
          <p:nvPr/>
        </p:nvPicPr>
        <p:blipFill>
          <a:blip r:embed="rId1"/>
          <a:stretch/>
        </p:blipFill>
        <p:spPr>
          <a:xfrm>
            <a:off x="2209680" y="533520"/>
            <a:ext cx="4542120" cy="51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Discovering the America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eblo- Spanish for “town” because of their apartment-style homes made of ado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un dried bric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jos- Farmers, weaver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gan- home made of adobe and lo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aches- Wandering h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ted deer for food and clo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ckiups- circular huts of brush that were built in minu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Navajo (people) -- Media -- Encarta ® Online "/>
          <p:cNvPicPr/>
          <p:nvPr/>
        </p:nvPicPr>
        <p:blipFill>
          <a:blip r:embed="rId1"/>
          <a:stretch/>
        </p:blipFill>
        <p:spPr>
          <a:xfrm>
            <a:off x="5402160" y="1600200"/>
            <a:ext cx="2530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lains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oux, Pawnees, Dakotas, Comanches, Kiowas, and Os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alo hunting for food, clothing, shelter, tools, fue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ing the summer month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shkun- buffalo ju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pee- cone-shaped tents made of buffalo hide stretched over lodge po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efs- chosen for specific 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gious, hunting, warr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648320" y="250344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hoshone, Pima, Nez Per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western Great Pl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ain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 Gatherers”- depended on food of seeds, berries, and roo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90400" y="2432160"/>
            <a:ext cx="377208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und Build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abited the Eastern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t huge ceremonial mounds in the form of birds, bear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Serpent Mound"/>
          <p:cNvPicPr/>
          <p:nvPr/>
        </p:nvPicPr>
        <p:blipFill>
          <a:blip r:embed="rId1"/>
          <a:stretch/>
        </p:blipFill>
        <p:spPr>
          <a:xfrm>
            <a:off x="4648320" y="2467080"/>
            <a:ext cx="40384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lgonquins, Iroquois, Creek, and Cherokee Indian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tribes of Eastern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known organized form of government i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tribes to encounter the white 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Iroquois Village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7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77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dian Belief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mony with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of social, economic, and religious pract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acred trust existed between man and na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ng as we care for nature, it will supply us w/ all we ne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ud of tribes and commun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little individual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800600" y="3505320"/>
            <a:ext cx="3505320" cy="1922760"/>
            <a:chOff x="4800600" y="3505320"/>
            <a:chExt cx="3505320" cy="1922760"/>
          </a:xfrm>
        </p:grpSpPr>
        <p:sp>
          <p:nvSpPr>
            <p:cNvPr id="174" name=""/>
            <p:cNvSpPr/>
            <p:nvPr/>
          </p:nvSpPr>
          <p:spPr>
            <a:xfrm>
              <a:off x="4800600" y="3505320"/>
              <a:ext cx="3505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ri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ividu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53080" y="39625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4648320"/>
              <a:ext cx="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600800" cy="624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uropean Explora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0’s-160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8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issance- a time for European people to turn to exploration of the sea and the a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usades- allowed Europeans to discover the spices an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develops to pay for sp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l, gold,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mel caravans carry products over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re to finder faster ways to move goo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merchants create a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ve control of t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Revolution- expansion of trade in Euro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Camel Caravan"/>
          <p:cNvPicPr/>
          <p:nvPr/>
        </p:nvPicPr>
        <p:blipFill>
          <a:blip r:embed="rId1"/>
          <a:stretch/>
        </p:blipFill>
        <p:spPr>
          <a:xfrm>
            <a:off x="838080" y="3962520"/>
            <a:ext cx="35244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95" dur="2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nce Henry “The Navigato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d many Portuguese sail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 develops with Afric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d bowls and beads for fresh water and f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Prince Hen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676520"/>
            <a:ext cx="27860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rtolomeu Dia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87- rounded the southern tip of Af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752480"/>
            <a:ext cx="24620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eoples from As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 the land bridge over the Bering S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appears when the glaciers covering N. America me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ught the first d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bs, stone-tipped arrow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led animals for food and 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ed the Rocky Mountains south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da Gam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u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8- Sails around the Cape of Good Hope, Africa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Portrait of Vasco da Gama"/>
          <p:cNvPicPr/>
          <p:nvPr/>
        </p:nvPicPr>
        <p:blipFill>
          <a:blip r:embed="rId1"/>
          <a:stretch/>
        </p:blipFill>
        <p:spPr>
          <a:xfrm>
            <a:off x="5105520" y="1371600"/>
            <a:ext cx="2857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ristopher Columb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" descr="Columbus Portrait"/>
          <p:cNvPicPr/>
          <p:nvPr/>
        </p:nvPicPr>
        <p:blipFill>
          <a:blip r:embed="rId1"/>
          <a:stretch/>
        </p:blipFill>
        <p:spPr>
          <a:xfrm>
            <a:off x="762120" y="1523880"/>
            <a:ext cx="3438360" cy="42674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2520" y="13716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alian sa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s Spanish money to sail westward in search of As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ieved the earth was r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ina, Pinta, Santa M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2, 1492- Lands in Bahamas believing he has reached Ind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s Spanish claims in N.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80060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eif Erick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se- Norwegian peoples first to reach the America’s in 1000 B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ic the Red- discovers Green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f Erickson- explores the northeast coast of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nland”- named for the grape v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173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9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9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Cabo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Nova Scot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John Cabot"/>
          <p:cNvPicPr/>
          <p:nvPr/>
        </p:nvPicPr>
        <p:blipFill>
          <a:blip r:embed="rId1"/>
          <a:stretch/>
        </p:blipFill>
        <p:spPr>
          <a:xfrm>
            <a:off x="457200" y="2097000"/>
            <a:ext cx="40384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iovanni da Verrazan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s out to find a “Northwest Passage” to Asia through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2762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cques Carti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voyages to N.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lf of St. Law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. Lawrence River to Mont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s to establish a settlement, but fai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Jacques Cartier"/>
          <p:cNvPicPr/>
          <p:nvPr/>
        </p:nvPicPr>
        <p:blipFill>
          <a:blip r:embed="rId1"/>
          <a:stretch/>
        </p:blipFill>
        <p:spPr>
          <a:xfrm>
            <a:off x="825480" y="1714680"/>
            <a:ext cx="3301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830680" cy="39621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in and Portug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istadors- Spanish soldiers or “conqueror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and Portugal leaders in the exploration of the Amer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in- conquers the new wester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tugal- explores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ine of Demarc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n by Pope Alexander 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ew lands explored west of the line were to belong to Spain- east of the line, Portug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ral- Portuguese explorer gets blown off course while sailing around Africa and discovers Braz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2438280" cy="30481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553080" y="2971800"/>
            <a:ext cx="2246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y of Tordesill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merigo Vespucci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s the South American contin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European geographer proposes that the new find be named after Vespuc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73356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8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3" dur="2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8" dur="2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ative Americ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peoples of the Amer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es- natives divided into different tribes speaking over 1000 different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- way of life (hunting, fishing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zations- Advanced cultures (tow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who settle down and l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4738680" y="1919160"/>
            <a:ext cx="38577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asco Balbo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13- Explores the Isthmus of Panama and finds another oc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 Sea”=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2863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rdinand Magel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ils around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the Strait of Magellan on the southern tip of South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vers and names the Pacific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ed in the Philipp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of the 237 men actually return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Ferdinand Magellan"/>
          <p:cNvPicPr/>
          <p:nvPr/>
        </p:nvPicPr>
        <p:blipFill>
          <a:blip r:embed="rId1"/>
          <a:stretch/>
        </p:blipFill>
        <p:spPr>
          <a:xfrm>
            <a:off x="5029200" y="1676520"/>
            <a:ext cx="339552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gellan’s Rou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Cor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s the Azte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believe him to be the god, Quetzalcoatl returning as promi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ctezuma- Aztec emperor murdered by Cor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Hernán Cortés"/>
          <p:cNvPicPr/>
          <p:nvPr/>
        </p:nvPicPr>
        <p:blipFill>
          <a:blip r:embed="rId1"/>
          <a:stretch/>
        </p:blipFill>
        <p:spPr>
          <a:xfrm>
            <a:off x="838080" y="1371600"/>
            <a:ext cx="3302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9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4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Pizar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1- Conquers the In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aps The Inca, collects a ransom of gold and silver, and then murders the “Sun Go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27144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Florida in search of gold and the “Fountain of Youth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ei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Ponce de León"/>
          <p:cNvPicPr/>
          <p:nvPr/>
        </p:nvPicPr>
        <p:blipFill>
          <a:blip r:embed="rId1"/>
          <a:stretch/>
        </p:blipFill>
        <p:spPr>
          <a:xfrm>
            <a:off x="457200" y="2548080"/>
            <a:ext cx="4038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anfilo de Narvaez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4267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nish explo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dition of 250 men survive a major hurricane near Cub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cover and explore the western coast of Florida in 152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y men die in attack by Indi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ip leaves them stran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rvaez and crew build 5 rafts and sail for Mex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 rafts sink and Narvaez d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urvivors wander throughout the Southwest for 8 years before arriving in Mexico C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9797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39- Explores the SE United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 no gold, but discovers the Mississippi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105520" y="1600200"/>
            <a:ext cx="3074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rancisco Corona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conquist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s SW United States in search of “cities paved with streets of gold.”- El Dor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s no treasure, but discovers the Grand Cany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Francisco Vásquez de Coronado"/>
          <p:cNvPicPr/>
          <p:nvPr/>
        </p:nvPicPr>
        <p:blipFill>
          <a:blip r:embed="rId1"/>
          <a:stretch/>
        </p:blipFill>
        <p:spPr>
          <a:xfrm>
            <a:off x="4952880" y="2057400"/>
            <a:ext cx="35434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77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6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8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0" dur="77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77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7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9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77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8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0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yas of Yucat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chest civilization in Central Ame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- religious centers with massive temp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tisans- artists to decorate the buildings with murals and sculp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lars- developed method of wri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tists- used sun to create a calen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ronomers- careful observation of planets and stars to predict eclip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ya Civilization -- Media -- Encarta ® Online "/>
          <p:cNvPicPr/>
          <p:nvPr/>
        </p:nvPicPr>
        <p:blipFill>
          <a:blip r:embed="rId1"/>
          <a:stretch/>
        </p:blipFill>
        <p:spPr>
          <a:xfrm>
            <a:off x="1009800" y="1689120"/>
            <a:ext cx="29336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al Societ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y- land settled by people from another country that remains under the control of the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- 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in- S. America, Mexico, Caribbe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0" y="12949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ards born in 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oles- Spanish born in the New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tizos- Spanish and Indian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ans- n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attoes- black and Spanish m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bos- Indian and black m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3333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30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Colo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ing new plants, seeds, language, tools, and domestic anim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sugar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lave the native Indians to work on the pla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ease wipes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ced to look to Africa for work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all gold and silver back to Sp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ual decline in gold/silver supply leads to decline in Spanish po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s and rebellions cost mo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718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48360" cy="50688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irates of the Caribbe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solidFill>
            <a:srgbClr val="ff6600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 Dogs- English and Dutch sailors attack Spanish ships and steal tr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hn Hawkins- Used to transport slaves, but made more money stealing from Spanish 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ncis Drake- Sails around South America and raids Spanish ships- then sails around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nry Morgan- Amasses a wealth of over $70,000 in one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200844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629400" y="2209680"/>
            <a:ext cx="2085840" cy="2819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5105520" y="3962520"/>
            <a:ext cx="208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panish Dec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Philip II of Spain attacks Queen Elizabeth’s England with the Spanish Arm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8- Entire Armada destroyed in the English Channel by a fierce st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by the English Royal Nav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tress of the Sea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Defeat of the Spanish Armada"/>
          <p:cNvPicPr/>
          <p:nvPr/>
        </p:nvPicPr>
        <p:blipFill>
          <a:blip r:embed="rId1"/>
          <a:stretch/>
        </p:blipFill>
        <p:spPr>
          <a:xfrm>
            <a:off x="457200" y="2689200"/>
            <a:ext cx="40384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7" dur="8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8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8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8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8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glish Settling of Americ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st Colon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7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4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Compan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ter- official grant given by kind of certain rights, powers, and privile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ymouth Company and London (Virginia) Company given charters by King James I in 160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a Charta- limits King James’ powers and guaranteed English freed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257800" y="3581280"/>
            <a:ext cx="292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8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19920" cy="46357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ed by London Company in 160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reasons for bad st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 blown off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on a low island in a river near a marsh full of malaria carrying mosquito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drink dirty river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reasons why London Company failed Jamest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discovery of gold a prio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not allowed to own any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ure to send workers to develop the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ohn Smit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leader of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s men to dig wells, build shelters, clear the land, and plant fo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n from the Indi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work, no 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’s basic r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ter of 1609-1610- “the starving tim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ready to abandon by Spring, 16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lish ships arrive with loads of suppl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29240" y="2384280"/>
            <a:ext cx="227484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0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7" dur="1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4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1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Surv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 habit spreads in England and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bacco becomes a cash crop for Jamestown, Virgin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lfe learns to grow and cure tobac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Jamestown a cash crop to s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 marries Indian princess Pocahontas and returns to England with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648320" cy="3611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2096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1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 Govern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of Burg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s the first law-making body in America on July 30, 161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step toward representative government in Amer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000760" y="2595600"/>
            <a:ext cx="3333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cline of the May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increased so fast that there was not enough food avail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ied, moved, or joined other trib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a civilization becomes extinct before the first Europeans come to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684760" y="1600200"/>
            <a:ext cx="1963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slaves are brought in to work the plantations in Virgin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 unmarried women sent to the coloni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, 1622- 347 settlers killed by Indian r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lers retaliate and poison 250 Ind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867280" y="1523880"/>
            <a:ext cx="2084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7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6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amestow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24- King James I decides to revoke the London Company charter for Jamest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s a royal colony ruled by the king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vern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vernor has power to reject laws made by the House of Burg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nists allowed to elect House members, but not the govern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871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7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2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Pe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a rich and powerful empire by conquering neighboring tri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zco- capital 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Andes Mount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Inca Empire -- Media -- Encarta ® Online "/>
          <p:cNvPicPr/>
          <p:nvPr/>
        </p:nvPicPr>
        <p:blipFill>
          <a:blip r:embed="rId1"/>
          <a:stretch/>
        </p:blipFill>
        <p:spPr>
          <a:xfrm>
            <a:off x="5029200" y="1752480"/>
            <a:ext cx="358128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Inc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llamas and alpacas for work and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wool for cloth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ans- fashioned gold and silver from the mines for jewelry and religious ic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4120" y="2438280"/>
            <a:ext cx="2971800" cy="2057400"/>
            <a:chOff x="5334120" y="2438280"/>
            <a:chExt cx="2971800" cy="2057400"/>
          </a:xfrm>
        </p:grpSpPr>
        <p:sp>
          <p:nvSpPr>
            <p:cNvPr id="142" name=""/>
            <p:cNvSpPr/>
            <p:nvPr/>
          </p:nvSpPr>
          <p:spPr>
            <a:xfrm>
              <a:off x="5334120" y="3733920"/>
              <a:ext cx="2971800" cy="7617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048120"/>
              <a:ext cx="2514600" cy="685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438280"/>
              <a:ext cx="1905120" cy="609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962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rmers, labor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200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Noble class- pries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438280"/>
              <a:ext cx="15238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63416"/>
                  </a:solidFill>
                  <a:latin typeface="Arial"/>
                </a:rPr>
                <a:t>THE INCA </a:t>
              </a:r>
              <a:r>
                <a:rPr b="1" lang="en-US" sz="1600" spc="-1" strike="noStrike">
                  <a:solidFill>
                    <a:srgbClr val="463416"/>
                  </a:solidFill>
                  <a:latin typeface="Arial"/>
                </a:rPr>
                <a:t>The Sun G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181480" y="48769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ower flowed from the Inca through the nobles to the peasa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Azte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ed in Central America from Mexico to southern North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chants traveled all over trading precious stones, cacao beans, gold, and sil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ochtitlan- capital c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Aztec Empire -- Media -- Encarta ® Online "/>
          <p:cNvPicPr/>
          <p:nvPr/>
        </p:nvPicPr>
        <p:blipFill>
          <a:blip r:embed="rId1"/>
          <a:stretch/>
        </p:blipFill>
        <p:spPr>
          <a:xfrm>
            <a:off x="5130720" y="1600200"/>
            <a:ext cx="3073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North American India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U.S. and Can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itory- tribes would band together for support, trade, and protection, but stayed i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w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ri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mpire crossed over into other territo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 area- A region in which most of the tribes had same sort of cul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841400"/>
            <a:ext cx="403848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3T00:40:27Z</dcterms:created>
  <dc:creator>George Maruska</dc:creator>
  <dc:description/>
  <dc:language>en-US</dc:language>
  <cp:lastModifiedBy>Laurel N. Desaulniers</cp:lastModifiedBy>
  <dcterms:modified xsi:type="dcterms:W3CDTF">2008-07-23T16:54:06Z</dcterms:modified>
  <cp:revision>13</cp:revision>
  <dc:subject/>
  <dc:title>Discovering the Americas</dc:title>
</cp:coreProperties>
</file>