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34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54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30.jpeg" ContentType="image/jpeg"/>
  <Override PartName="/ppt/media/image7.wmf" ContentType="image/x-wm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26E-7817-451A-8F51-06F5F6EF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2DD-A21B-4EBB-AC61-366DB11C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376-9977-47B3-A9BF-3AC943C7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3CB-D768-489F-9239-3263679B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66224-241E-43CD-9CAB-BC20A17A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5B399-0291-43F2-9B73-299AECF3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E3E6E-F6E4-447F-8466-5BD95C44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4FE00-6F21-4847-9760-95281DD6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71A70-D9E1-45A6-89C2-8DA36A94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EA28A-B4B2-46B3-A951-F308FD2B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0951E-BA56-43B6-A04D-9CA5CFE4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769-0EE4-4F70-96F6-85D90042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EE1A6-1ED2-4420-A669-F230948F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C3E0B-3D6B-4FC4-8126-1456E9D0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1047B-7744-4A23-96D8-9840FE77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30D25-80EE-4C18-9817-2B29D312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CCC6D-CC74-48CA-A1DB-4A57B465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9B3-2958-4B49-9A77-A6787A75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75B-A98D-474A-9B76-D42226F4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E5D-CC17-414A-B8E5-C840FCAB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7A8-0B12-4BA6-80E4-D2339440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283-11B4-48B1-9CC8-F62AB03B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993-DE33-420B-84EE-1E334B31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FBC-6407-4BF1-96B7-40A2E228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0A58-29CE-426F-B82D-FEDF52233A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5FAE-74B9-4ECE-8BE2-E19521F096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cs.ucalgary.ca/HIST/tutor/eurvoya/henry1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osselbay.co.za/info/history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Columbus, Christopher -- Media -- Encarta ® Online "/>
          <p:cNvPicPr/>
          <p:nvPr/>
        </p:nvPicPr>
        <p:blipFill>
          <a:blip r:embed="rId1"/>
          <a:stretch/>
        </p:blipFill>
        <p:spPr>
          <a:xfrm>
            <a:off x="2209680" y="533520"/>
            <a:ext cx="4542120" cy="51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Discovering the America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blo- Spanish for “town” because of their apartment-style homes made of ado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n dried bric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jos- Farmers, weaver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gan- home made of adobe and lo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aches- Wandering hu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ted deer for food and clot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ckiups- circular huts of brush that were built in minu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Navajo (people) -- Media -- Encarta ® Online "/>
          <p:cNvPicPr/>
          <p:nvPr/>
        </p:nvPicPr>
        <p:blipFill>
          <a:blip r:embed="rId1"/>
          <a:stretch/>
        </p:blipFill>
        <p:spPr>
          <a:xfrm>
            <a:off x="5402160" y="1600200"/>
            <a:ext cx="2530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8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ins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oux, Pawnees, Dakotas, Comanches, Kiowas, and Os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alo hunting for food, clothing, shelter, tools, fu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ing the summer month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shkun- buffalo ju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ee- cone-shaped tents made of buffalo hide stretched over lodge po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efs- chosen for specific 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gious, hunting, war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4648320" y="250344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hoshone, Pima, Nez Per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abited the western Great Pl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ain Ind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d Gatherers”- depended on food of seeds, berries, and ro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90400" y="2432160"/>
            <a:ext cx="37720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und Build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abited the Eastern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huge ceremonial mounds in the form of birds, be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Serpent Mound"/>
          <p:cNvPicPr/>
          <p:nvPr/>
        </p:nvPicPr>
        <p:blipFill>
          <a:blip r:embed="rId1"/>
          <a:stretch/>
        </p:blipFill>
        <p:spPr>
          <a:xfrm>
            <a:off x="4648320" y="2467080"/>
            <a:ext cx="4038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lgonquins, Iroquois, Creek, and Cherokee Indian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tribes of Eastern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known organized form of government in Nor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ribes to encounter the white 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Iroquois Village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6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1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6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dian Belief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rmony with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of social, economic, and religious pract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acred trust existed between man and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ng as we care for nature, it will supply us w/ all we n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ud of tribes and commu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ittle individual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800600" y="3505320"/>
            <a:ext cx="3505320" cy="1922760"/>
            <a:chOff x="4800600" y="3505320"/>
            <a:chExt cx="3505320" cy="1922760"/>
          </a:xfrm>
        </p:grpSpPr>
        <p:sp>
          <p:nvSpPr>
            <p:cNvPr id="174" name=""/>
            <p:cNvSpPr/>
            <p:nvPr/>
          </p:nvSpPr>
          <p:spPr>
            <a:xfrm>
              <a:off x="4800600" y="3505320"/>
              <a:ext cx="3505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i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amil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ivid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53080" y="39625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3080" y="464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600800" cy="624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uropean Explo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00’s-160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issance- a time for European people to turn to exploration of the sea and the a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sades- allowed Europeans to discover the spices and I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develops to pay for sp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l, gold,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l caravans carry products over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re to finder faster ways to move goo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merchants create a mono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ve control of t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Revolution- expansion of trade in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Camel Caravan"/>
          <p:cNvPicPr/>
          <p:nvPr/>
        </p:nvPicPr>
        <p:blipFill>
          <a:blip r:embed="rId1"/>
          <a:stretch/>
        </p:blipFill>
        <p:spPr>
          <a:xfrm>
            <a:off x="838080" y="3962520"/>
            <a:ext cx="35244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4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4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nce Henry “The Navigator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ed many Portuguese sail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 develops with African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d bowls and beads for fresh water and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Prince Hen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676520"/>
            <a:ext cx="2786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rtolomeu Dia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u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87- rounded the southern tip of Af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752480"/>
            <a:ext cx="2462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eoples from As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the land bridge over the Bering Stra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ppears when the glaciers covering N. America me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ught the first d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bs, stone-tipped arrow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animals for food and cl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ed the Rocky Mountains southw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sco da Gam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u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98- Sails around the Cape of Good Hope, Africa to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Portrait of Vasco da Gama"/>
          <p:cNvPicPr/>
          <p:nvPr/>
        </p:nvPicPr>
        <p:blipFill>
          <a:blip r:embed="rId1"/>
          <a:stretch/>
        </p:blipFill>
        <p:spPr>
          <a:xfrm>
            <a:off x="5105520" y="137160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" descr="Columbus Portrait"/>
          <p:cNvPicPr/>
          <p:nvPr/>
        </p:nvPicPr>
        <p:blipFill>
          <a:blip r:embed="rId1"/>
          <a:stretch/>
        </p:blipFill>
        <p:spPr>
          <a:xfrm>
            <a:off x="762120" y="1523880"/>
            <a:ext cx="3438360" cy="42674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sai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s Spanish money to sail westward in search of A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ved the earth was 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ina, Pinta, Santa 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12, 1492- Lands in Bahamas believing he has reached I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Spanish claims in N.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8006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if Erick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se- Norwegian peoples first to reach the America’s in 1000 B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ic the Red- discovers Green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f Erickson- explores the northeast coast of North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nland”- named for the grape v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173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9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9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9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9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ohn Cabo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97- Explores northeast North America for Eng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s Nova Scot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England its first claim to North American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John Cabot"/>
          <p:cNvPicPr/>
          <p:nvPr/>
        </p:nvPicPr>
        <p:blipFill>
          <a:blip r:embed="rId1"/>
          <a:stretch/>
        </p:blipFill>
        <p:spPr>
          <a:xfrm>
            <a:off x="457200" y="2097000"/>
            <a:ext cx="40384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iovanni da Verraza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lor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ut to find a “Northwest Passage” to Asia through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2762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cques Carti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voyages to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lf of St. Law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awrence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awrence River to Mont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es to establish a settlement, but fai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Jacques Cartier"/>
          <p:cNvPicPr/>
          <p:nvPr/>
        </p:nvPicPr>
        <p:blipFill>
          <a:blip r:embed="rId1"/>
          <a:stretch/>
        </p:blipFill>
        <p:spPr>
          <a:xfrm>
            <a:off x="825480" y="1714680"/>
            <a:ext cx="3301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830680" cy="3962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in and Portug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istadors- Spanish soldiers or “conquero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and Portugal leaders in the exploration of the Amer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- conquers the new western 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al- explores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ine of Demar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n by Pope Alexander 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ew lands explored west of the line were to belong to Spain- east of the line, Portu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ral- Portuguese explorer gets blown off course while sailing around Africa and discovers Braz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2246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y of Tordesill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merigo Vespucc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s the South American contin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European geographer proposes that the new find be named after Vespuc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335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4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9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ative Americ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peoples of the Amer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es- natives divided into different tribes speaking over 1000 different langu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- way of life (hunting, fishing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izations- Advanced cultures (tow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who settle down and l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4738680" y="191916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sco Balbo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13- Explores the Isthmus of Panama and finds another oc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 Sea”=Pacific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286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erdinand Magel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ls around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s the Strait of Magellan on the southern tip of South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s and names the Pacific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ed in the Philipp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 of the 237 men actually return to S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Ferdinand Magellan"/>
          <p:cNvPicPr/>
          <p:nvPr/>
        </p:nvPicPr>
        <p:blipFill>
          <a:blip r:embed="rId1"/>
          <a:stretch/>
        </p:blipFill>
        <p:spPr>
          <a:xfrm>
            <a:off x="5029200" y="1676520"/>
            <a:ext cx="339552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77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1" dur="77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3" dur="77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5" dur="77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5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gellan’s Rou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2296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nando Cor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rs the Azte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elieve him to be the god, Quetzalcoatl returning as promi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ctezuma- Aztec emperor murdered by Co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Hernán Cortés"/>
          <p:cNvPicPr/>
          <p:nvPr/>
        </p:nvPicPr>
        <p:blipFill>
          <a:blip r:embed="rId1"/>
          <a:stretch/>
        </p:blipFill>
        <p:spPr>
          <a:xfrm>
            <a:off x="838080" y="1371600"/>
            <a:ext cx="3302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ancisco Pizar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31- Conquers the In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aps The Inca, collects a ransom of gold and silver, and then murders the “Sun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27144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nce de Le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s Florida in search of gold and the “Fountain of Yout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s nei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Ponce de León"/>
          <p:cNvPicPr/>
          <p:nvPr/>
        </p:nvPicPr>
        <p:blipFill>
          <a:blip r:embed="rId1"/>
          <a:stretch/>
        </p:blipFill>
        <p:spPr>
          <a:xfrm>
            <a:off x="457200" y="254808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anfilo de Narvaez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267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explor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dition of 250 men survive a major hurricane near Cu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cover and explore the western coast of Florida in 152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y men die in attack by Indi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ip leaves them stran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rvaez and crew build 5 rafts and sail for Mex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rafts sink and Narvaez d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survivors wander throughout the Southwest for 8 years before arriving in Mexico C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979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nando de So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39- Explores the SE 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no gold, but discovers the Mississippi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074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ancisco Corona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s SW United States in search of “cities paved with streets of gold.”- El Dor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s no treasure, but discovers the Grand Cany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Francisco Vásquez de Coronado"/>
          <p:cNvPicPr/>
          <p:nvPr/>
        </p:nvPicPr>
        <p:blipFill>
          <a:blip r:embed="rId1"/>
          <a:stretch/>
        </p:blipFill>
        <p:spPr>
          <a:xfrm>
            <a:off x="4952880" y="2057400"/>
            <a:ext cx="35434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77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4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6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8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77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5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7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9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77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6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8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294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yas of Yucat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chest civilization in Central Ame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- religious centers with massive temp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ans- artists to decorate the buildings with murals and sculpt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lars- developed method of wri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sts- used sun to create a calend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ronomers- careful observation of planets and stars to predict eclip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Maya Civilization -- Media -- Encarta ® Online "/>
          <p:cNvPicPr/>
          <p:nvPr/>
        </p:nvPicPr>
        <p:blipFill>
          <a:blip r:embed="rId1"/>
          <a:stretch/>
        </p:blipFill>
        <p:spPr>
          <a:xfrm>
            <a:off x="1009800" y="1689120"/>
            <a:ext cx="29336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Colonial Societ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y- land settled by people from another country that remains under the control of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ugal- 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in- S. America, Mexico, Caribb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ards born in 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oles- Spanish born in the New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tizos- Spanish and Indian m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ns- n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attoes- black and Spanish m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mbos- Indian and black mi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3333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Colon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723920" y="13716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ng new plants, seeds, language, tools, and domestic anim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sugar pla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lave the native Indians to work on the pla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wipes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ced to look to Africa for work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all gold and silver back to S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ual decline in gold/silver supply leads to decline in Spanish po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s and rebellions cost mon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3718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77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1" dur="77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3" dur="77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5" dur="77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4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4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6" dur="2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848360" cy="50688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irates of the Caribbe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 Dogs- English and Dutch sailors attack Spanish ships and steal tr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Hawkins- Used to transport slaves, but made more money stealing from Spanish shi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is Drake- Sails around South America and raids Spanish ships- then sails around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nry Morgan- Amasses a wealth of over $70,000 in one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200844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629400" y="2209680"/>
            <a:ext cx="2085840" cy="2819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5105520" y="3962520"/>
            <a:ext cx="2089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Dec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Philip II of Spain attacks Queen Elizabeth’s England with the Spanish Arm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8- Entire Armada destroyed in the English Channel by a fierce st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d by the English Royal Na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tress of the Sea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Defeat of the Spanish Armada"/>
          <p:cNvPicPr/>
          <p:nvPr/>
        </p:nvPicPr>
        <p:blipFill>
          <a:blip r:embed="rId1"/>
          <a:stretch/>
        </p:blipFill>
        <p:spPr>
          <a:xfrm>
            <a:off x="457200" y="2689200"/>
            <a:ext cx="40384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8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8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8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glish Settling of Americ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r Walter Rale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7- given permission to start a colony in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noke- first colony in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prevent supplies getting to colo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91- supplies arrive, but colony is g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t Colon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16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6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7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1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Compan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er- official grant given by kind of certain rights, powers, and privile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ymouth Company and London (Virginia) Company given charters by King James I in 16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a Charta- limits King James’ powers and guaranteed English freed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292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8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19920" cy="46357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ed by London Company in 160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reasons for bad st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 blown off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on a low island in a river near a marsh full of malaria carrying mosquito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to drink dirty river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reasons why London Company failed James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discovery of gold a prio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ers not allowed to own any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to send workers to develop the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ohn Smi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leader of James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s men to dig wells, build shelters, clear the land, and plant fo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n from the Indi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work, no fo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ith’s basic ru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ter of 1609-1610- “the starving tim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sts ready to abandon by Spring, 16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ships arrive with loads of suppl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29240" y="2384280"/>
            <a:ext cx="227484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10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 Surv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 habit spreads in England and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bacco becomes a cash crop for Jamestown,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Rolfe learns to grow and cure tobac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Jamestown a cash crop to s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 marries Indian princess Pocahontas and returns to England with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648320" cy="3611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2096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 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of Burg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the first law-making body in America on July 30, 161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tep toward representative government in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000760" y="2595600"/>
            <a:ext cx="3333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line of the May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increased so fast that there was not enough food avail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ied, moved, or joined other trib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a civilization becomes extinct before the first Europeans come to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84760" y="1600200"/>
            <a:ext cx="196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slaves are brought in to work the plantations in Virgi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unmarried women sent to the coloni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, 1622- 347 settlers killed by Indian 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ers retaliate and poison 250 Indi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084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24- King James I decides to revoke the London Company charter for James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a royal colony ruled by the king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vern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or has power to reject laws made by the House of Burg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sts allowed to elect House members, but not the gover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871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d in Pe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a rich and powerful empire by conquering neighboring tri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zco- capital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Andes Mounta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Inca Empire -- Media -- Encarta ® Online "/>
          <p:cNvPicPr/>
          <p:nvPr/>
        </p:nvPicPr>
        <p:blipFill>
          <a:blip r:embed="rId1"/>
          <a:stretch/>
        </p:blipFill>
        <p:spPr>
          <a:xfrm>
            <a:off x="5029200" y="1752480"/>
            <a:ext cx="35812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llamas and alpacas for work and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ool for clo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sans- fashioned gold and silver from the mines for jewelry and religious ic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a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4120" y="2438280"/>
            <a:ext cx="2971800" cy="2057400"/>
            <a:chOff x="5334120" y="2438280"/>
            <a:chExt cx="2971800" cy="2057400"/>
          </a:xfrm>
        </p:grpSpPr>
        <p:sp>
          <p:nvSpPr>
            <p:cNvPr id="142" name=""/>
            <p:cNvSpPr/>
            <p:nvPr/>
          </p:nvSpPr>
          <p:spPr>
            <a:xfrm>
              <a:off x="5334120" y="3733920"/>
              <a:ext cx="2971800" cy="7617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62720" y="3048120"/>
              <a:ext cx="25146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2438280"/>
              <a:ext cx="1905120" cy="60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96252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armers, labor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200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3416"/>
                  </a:solidFill>
                  <a:latin typeface="Arial"/>
                </a:rPr>
                <a:t>Noble class- pries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2438280"/>
              <a:ext cx="1523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3416"/>
                  </a:solidFill>
                  <a:latin typeface="Arial"/>
                </a:rPr>
                <a:t>THE INCA </a:t>
              </a:r>
              <a:r>
                <a:rPr b="1" lang="en-US" sz="1600" spc="-1" strike="noStrike">
                  <a:solidFill>
                    <a:srgbClr val="463416"/>
                  </a:solidFill>
                  <a:latin typeface="Arial"/>
                </a:rPr>
                <a:t>The Sun G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181480" y="48769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ower flowed from the Inca through the nobles to the peasa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Azte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d in Central America from Mexico to southern Nor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hants traveled all over trading precious stones, cacao beans, gold, and sil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ochtitlan- capital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Aztec Empire -- Media -- Encarta ® Online "/>
          <p:cNvPicPr/>
          <p:nvPr/>
        </p:nvPicPr>
        <p:blipFill>
          <a:blip r:embed="rId1"/>
          <a:stretch/>
        </p:blipFill>
        <p:spPr>
          <a:xfrm>
            <a:off x="5130720" y="1600200"/>
            <a:ext cx="3073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North American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U.S. and Can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itory- tribes would band together for support, trade, and protection, but stayed in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w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mpire crossed over into other territo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 area- A region in which most of the tribes had same sort of cul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841400"/>
            <a:ext cx="40384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00:40:27Z</dcterms:created>
  <dc:creator>George Maruska</dc:creator>
  <dc:description/>
  <dc:language>en-US</dc:language>
  <cp:lastModifiedBy>Laurel N. Desaulniers</cp:lastModifiedBy>
  <dcterms:modified xsi:type="dcterms:W3CDTF">2008-07-23T16:54:06Z</dcterms:modified>
  <cp:revision>13</cp:revision>
  <dc:subject/>
  <dc:title>Discovering the Americas</dc:title>
</cp:coreProperties>
</file>