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34.jpeg" ContentType="image/jpeg"/>
  <Override PartName="/ppt/media/image44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54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52.jpeg" ContentType="image/jpeg"/>
  <Override PartName="/ppt/media/image30.jpeg" ContentType="image/jpeg"/>
  <Override PartName="/ppt/media/image7.wmf" ContentType="image/x-wmf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61F-99B2-4C77-B95D-50F7143D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5DF4-C348-4EBA-B43D-C188F825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FA93-96C0-434B-BCF8-98687830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BE7-DDFB-4B14-8A6E-C45CB301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F3AA0-B252-41A2-BC1A-A9502A0EC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02536-6014-4D95-8ED6-84016AE1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D71C0-3045-4BFE-8254-6F4F2ADC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BE684-DC9E-4AC4-8DEC-60C28DF5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AE06E-6211-4631-99EC-9AEF49DA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DB219-59C0-445A-BED4-AD999F8A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A9953-C307-450E-87EA-A7EF3A86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72B-4735-4161-8F61-C228E0EA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DB51F-BCBA-40C4-B4C2-1139245C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287AA-C7F7-4674-9D83-548F8430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CE786-2E45-44F7-AE6E-1B1EC269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E3B47-14A6-44BD-A9EA-30E8D061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F793F-E41B-4F54-ACB2-16C8E1FD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44FA-99E5-40DD-A4D1-283166F7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5F2F-4B56-4F3E-AF3A-BA6C9CC7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F4B6-6A2E-4529-AD2B-5811238C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E34-B986-42FE-8745-99C0D11C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76E-4DB6-4E95-B93E-356677EF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514-45FF-45E1-AC78-063EA831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B08B-8CE6-4EC4-AD8A-2D3405B4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09CD-7F92-4C2A-B87E-0ECC7EA71E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7F0B-854F-4B44-A9BB-5743FFC3EF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cs.ucalgary.ca/HIST/tutor/eurvoya/henry1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osselbay.co.za/info/history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Columbus, Christopher -- Media -- Encarta ® Online "/>
          <p:cNvPicPr/>
          <p:nvPr/>
        </p:nvPicPr>
        <p:blipFill>
          <a:blip r:embed="rId1"/>
          <a:stretch/>
        </p:blipFill>
        <p:spPr>
          <a:xfrm>
            <a:off x="2209680" y="533520"/>
            <a:ext cx="4542120" cy="518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Discovering the America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uthwest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eblo- Spanish for “town” because of their apartment-style homes made of adob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un dried bric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jos- Farmers, weaver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gan- home made of adobe and lo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aches- Wandering hu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nted deer for food and cloth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ckiups- circular huts of brush that were built in minu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Navajo (people) -- Media -- Encarta ® Online "/>
          <p:cNvPicPr/>
          <p:nvPr/>
        </p:nvPicPr>
        <p:blipFill>
          <a:blip r:embed="rId1"/>
          <a:stretch/>
        </p:blipFill>
        <p:spPr>
          <a:xfrm>
            <a:off x="5402160" y="1600200"/>
            <a:ext cx="2530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8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ins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oux, Pawnees, Dakotas, Comanches, Kiowas, and Os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alo hunting for food, clothing, shelter, tools, fu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ing the summer month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shkun- buffalo ju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pee- cone-shaped tents made of buffalo hide stretched over lodge po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efs- chosen for specific purp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gious, hunting, warr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Native Americans of North America -- Media -- Encarta ® Online "/>
          <p:cNvPicPr/>
          <p:nvPr/>
        </p:nvPicPr>
        <p:blipFill>
          <a:blip r:embed="rId1"/>
          <a:stretch/>
        </p:blipFill>
        <p:spPr>
          <a:xfrm>
            <a:off x="4648320" y="2503440"/>
            <a:ext cx="40384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hoshone, Pima, Nez Per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abited the western Great Pl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untain Ind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d Gatherers”- depended on food of seeds, berries, and roo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90400" y="2432160"/>
            <a:ext cx="37720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und Build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abited the Eastern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huge ceremonial mounds in the form of birds, bea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Serpent Mound"/>
          <p:cNvPicPr/>
          <p:nvPr/>
        </p:nvPicPr>
        <p:blipFill>
          <a:blip r:embed="rId1"/>
          <a:stretch/>
        </p:blipFill>
        <p:spPr>
          <a:xfrm>
            <a:off x="4648320" y="2467080"/>
            <a:ext cx="40384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lgonquins, Iroquois, Creek, and Cherokee Indian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tribes of Eastern N.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known organized form of government in North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tribes to encounter the white 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Iroquois Village"/>
          <p:cNvPicPr/>
          <p:nvPr/>
        </p:nvPicPr>
        <p:blipFill>
          <a:blip r:embed="rId1"/>
          <a:stretch/>
        </p:blipFill>
        <p:spPr>
          <a:xfrm>
            <a:off x="457200" y="18288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2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7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2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dian Belief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rmony with N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t of social, economic, and religious pract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acred trust existed between man and n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long as we care for nature, it will supply us w/ all we n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ud of tribes and commun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little individual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800600" y="3505320"/>
            <a:ext cx="3505320" cy="1922760"/>
            <a:chOff x="4800600" y="3505320"/>
            <a:chExt cx="3505320" cy="1922760"/>
          </a:xfrm>
        </p:grpSpPr>
        <p:sp>
          <p:nvSpPr>
            <p:cNvPr id="174" name=""/>
            <p:cNvSpPr/>
            <p:nvPr/>
          </p:nvSpPr>
          <p:spPr>
            <a:xfrm>
              <a:off x="4800600" y="3505320"/>
              <a:ext cx="35053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ib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amil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divid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53080" y="39625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3080" y="46483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600800" cy="62485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uropean Explora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00’s-160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8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lor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issance- a time for European people to turn to exploration of the sea and the a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usades- allowed Europeans to discover the spices and Ind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 develops to pay for sp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l, gold, sil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el caravans carry products over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re to finder faster ways to move goo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merchants create a mono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lusive control of tra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rcial Revolution- expansion of trade in Euro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Camel Caravan"/>
          <p:cNvPicPr/>
          <p:nvPr/>
        </p:nvPicPr>
        <p:blipFill>
          <a:blip r:embed="rId1"/>
          <a:stretch/>
        </p:blipFill>
        <p:spPr>
          <a:xfrm>
            <a:off x="838080" y="3962520"/>
            <a:ext cx="35244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8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8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8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4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4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5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4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4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nce Henry “The Navigator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ed many Portuguese sail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e develops with African 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d bowls and beads for fresh water and f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Prince Hen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676520"/>
            <a:ext cx="2786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rtolomeu Dia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u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87- rounded the southern tip of Af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752480"/>
            <a:ext cx="24620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Peoples from As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 the land bridge over the Bering Stra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ppears when the glaciers covering N. America me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ught the first d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bs, stone-tipped arrow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d animals for food and cl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ed the Rocky Mountains southw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asco da Gam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u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98- Sails around the Cape of Good Hope, Africa to In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Portrait of Vasco da Gama"/>
          <p:cNvPicPr/>
          <p:nvPr/>
        </p:nvPicPr>
        <p:blipFill>
          <a:blip r:embed="rId1"/>
          <a:stretch/>
        </p:blipFill>
        <p:spPr>
          <a:xfrm>
            <a:off x="5105520" y="1371600"/>
            <a:ext cx="2857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opher Columb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" descr="Columbus Portrait"/>
          <p:cNvPicPr/>
          <p:nvPr/>
        </p:nvPicPr>
        <p:blipFill>
          <a:blip r:embed="rId1"/>
          <a:stretch/>
        </p:blipFill>
        <p:spPr>
          <a:xfrm>
            <a:off x="762120" y="1523880"/>
            <a:ext cx="3438360" cy="42674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2520" y="137160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sai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s Spanish money to sail westward in search of As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ieved the earth was r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ina, Pinta, Santa 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tober 12, 1492- Lands in Bahamas believing he has reached Ind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s Spanish claims in N.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48006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if Erick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se- Norwegian peoples first to reach the America’s in 1000 B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ic the Red- discovers Green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if Erickson- explores the northeast coast of North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nland”- named for the grape v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173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9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9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9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9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ohn Cabo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al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97- Explores northeast North America for Eng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s Nova Scot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s England its first claim to North American 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John Cabot"/>
          <p:cNvPicPr/>
          <p:nvPr/>
        </p:nvPicPr>
        <p:blipFill>
          <a:blip r:embed="rId1"/>
          <a:stretch/>
        </p:blipFill>
        <p:spPr>
          <a:xfrm>
            <a:off x="457200" y="2097000"/>
            <a:ext cx="403848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iovanni da Verrazan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explor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ut to find a “Northwest Passage” to Asia through N.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2762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cques Carti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explo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voyages to N.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lf of St. Law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. Lawrence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. Lawrence River to Mont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es to establish a settlement, but fai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Jacques Cartier"/>
          <p:cNvPicPr/>
          <p:nvPr/>
        </p:nvPicPr>
        <p:blipFill>
          <a:blip r:embed="rId1"/>
          <a:stretch/>
        </p:blipFill>
        <p:spPr>
          <a:xfrm>
            <a:off x="825480" y="1714680"/>
            <a:ext cx="3301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2830680" cy="39621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in and Portug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quistadors- Spanish soldiers or “conqueror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in and Portugal leaders in the exploration of the Amer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in- conquers the new western 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al- explores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ine of Demar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n by Pope Alexander 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new lands explored west of the line were to belong to Spain- east of the line, Portug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bral- Portuguese explorer gets blown off course while sailing around Africa and discovers Braz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2438280" cy="3048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553080" y="2971800"/>
            <a:ext cx="2246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77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2" dur="77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4" dur="77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6" dur="77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4" dur="8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eaty of Tordesill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477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merigo Vespucci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s the South American contin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European geographer proposes that the new find be named after Vespuc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7335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5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0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5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ative Americ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peoples of the Amer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es- natives divided into different tribes speaking over 1000 different langu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- way of life (hunting, fishing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vilizations- Advanced cultures (tow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who settle down and l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Native Americans of North America -- Media -- Encarta ® Online "/>
          <p:cNvPicPr/>
          <p:nvPr/>
        </p:nvPicPr>
        <p:blipFill>
          <a:blip r:embed="rId1"/>
          <a:stretch/>
        </p:blipFill>
        <p:spPr>
          <a:xfrm>
            <a:off x="4738680" y="1919160"/>
            <a:ext cx="3857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asco Balbo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Explo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13- Explores the Isthmus of Panama and finds another oc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th Sea”=Pacific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2863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erdinand Magell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ils around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vers the Strait of Magellan on the southern tip of South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vers and names the Pacific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lled in the Philipp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 of the 237 men actually return to Sp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Ferdinand Magellan"/>
          <p:cNvPicPr/>
          <p:nvPr/>
        </p:nvPicPr>
        <p:blipFill>
          <a:blip r:embed="rId1"/>
          <a:stretch/>
        </p:blipFill>
        <p:spPr>
          <a:xfrm>
            <a:off x="5029200" y="1676520"/>
            <a:ext cx="339552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2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2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gellan’s Rou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22960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rnando Cor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quers the Azte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believe him to be the god, Quetzalcoatl returning as promi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ctezuma- Aztec emperor murdered by Cor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Hernán Cortés"/>
          <p:cNvPicPr/>
          <p:nvPr/>
        </p:nvPicPr>
        <p:blipFill>
          <a:blip r:embed="rId1"/>
          <a:stretch/>
        </p:blipFill>
        <p:spPr>
          <a:xfrm>
            <a:off x="838080" y="1371600"/>
            <a:ext cx="3302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1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6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1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rancisco Pizar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31- Conquers the In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aps The Inca, collects a ransom of gold and silver, and then murders the “Sun Go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27144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nce de Le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es Florida in search of gold and the “Fountain of Youth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s nei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Ponce de León"/>
          <p:cNvPicPr/>
          <p:nvPr/>
        </p:nvPicPr>
        <p:blipFill>
          <a:blip r:embed="rId1"/>
          <a:stretch/>
        </p:blipFill>
        <p:spPr>
          <a:xfrm>
            <a:off x="457200" y="2548080"/>
            <a:ext cx="4038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anfilo de Narvaez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4267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nish explor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dition of 250 men survive a major hurricane near Cub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cover and explore the western coast of Florida in 152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y men die in attack by Indi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ip leaves them stran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rvaez and crew build 5 rafts and sail for Mex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rafts sink and Narvaez d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 survivors wander throughout the Southwest for 8 years before arriving in Mexico C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979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rnando de So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39- Explores the SE United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no gold, but discovers the Mississippi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074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rancisco Corona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es SW United States in search of “cities paved with streets of gold.”- El Dor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s no treasure, but discovers the Grand Cany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Francisco Vásquez de Coronado"/>
          <p:cNvPicPr/>
          <p:nvPr/>
        </p:nvPicPr>
        <p:blipFill>
          <a:blip r:embed="rId1"/>
          <a:stretch/>
        </p:blipFill>
        <p:spPr>
          <a:xfrm>
            <a:off x="4952880" y="2057400"/>
            <a:ext cx="35434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77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5" dur="77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7" dur="77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9" dur="77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6294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yas of Yucat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chest civilization in Central Ame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- religious centers with massive temp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sans- artists to decorate the buildings with murals and sculpt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lars- developed method of wri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tists- used sun to create a calend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tronomers- careful observation of planets and stars to predict eclip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Maya Civilization -- Media -- Encarta ® Online "/>
          <p:cNvPicPr/>
          <p:nvPr/>
        </p:nvPicPr>
        <p:blipFill>
          <a:blip r:embed="rId1"/>
          <a:stretch/>
        </p:blipFill>
        <p:spPr>
          <a:xfrm>
            <a:off x="1009800" y="1689120"/>
            <a:ext cx="29336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nish Colonial Societ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ny- land settled by people from another country that remains under the control of the cou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ugal- 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in- S. America, Mexico, Caribbe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0" y="12949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ards born in 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oles- Spanish born in the New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tizos- Spanish and Indian m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ans- n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attoes- black and Spanish m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mbos- Indian and black mi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3333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3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nish Colon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723920" y="13716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ng new plants, seeds, language, tools, and domestic anim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sugar plan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lave the native Indians to work on the plan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wipes 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ced to look to Africa for work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 all gold and silver back to Sp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tual decline in gold/silver supply leads to decline in Spanish po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s and rebellions cost mon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3718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9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8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8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8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8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7" dur="2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2" dur="2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10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848360" cy="50688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Pirates of the Caribbe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 Dogs- English and Dutch sailors attack Spanish ships and steal treas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hn Hawkins- Used to transport slaves, but made more money stealing from Spanish shi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is Drake- Sails around South America and raids Spanish ships- then sails around the wor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nry Morgan- Amasses a wealth of over $70,000 in one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2008440" cy="2743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629400" y="2209680"/>
            <a:ext cx="2085840" cy="28195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5105520" y="3962520"/>
            <a:ext cx="2089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nish Dec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g Philip II of Spain attacks Queen Elizabeth’s England with the Spanish Arm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88- Entire Armada destroyed in the English Channel by a fierce st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d by the English Royal Nav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stress of the Sea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Defeat of the Spanish Armada"/>
          <p:cNvPicPr/>
          <p:nvPr/>
        </p:nvPicPr>
        <p:blipFill>
          <a:blip r:embed="rId1"/>
          <a:stretch/>
        </p:blipFill>
        <p:spPr>
          <a:xfrm>
            <a:off x="457200" y="2689200"/>
            <a:ext cx="40384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8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8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8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8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8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8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8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8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8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8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8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8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glish Settling of Americ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r Walter Rale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87- given permission to start a colony in Virgi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noke- first colony in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prevent supplies getting to colon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91- supplies arrive, but colony is g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t Colony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516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6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3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0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7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4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1" dur="1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Compan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ter- official grant given by kind of certain rights, powers, and privile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ymouth Company and London (Virginia) Company given charters by King James I in 160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a Charta- limits King James’ powers and guaranteed English freed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257800" y="3581280"/>
            <a:ext cx="2924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6" dur="8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7" dur="8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8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8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019920" cy="46357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ed by London Company in 160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reasons for bad st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 blown off 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on a low island in a river near a marsh full of malaria carrying mosquito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d to drink dirty river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reasons why London Company failed Jamest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discovery of gold a prior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lers not allowed to own anyt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to send workers to develop the a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ohn Smit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leader of Jamest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s men to dig wells, build shelters, clear the land, and plant fo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n from the Indi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work, no foo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ith’s basic ru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ter of 1609-1610- “the starving tim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nists ready to abandon by Spring, 16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lish ships arrive with loads of suppl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29240" y="2384280"/>
            <a:ext cx="227484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5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6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0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10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1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 Surv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 habit spreads in England and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bacco becomes a cash crop for Jamestown, Virgi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Rolfe learns to grow and cure tobac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Jamestown a cash crop to s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ually marries Indian princess Pocahontas and returns to England with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267080" y="1447920"/>
            <a:ext cx="4648320" cy="3611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629400" y="4038480"/>
            <a:ext cx="22096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5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9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6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3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 Govern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of Burg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the first law-making body in America on July 30, 161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step toward representative government in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000760" y="2595600"/>
            <a:ext cx="3333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cline of the May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increased so fast that there was not enough food avail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died, moved, or joined other trib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a civilization becomes extinct before the first Europeans come to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684760" y="1600200"/>
            <a:ext cx="1963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2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7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slaves are brought in to work the plantations in Virgi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 unmarried women sent to the coloni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, 1622- 347 settlers killed by Indian r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lers retaliate and poison 250 Indi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867280" y="1523880"/>
            <a:ext cx="2084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3" dur="indefinite" restart="never" nodeType="tmRoot">
          <p:childTnLst>
            <p:seq>
              <p:cTn id="1554" dur="indefinite" nodeType="mainSeq">
                <p:childTnLst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9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8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24- King James I decides to revoke the London Company charter for Jamest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s a royal colony ruled by the king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vern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vernor has power to reject laws made by the House of Burge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nists allowed to elect House members, but not the govern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871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7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Inc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ed in Pe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ed a rich and powerful empire by conquering neighboring tri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zco- capital 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the Andes Mounta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Inca Empire -- Media -- Encarta ® Online "/>
          <p:cNvPicPr/>
          <p:nvPr/>
        </p:nvPicPr>
        <p:blipFill>
          <a:blip r:embed="rId1"/>
          <a:stretch/>
        </p:blipFill>
        <p:spPr>
          <a:xfrm>
            <a:off x="5029200" y="1752480"/>
            <a:ext cx="358128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Inc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llamas and alpacas for work and f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wool for clo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isans- fashioned gold and silver from the mines for jewelry and religious ic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a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4120" y="2438280"/>
            <a:ext cx="2971800" cy="2057400"/>
            <a:chOff x="5334120" y="2438280"/>
            <a:chExt cx="2971800" cy="2057400"/>
          </a:xfrm>
        </p:grpSpPr>
        <p:sp>
          <p:nvSpPr>
            <p:cNvPr id="142" name=""/>
            <p:cNvSpPr/>
            <p:nvPr/>
          </p:nvSpPr>
          <p:spPr>
            <a:xfrm>
              <a:off x="5334120" y="3733920"/>
              <a:ext cx="2971800" cy="7617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62720" y="3048120"/>
              <a:ext cx="251460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67280" y="2438280"/>
              <a:ext cx="1905120" cy="609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96252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armers, labore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2004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63416"/>
                  </a:solidFill>
                  <a:latin typeface="Arial"/>
                </a:rPr>
                <a:t>Noble class- pries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2438280"/>
              <a:ext cx="15238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63416"/>
                  </a:solidFill>
                  <a:latin typeface="Arial"/>
                </a:rPr>
                <a:t>THE INCA </a:t>
              </a:r>
              <a:r>
                <a:rPr b="1" lang="en-US" sz="1600" spc="-1" strike="noStrike">
                  <a:solidFill>
                    <a:srgbClr val="463416"/>
                  </a:solidFill>
                  <a:latin typeface="Arial"/>
                </a:rPr>
                <a:t>The Sun Go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181480" y="48769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ower flowed from the Inca through the nobles to the peasa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9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Aztec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ed in Central America from Mexico to southern North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hants traveled all over trading precious stones, cacao beans, gold, and sil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ochtitlan- capital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Aztec Empire -- Media -- Encarta ® Online "/>
          <p:cNvPicPr/>
          <p:nvPr/>
        </p:nvPicPr>
        <p:blipFill>
          <a:blip r:embed="rId1"/>
          <a:stretch/>
        </p:blipFill>
        <p:spPr>
          <a:xfrm>
            <a:off x="5130720" y="1600200"/>
            <a:ext cx="3073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North American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U.S. and Can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itory- tribes would band together for support, trade, and protection, but stayed in thei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w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empire crossed over into other territor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 area- A region in which most of the tribes had same sort of cul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841400"/>
            <a:ext cx="403848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3T00:40:27Z</dcterms:created>
  <dc:creator>George Maruska</dc:creator>
  <dc:description/>
  <dc:language>en-US</dc:language>
  <cp:lastModifiedBy>Laurel N. Desaulniers</cp:lastModifiedBy>
  <dcterms:modified xsi:type="dcterms:W3CDTF">2008-07-23T16:54:06Z</dcterms:modified>
  <cp:revision>13</cp:revision>
  <dc:subject/>
  <dc:title>Discovering the Americas</dc:title>
</cp:coreProperties>
</file>