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4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30.jpeg" ContentType="image/jpeg"/>
  <Override PartName="/ppt/media/image7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77E-54DA-4DAF-B696-2C99414C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F7D-3D0D-45E3-ADE2-1D997CFD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FE8-72C6-4072-AC9C-0C0C9CA9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FF7-DB8B-45BE-82DA-0AD5C763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F261B-5105-429B-93C2-559E925B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18B5E-A7C8-464A-B139-CC18D97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FC81A-AC0D-4B99-BCE0-9C331006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63414-7820-4832-8C5D-99A7E851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BA13B-249C-447D-8A33-87B73D97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5FD82-0138-4B42-BECA-53AC4099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D21BC-4FBA-4D6D-A1C8-7F787490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953-71A4-497B-963C-81115FD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F7C02-2869-4AB5-A80E-E7051CE4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E9B47-3C4A-4FB1-A60C-5C3AC710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40304-91FB-4CAC-A7E4-1BE5EC05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B16A1-C89C-4AB5-9976-8AA4B7C2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825EC-277E-4E3C-B49A-FFBA9B5D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94C-3679-46BA-B844-DBC8C1E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0C4-982B-4DF9-9C29-8896A54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9C2-ACCB-4A35-877B-FDCDA4E6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D4B-E9A1-4A0A-9C25-DF4CA269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551-5F9E-4D44-8598-45FDB46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466-D6A4-4C8F-997B-8C20B64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28B-615A-4BEC-8780-358AF82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5D4E-9C43-42B5-9424-375903E47F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ECCE-9427-48DE-993B-3D3EFE423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.ucalgary.ca/HIST/tutor/eurvoya/henry1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sselbay.co.za/info/history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Columbus, Christopher -- Media -- Encarta ® Online "/>
          <p:cNvPicPr/>
          <p:nvPr/>
        </p:nvPicPr>
        <p:blipFill>
          <a:blip r:embed="rId1"/>
          <a:stretch/>
        </p:blipFill>
        <p:spPr>
          <a:xfrm>
            <a:off x="2209680" y="533520"/>
            <a:ext cx="4542120" cy="51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Discovering the America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blo- Spanish for “town” because of their apartment-style homes made of ado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n dried bri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jos- Farmers, weaver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gan- home made of adobe and lo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aches- Wandering h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ed deer for food and clo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ckiups- circular huts of brush that were built in minu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Navajo (people) -- Media -- Encarta ® Online "/>
          <p:cNvPicPr/>
          <p:nvPr/>
        </p:nvPicPr>
        <p:blipFill>
          <a:blip r:embed="rId1"/>
          <a:stretch/>
        </p:blipFill>
        <p:spPr>
          <a:xfrm>
            <a:off x="5402160" y="1600200"/>
            <a:ext cx="2530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ins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oux, Pawnees, Dakotas, Comanches, Kiowas, and Os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alo hunting for food, clothing, shelter, tools, f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ng the summer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shkun- buffalo ju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ee- cone-shaped tents made of buffalo hide stretched over lodge p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efs- chosen for specific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, hunting, war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648320" y="250344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hoshone, Pima, Nez Per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western Great Pl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 Ind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 Gatherers”- depended on food of seeds, berries, and ro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0400" y="2432160"/>
            <a:ext cx="3772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und Buil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Eastern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huge ceremonial mounds in the form of birds, be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Serpent Mound"/>
          <p:cNvPicPr/>
          <p:nvPr/>
        </p:nvPicPr>
        <p:blipFill>
          <a:blip r:embed="rId1"/>
          <a:stretch/>
        </p:blipFill>
        <p:spPr>
          <a:xfrm>
            <a:off x="4648320" y="2467080"/>
            <a:ext cx="4038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lgonquins, Iroquois, Creek, and Cherokee Indian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tribes of Eastern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known organized form of government i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bes to encounter the white 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Iroquois Village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dian Belief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rmony with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of social, economic, and religious pract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acred trust existed between man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we care for nature, it will supply us w/ all we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ud of tribes and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individual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800600" y="3505320"/>
            <a:ext cx="3505320" cy="1922760"/>
            <a:chOff x="4800600" y="3505320"/>
            <a:chExt cx="3505320" cy="1922760"/>
          </a:xfrm>
        </p:grpSpPr>
        <p:sp>
          <p:nvSpPr>
            <p:cNvPr id="174" name=""/>
            <p:cNvSpPr/>
            <p:nvPr/>
          </p:nvSpPr>
          <p:spPr>
            <a:xfrm>
              <a:off x="4800600" y="3505320"/>
              <a:ext cx="3505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i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39625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464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00800" cy="624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uropean Explo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0’s-160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issance- a time for European people to turn to exploration of the sea and the 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ades- allowed Europeans to discover the spices an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develops to pay for sp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l, gold,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l caravans carry products over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 to finder faster ways to move goo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merchants create a mono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ve control of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Revolution- expansion of trade in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Camel Caravan"/>
          <p:cNvPicPr/>
          <p:nvPr/>
        </p:nvPicPr>
        <p:blipFill>
          <a:blip r:embed="rId1"/>
          <a:stretch/>
        </p:blipFill>
        <p:spPr>
          <a:xfrm>
            <a:off x="838080" y="3962520"/>
            <a:ext cx="35244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0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nce Henry “The Navigator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d many Portuguese sail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develops with African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d bowls and beads for fresh water and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Prince Hen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676520"/>
            <a:ext cx="278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rtolomeu Dia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87- rounded the southern tip of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752480"/>
            <a:ext cx="2462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eoples from As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the land bridge over the Bering Str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ppears when the glaciers covering N. America m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the first d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bs, stone-tipped arrow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animals for food and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d the Rocky Mountains south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da Ga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8- Sails around the Cape of Good Hope, Africa to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Portrait of Vasco da Gama"/>
          <p:cNvPicPr/>
          <p:nvPr/>
        </p:nvPicPr>
        <p:blipFill>
          <a:blip r:embed="rId1"/>
          <a:stretch/>
        </p:blipFill>
        <p:spPr>
          <a:xfrm>
            <a:off x="5105520" y="137160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" descr="Columbus Portrait"/>
          <p:cNvPicPr/>
          <p:nvPr/>
        </p:nvPicPr>
        <p:blipFill>
          <a:blip r:embed="rId1"/>
          <a:stretch/>
        </p:blipFill>
        <p:spPr>
          <a:xfrm>
            <a:off x="762120" y="1523880"/>
            <a:ext cx="3438360" cy="42674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sa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s Spanish money to sail westward in search of A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the earth was 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na, Pinta, Santa 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12, 1492- Lands in Bahamas believing he has reache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Spanish claims in N.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8006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if Erick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se- Norwegian peoples first to reach the America’s in 1000 B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ic the Red- discovers Gree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f Erickson- explores the northeast coast of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land”- named for the grape v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173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9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9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9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Cabo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Nova Scot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John Cabot"/>
          <p:cNvPicPr/>
          <p:nvPr/>
        </p:nvPicPr>
        <p:blipFill>
          <a:blip r:embed="rId1"/>
          <a:stretch/>
        </p:blipFill>
        <p:spPr>
          <a:xfrm>
            <a:off x="457200" y="2097000"/>
            <a:ext cx="40384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iovanni da Verraz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ut to find a “Northwest Passage” to Asia through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76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cques Carti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voyages to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of St. Law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 to Mont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s to establish a settlement,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Jacques Cartier"/>
          <p:cNvPicPr/>
          <p:nvPr/>
        </p:nvPicPr>
        <p:blipFill>
          <a:blip r:embed="rId1"/>
          <a:stretch/>
        </p:blipFill>
        <p:spPr>
          <a:xfrm>
            <a:off x="825480" y="1714680"/>
            <a:ext cx="3301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83068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in and Portug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istadors- Spanish soldiers or “conquer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and Portugal leaders in the exploration of the Amer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- conquers the new wester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- explores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e of Demar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n by Pope Alexander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ew lands explored west of the line were to belong to Spain- east of the line, Portu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ral- Portuguese explorer gets blown off course while sailing around Africa and discovers Braz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246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y of Tordesill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erigo Vespucc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the South American conti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European geographer proposes that the new find be named after Vespuc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35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4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9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4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ative Americ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peoples of the Amer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es- natives divided into different tribes speaking over 1000 different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- way of life (hunting, fishing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izations- Advanced cultures (tow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who settle down and l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738680" y="191916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Balbo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13- Explores the Isthmus of Panama and finds another oc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 Sea”=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86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rdinand Magel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ls around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the Strait of Magellan on the southern tip of Sou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and names the 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d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 of the 237 men actually return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Ferdinand Magellan"/>
          <p:cNvPicPr/>
          <p:nvPr/>
        </p:nvPicPr>
        <p:blipFill>
          <a:blip r:embed="rId1"/>
          <a:stretch/>
        </p:blipFill>
        <p:spPr>
          <a:xfrm>
            <a:off x="5029200" y="1676520"/>
            <a:ext cx="339552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8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gellan’s Rou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Cor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s the Azte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lieve him to be the god, Quetzalcoatl returning as promi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ctezuma- Aztec emperor murdered by C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Hernán Cortés"/>
          <p:cNvPicPr/>
          <p:nvPr/>
        </p:nvPicPr>
        <p:blipFill>
          <a:blip r:embed="rId1"/>
          <a:stretch/>
        </p:blipFill>
        <p:spPr>
          <a:xfrm>
            <a:off x="838080" y="1371600"/>
            <a:ext cx="3302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5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1- Conquers the In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aps The Inca, collects a ransom of gold and silver, and then murders the “Sun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714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nce de Le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Florida in search of gold and the “Fountain of You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ei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Ponce de León"/>
          <p:cNvPicPr/>
          <p:nvPr/>
        </p:nvPicPr>
        <p:blipFill>
          <a:blip r:embed="rId1"/>
          <a:stretch/>
        </p:blipFill>
        <p:spPr>
          <a:xfrm>
            <a:off x="457200" y="25480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anfilo de Narvaez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267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explo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dition of 250 men survive a major hurricane nea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over and explore the western coast of Florida in 15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y men die in attack by Indi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p leaves them stra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rvaez and crew build 5 rafts and sail for Mex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rafts sink and Narvaez d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survivors wander throughout the Southwest for 8 years before arriving in Mexico C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79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9- Explores the S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no gold, but discovers the Mississippi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07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Corona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SW United States in search of “cities paved with streets of gold.”- El Do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o treasure, but discovers the Grand Cany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Francisco Vásquez de Coronado"/>
          <p:cNvPicPr/>
          <p:nvPr/>
        </p:nvPicPr>
        <p:blipFill>
          <a:blip r:embed="rId1"/>
          <a:stretch/>
        </p:blipFill>
        <p:spPr>
          <a:xfrm>
            <a:off x="4952880" y="2057400"/>
            <a:ext cx="354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77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77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3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5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7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77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4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6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8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yas of Yucat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hest civilization in Central Ame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- religious centers with massive temp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ans- artists to decorate the buildings with murals and sculp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lars- developed method of wri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- used sun to create a calen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ronomers- careful observation of planets and stars to predict eclip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ya Civilization -- Media -- Encarta ® Online "/>
          <p:cNvPicPr/>
          <p:nvPr/>
        </p:nvPicPr>
        <p:blipFill>
          <a:blip r:embed="rId1"/>
          <a:stretch/>
        </p:blipFill>
        <p:spPr>
          <a:xfrm>
            <a:off x="1009800" y="1689120"/>
            <a:ext cx="29336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al Socie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- land settled by people from another country that remains under the control of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ugal- 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- S. America, Mexico,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ards born in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oles- Spanish born in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tizos- Spanish and Indian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ns- 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attoes- black and Spanish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bos- Indian and black m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333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ng new plants, seeds, language, tools, and domestic anim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sugar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lave the native Indians to work on the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wipes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d to look to Africa for wor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all gold and silver back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ual decline in gold/silver supply leads to decline in Spanish po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s and rebellions cost mo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71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4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9" dur="8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8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8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48360" cy="50688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irates of the Caribbe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 Dogs- English and Dutch sailors attack Spanish ships and steal tr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Hawkins- Used to transport slaves, but made more money stealing from Spanish 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is Drake- Sails around South America and raids Spanish ships- then sails around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nry Morgan- Amasses a wealth of over $70,000 in one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00844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29400" y="2209680"/>
            <a:ext cx="208584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105520" y="3962520"/>
            <a:ext cx="208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Dec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Philip II of Spain attacks Queen Elizabeth’s England with the Spanish Arm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 Entire Armada destroyed in the English Channel by a fierce st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d by the English Royal Na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ss of the Sea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Defeat of the Spanish Armada"/>
          <p:cNvPicPr/>
          <p:nvPr/>
        </p:nvPicPr>
        <p:blipFill>
          <a:blip r:embed="rId1"/>
          <a:stretch/>
        </p:blipFill>
        <p:spPr>
          <a:xfrm>
            <a:off x="457200" y="2689200"/>
            <a:ext cx="4038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8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8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glish Settling of Americ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t Colon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9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Compa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- official grant given by kind of certain rights, powers, and privile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ymouth Company and London (Virginia) Company given charters by King James I in 16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a Charta- limits King James’ powers and guaranteed English freed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92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19920" cy="46357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ed by London Company in 16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 for bad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 blown off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on a low island in a river near a marsh full of malaria carrying mosquito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to drink dirty rive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reasons why London Company failed James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discovery of gold a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not allowed to own any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send workers to develop the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Smi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leader of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s men to dig wells, build shelters, clear the land, and plant fo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n from the Indi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work, no 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ith’s basic r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 of 1609-1610- “the starving tim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ready to abandon by Spring, 16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ships arrive with loads of suppl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29240" y="2384280"/>
            <a:ext cx="227484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Surv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habit spreads in England and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bacco becomes a cash crop for Jamestown,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Rolfe learns to grow and cure tobac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Jamestown a cash crop to s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 marries Indian princess Pocahontas and returns to England with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648320" cy="3611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2096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Burg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the first law-making body in America on July 30, 16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tep toward representative government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000760" y="259560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line of the May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ncreased so fast that there was not enough food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ied, moved, or joined other tri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a civilization becomes extinct before the first Europeans come to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84760" y="1600200"/>
            <a:ext cx="196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slaves are brought in to work the plantations in Virgi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unmarried women sent to the colon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, 1622- 347 settlers killed by Indian 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retaliate and poison 250 Ind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084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24- King James I decides to revoke the London Company charter for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 royal colony ruled by the king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ver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has power to reject laws made by the House of Burg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allowed to elect House members, but not the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71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Pe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a rich and powerful empire by conquering neighboring t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zco- capital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Andes Mount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Inca Empire -- Media -- Encarta ® Online 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llamas and alpacas for work and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ool for clo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sans- fashioned gold and silver from the mines for jewelry and religious ic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a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2438280"/>
            <a:ext cx="2971800" cy="2057400"/>
            <a:chOff x="5334120" y="2438280"/>
            <a:chExt cx="2971800" cy="2057400"/>
          </a:xfrm>
        </p:grpSpPr>
        <p:sp>
          <p:nvSpPr>
            <p:cNvPr id="142" name=""/>
            <p:cNvSpPr/>
            <p:nvPr/>
          </p:nvSpPr>
          <p:spPr>
            <a:xfrm>
              <a:off x="5334120" y="3733920"/>
              <a:ext cx="2971800" cy="7617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720" y="3048120"/>
              <a:ext cx="25146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2438280"/>
              <a:ext cx="1905120" cy="60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9625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armers, labor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200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Noble class- pries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438280"/>
              <a:ext cx="1523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THE INCA </a:t>
              </a:r>
              <a:r>
                <a:rPr b="1" lang="en-US" sz="1600" spc="-1" strike="noStrike">
                  <a:solidFill>
                    <a:srgbClr val="463416"/>
                  </a:solidFill>
                  <a:latin typeface="Arial"/>
                </a:rPr>
                <a:t>The Sun G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181480" y="48769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ower flowed from the Inca through the nobles to the peas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Azte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Central America from Mexico to souther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hants traveled all over trading precious stones, cacao beans, gold, and sil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ochtitlan- capital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Aztec Empire -- Media -- Encarta ® Online "/>
          <p:cNvPicPr/>
          <p:nvPr/>
        </p:nvPicPr>
        <p:blipFill>
          <a:blip r:embed="rId1"/>
          <a:stretch/>
        </p:blipFill>
        <p:spPr>
          <a:xfrm>
            <a:off x="5130720" y="1600200"/>
            <a:ext cx="3073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North American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U.S. and Ca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itory- tribes would band together for support, trade, and protection, but stayed i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w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mpire crossed over into other territo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 area- A region in which most of the tribes had same sort of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40384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00:40:27Z</dcterms:created>
  <dc:creator>George Maruska</dc:creator>
  <dc:description/>
  <dc:language>en-US</dc:language>
  <cp:lastModifiedBy>Laurel N. Desaulniers</cp:lastModifiedBy>
  <dcterms:modified xsi:type="dcterms:W3CDTF">2008-07-23T16:54:06Z</dcterms:modified>
  <cp:revision>13</cp:revision>
  <dc:subject/>
  <dc:title>Discovering the Americas</dc:title>
</cp:coreProperties>
</file>