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png" ContentType="image/png"/>
  <Override PartName="/ppt/media/image33.jpeg" ContentType="image/jpeg"/>
  <Override PartName="/ppt/media/image23.jpeg" ContentType="image/jpeg"/>
  <Override PartName="/ppt/media/image22.png" ContentType="image/png"/>
  <Override PartName="/ppt/media/image24.jpeg" ContentType="image/jpeg"/>
  <Override PartName="/ppt/media/image21.jpeg" ContentType="image/jpeg"/>
  <Override PartName="/ppt/media/image20.png" ContentType="image/png"/>
  <Override PartName="/ppt/media/image36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png" ContentType="image/png"/>
  <Override PartName="/ppt/media/image49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jpeg" ContentType="image/jpeg"/>
  <Override PartName="/ppt/media/image35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2.png" ContentType="image/png"/>
  <Override PartName="/ppt/media/image4.jpeg" ContentType="image/jpeg"/>
  <Override PartName="/ppt/media/image26.jpeg" ContentType="image/jpeg"/>
  <Override PartName="/ppt/media/image34.jpeg" ContentType="image/jpeg"/>
  <Override PartName="/ppt/media/image44.jpeg" ContentType="image/jpeg"/>
  <Override PartName="/ppt/media/image43.png" ContentType="image/png"/>
  <Override PartName="/ppt/media/image53.jpeg" ContentType="image/jpeg"/>
  <Override PartName="/ppt/media/image47.jpeg" ContentType="image/jpeg"/>
  <Override PartName="/ppt/media/image45.jpeg" ContentType="image/jpeg"/>
  <Override PartName="/ppt/media/image50.jpeg" ContentType="image/jpeg"/>
  <Override PartName="/ppt/media/image12.jpeg" ContentType="image/jpeg"/>
  <Override PartName="/ppt/media/image46.jpeg" ContentType="image/jpeg"/>
  <Override PartName="/ppt/media/image51.jpeg" ContentType="image/jpeg"/>
  <Override PartName="/ppt/media/image40.jpeg" ContentType="image/jpeg"/>
  <Override PartName="/ppt/media/image13.jpeg" ContentType="image/jpeg"/>
  <Override PartName="/ppt/media/image31.jpeg" ContentType="image/jpeg"/>
  <Override PartName="/ppt/media/image48.jpeg" ContentType="image/jpeg"/>
  <Override PartName="/ppt/media/image32.jpeg" ContentType="image/jpeg"/>
  <Override PartName="/ppt/media/image5.jpeg" ContentType="image/jpeg"/>
  <Override PartName="/ppt/media/image54.jpeg" ContentType="image/jpeg"/>
  <Override PartName="/ppt/media/image11.jpeg" ContentType="image/jpeg"/>
  <Override PartName="/ppt/media/image9.jpeg" ContentType="image/jpeg"/>
  <Override PartName="/ppt/media/image39.jpeg" ContentType="image/jpeg"/>
  <Override PartName="/ppt/media/image38.png" ContentType="image/png"/>
  <Override PartName="/ppt/media/image8.jpeg" ContentType="image/jpeg"/>
  <Override PartName="/ppt/media/image10.jpeg" ContentType="image/jpeg"/>
  <Override PartName="/ppt/media/image28.png" ContentType="image/png"/>
  <Override PartName="/ppt/media/image29.jpeg" ContentType="image/jpeg"/>
  <Override PartName="/ppt/media/image52.jpeg" ContentType="image/jpeg"/>
  <Override PartName="/ppt/media/image30.jpeg" ContentType="image/jpeg"/>
  <Override PartName="/ppt/media/image7.wmf" ContentType="image/x-wmf"/>
  <Override PartName="/ppt/media/image6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FAC04-08B6-4C3F-9A85-7DD34E1A4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00842-6DD4-4813-A39C-E6C3D2121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8E21A-086D-43F0-A4D2-887EB4889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6FBCD-22BE-4F74-8F3C-44328E8BB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C0A26C-FEAE-41B2-B184-166D6282C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1B8275-65F2-43C0-9A61-AA59E87CA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B68D06-C1DC-43B8-A1E3-08EC50964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C0A3CC-C1DA-436B-9763-BC13B8EDB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37FFBD-3D60-49A8-B942-10748BE60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CA975B-54F2-48C7-81BD-EAFB4F2BC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F99123-80D0-465E-A431-F47DC0618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6DE2B-6818-4A87-9354-769028DEF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F1397B-594C-4B77-84CA-C8050E832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39239E-6952-4B2A-B107-434D52387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EBB804-CA1C-4CB5-9324-82C903F3A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25007F-7F20-4419-A960-8F6E5810F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15CAC1-4528-4E42-9C30-23CAE4DB5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9C4EF-0A26-49D2-B55A-6C2315077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3307E-8F39-4AA1-A171-3E3286ED0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24EC9-0639-4BE8-AF25-B86F563B6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728AF-7B44-4799-AD97-EE8DA159A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64C59-B4CA-4042-8742-2CA550108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62E1C-5F2D-43A4-8098-D0CCC6102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8C653-DE23-4DF8-8284-1E77CA9BC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25F7D-36EC-42D5-868C-2FCC80D95A7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E557E-D14D-4E66-8F05-F684FC8C0A4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acs.ucalgary.ca/HIST/tutor/eurvoya/henry1.html" TargetMode="Externa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mosselbay.co.za/info/history.htm" TargetMode="External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4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43.png"/><Relationship Id="rId4" Type="http://schemas.openxmlformats.org/officeDocument/2006/relationships/image" Target="../media/image44.jpeg"/><Relationship Id="rId5" Type="http://schemas.openxmlformats.org/officeDocument/2006/relationships/slideLayout" Target="../slideLayouts/slideLayout8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4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4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Columbus, Christopher -- Media -- Encarta ® Online "/>
          <p:cNvPicPr/>
          <p:nvPr/>
        </p:nvPicPr>
        <p:blipFill>
          <a:blip r:embed="rId1"/>
          <a:stretch/>
        </p:blipFill>
        <p:spPr>
          <a:xfrm>
            <a:off x="2209680" y="533520"/>
            <a:ext cx="4542120" cy="518148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Discovering the Americas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Southwest Indian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ueblo- Spanish for “town” because of their apartment-style homes made of adob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sun dried brick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avajos- Farmers, weavers,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gan- home made of adobe and log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paches- Wandering hunt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unted deer for food and clothing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ickiups- circular huts of brush that were built in minut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" name="" descr="Navajo (people) -- Media -- Encarta ® Online "/>
          <p:cNvPicPr/>
          <p:nvPr/>
        </p:nvPicPr>
        <p:blipFill>
          <a:blip r:embed="rId1"/>
          <a:stretch/>
        </p:blipFill>
        <p:spPr>
          <a:xfrm>
            <a:off x="5402160" y="1600200"/>
            <a:ext cx="253044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8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" dur="8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8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8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8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8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8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8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8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6" dur="8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8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8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8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" dur="8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8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8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800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4" dur="8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8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8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800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2" dur="800" fill="hold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800" fill="hold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800" fill="hold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800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0" dur="800" fill="hold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800" fill="hold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800" fill="hold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Plains Indian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42670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oux, Pawnees, Dakotas, Comanches, Kiowas, and Osag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uffalo hunting for food, clothing, shelter, tools, fue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uring the summer month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ishkun- buffalo jum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pee- cone-shaped tents made of buffalo hide stretched over lodge pol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iefs- chosen for specific purpo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ligious, hunting, warri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" name="" descr="Native Americans of North America -- Media -- Encarta ® Online "/>
          <p:cNvPicPr/>
          <p:nvPr/>
        </p:nvPicPr>
        <p:blipFill>
          <a:blip r:embed="rId1"/>
          <a:stretch/>
        </p:blipFill>
        <p:spPr>
          <a:xfrm>
            <a:off x="4648320" y="2503440"/>
            <a:ext cx="4038480" cy="268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Shoshone, Pima, Nez Perc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habited the western Great Plai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untain India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ed Gatherers”- depended on food of seeds, berries, and roo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590400" y="2432160"/>
            <a:ext cx="3772080" cy="28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3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3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4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Mound Builder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habited the Eastern United Stat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ilt huge ceremonial mounds in the form of birds, bears, et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" descr="Serpent Mound"/>
          <p:cNvPicPr/>
          <p:nvPr/>
        </p:nvPicPr>
        <p:blipFill>
          <a:blip r:embed="rId1"/>
          <a:stretch/>
        </p:blipFill>
        <p:spPr>
          <a:xfrm>
            <a:off x="4648320" y="2467080"/>
            <a:ext cx="4038480" cy="27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0" dur="1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8" dur="1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Algonquins, Iroquois, Creek, and Cherokee Indians 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dependent tribes of Eastern N. Americ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rst known organized form of government in North Americ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rst tribes to encounter the white me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" descr="Iroquois Village"/>
          <p:cNvPicPr/>
          <p:nvPr/>
        </p:nvPicPr>
        <p:blipFill>
          <a:blip r:embed="rId1"/>
          <a:stretch/>
        </p:blipFill>
        <p:spPr>
          <a:xfrm>
            <a:off x="457200" y="182880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75" dur="20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80" dur="20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85" dur="20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Indian Belief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Harmony with Nat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art of social, economic, and religious practic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sacred trust existed between man and natu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 long as we care for nature, it will supply us w/ all we ne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Pri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ud of tribes and communit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ry little individualis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4800600" y="3505320"/>
            <a:ext cx="3505320" cy="1922760"/>
            <a:chOff x="4800600" y="3505320"/>
            <a:chExt cx="3505320" cy="1922760"/>
          </a:xfrm>
        </p:grpSpPr>
        <p:sp>
          <p:nvSpPr>
            <p:cNvPr id="174" name=""/>
            <p:cNvSpPr/>
            <p:nvPr/>
          </p:nvSpPr>
          <p:spPr>
            <a:xfrm>
              <a:off x="4800600" y="3505320"/>
              <a:ext cx="350532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rib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Family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Individual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553080" y="3962520"/>
              <a:ext cx="0" cy="3808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553080" y="4648320"/>
              <a:ext cx="0" cy="3808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4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1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8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5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2" dur="10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9" dur="10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6" dur="10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1" dur="8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2" dur="8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8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8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2209680" y="228600"/>
            <a:ext cx="4600800" cy="624852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European Exploration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500’s-1600’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4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8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1" dur="8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8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8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Exploratio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naissance- a time for European people to turn to exploration of the sea and the ar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usades- allowed Europeans to discover the spices and Indi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de develops to pay for spic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ool, gold, silv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mel caravans carry products overlan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sire to finder faster ways to move good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talian merchants create a monopo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clusive control of trad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mercial Revolution- expansion of trade in Europ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3" name="" descr="Camel Caravan"/>
          <p:cNvPicPr/>
          <p:nvPr/>
        </p:nvPicPr>
        <p:blipFill>
          <a:blip r:embed="rId1"/>
          <a:stretch/>
        </p:blipFill>
        <p:spPr>
          <a:xfrm>
            <a:off x="838080" y="3962520"/>
            <a:ext cx="3524400" cy="19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6" dur="indefinite" restart="never" nodeType="tmRoot">
          <p:childTnLst>
            <p:seq>
              <p:cTn id="567" dur="indefinite" nodeType="mainSeq">
                <p:childTnLst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4" dur="1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7" dur="20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3" dur="10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2000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9" dur="20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20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603" dur="500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608" dur="500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1" dur="1000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1000" fill="hold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0" dur="1000"/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Prince Henry “The Navigator”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rtug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nanced many Portuguese sailo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de develops with African n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ded bowls and beads for fresh water and foo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" descr="Prince Henry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486400" y="1676520"/>
            <a:ext cx="278604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1" dur="indefinite" restart="never" nodeType="tmRoot">
          <p:childTnLst>
            <p:seq>
              <p:cTn id="622" dur="indefinite" nodeType="mainSeq">
                <p:childTnLst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7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2" dur="50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7" dur="500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0" dur="500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Bartolomeu Dias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rtugue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487- rounded the southern tip of Afric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90720" y="1752480"/>
            <a:ext cx="246204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1" dur="indefinite" restart="never" nodeType="tmRoot">
          <p:childTnLst>
            <p:seq>
              <p:cTn id="642" dur="indefinite" nodeType="mainSeq">
                <p:childTnLst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0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8" dur="500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The Peoples from Asia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ross the land bridge over the Bering Strai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appears when the glaciers covering N. America mel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rought the first dog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ap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ubs, stone-tipped arrows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illed animals for food and cloth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llowed the Rocky Mountains southwar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8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8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8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8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" dur="20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20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Vasco da Gama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rtugue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498- Sails around the Cape of Good Hope, Africa to Indi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2" name="" descr="Portrait of Vasco da Gama"/>
          <p:cNvPicPr/>
          <p:nvPr/>
        </p:nvPicPr>
        <p:blipFill>
          <a:blip r:embed="rId1"/>
          <a:stretch/>
        </p:blipFill>
        <p:spPr>
          <a:xfrm>
            <a:off x="5105520" y="1371600"/>
            <a:ext cx="285732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9" dur="indefinite" restart="never" nodeType="tmRoot">
          <p:childTnLst>
            <p:seq>
              <p:cTn id="660" dur="indefinite" nodeType="mainSeq">
                <p:childTnLst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5" dur="10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6" dur="1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1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1000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3" dur="10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10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hristopher Columbu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94" name="" descr="Columbus Portrait"/>
          <p:cNvPicPr/>
          <p:nvPr/>
        </p:nvPicPr>
        <p:blipFill>
          <a:blip r:embed="rId1"/>
          <a:stretch/>
        </p:blipFill>
        <p:spPr>
          <a:xfrm>
            <a:off x="762120" y="1523880"/>
            <a:ext cx="3438360" cy="4267440"/>
          </a:xfrm>
          <a:prstGeom prst="rect">
            <a:avLst/>
          </a:prstGeom>
          <a:ln w="0">
            <a:noFill/>
          </a:ln>
        </p:spPr>
      </p:pic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952520" y="1371600"/>
            <a:ext cx="40388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talian sail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ts Spanish money to sail westward in search of Asi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lieved the earth was roun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Nina, Pinta, Santa Mar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ctober 12, 1492- Lands in Bahamas believing he has reached Indi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tablishes Spanish claims in N. Americ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152280" y="1752480"/>
            <a:ext cx="4800600" cy="32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5" dur="5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4" dur="500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9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3" dur="500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5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5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2" dur="500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7" dur="5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5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5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5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1" dur="500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2" nodeType="with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23" dur="50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50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50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50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2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9" fill="hold">
                            <p:stCondLst>
                              <p:cond delay="500"/>
                            </p:stCondLst>
                            <p:childTnLst>
                              <p:par>
                                <p:cTn id="7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2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3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9" dur="5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5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5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5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3" dur="500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Leif Erickso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648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rse- Norwegian peoples first to reach the America’s in 1000 B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ric the Red- discovers Greenl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if Erickson- explores the northeast coast of North Americ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inland”- named for the grape vin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5715000" y="1752480"/>
            <a:ext cx="173988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4" dur="indefinite" restart="never" nodeType="tmRoot">
          <p:childTnLst>
            <p:seq>
              <p:cTn id="745" dur="indefinite" nodeType="mainSeq">
                <p:childTnLst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0" dur="10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1" dur="10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9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8" dur="100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9" dur="10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9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6" dur="100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7" dur="10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9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2" dur="1000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3" dur="1000" fill="hold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900" fill="hold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John Cabo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al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497- Explores northeast North America for Englan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overs Nova Scoti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ives England its first claim to North American lan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2" name="" descr="John Cabot"/>
          <p:cNvPicPr/>
          <p:nvPr/>
        </p:nvPicPr>
        <p:blipFill>
          <a:blip r:embed="rId1"/>
          <a:stretch/>
        </p:blipFill>
        <p:spPr>
          <a:xfrm>
            <a:off x="457200" y="2097000"/>
            <a:ext cx="4038480" cy="35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6" dur="indefinite" restart="never" nodeType="tmRoot">
          <p:childTnLst>
            <p:seq>
              <p:cTn id="777" dur="indefinite" nodeType="mainSeq">
                <p:childTnLst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2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6" dur="5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1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5" dur="500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0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4" dur="500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9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3" dur="500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Giovanni da Verrazano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rench explor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ts out to find a “Northwest Passage” to Asia through N. Americ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5334120" y="1676520"/>
            <a:ext cx="276228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4" dur="indefinite" restart="never" nodeType="tmRoot">
          <p:childTnLst>
            <p:seq>
              <p:cTn id="815" dur="indefinite" nodeType="mainSeq">
                <p:childTnLst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0" dur="10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10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2" dur="10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7" dur="10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10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9" dur="1000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Jacques Cartier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rench explor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 voyages to N. Americ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ulf of St. Lawr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. Lawrence Riv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. Lawrence River to Montre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ies to establish a settlement, but fail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8" name="" descr="Jacques Cartier"/>
          <p:cNvPicPr/>
          <p:nvPr/>
        </p:nvPicPr>
        <p:blipFill>
          <a:blip r:embed="rId1"/>
          <a:stretch/>
        </p:blipFill>
        <p:spPr>
          <a:xfrm>
            <a:off x="825480" y="1714680"/>
            <a:ext cx="330192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0" dur="indefinite" restart="never" nodeType="tmRoot">
          <p:childTnLst>
            <p:seq>
              <p:cTn id="831" dur="indefinite" nodeType="mainSeq">
                <p:childTnLst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38" dur="10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45" dur="1000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6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50" dur="1000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55" dur="1000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6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60" dur="1000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67" dur="1000"/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5867280" y="2133720"/>
            <a:ext cx="2830680" cy="396216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Spain and Portugal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quistadors- Spanish soldiers or “conquerors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ain and Portugal leaders in the exploration of the America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ain- conquers the new western lan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rtugal- explores Afric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8" dur="indefinite" restart="never" nodeType="tmRoot">
          <p:childTnLst>
            <p:seq>
              <p:cTn id="869" dur="indefinite" nodeType="mainSeq">
                <p:childTnLst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4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5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0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1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2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4" dur="5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5" dur="5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6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8" dur="5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9" dur="5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Line of Demarcatio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awn by Pope Alexander V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l new lands explored west of the line were to belong to Spain- east of the line, Portug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bral- Portuguese explorer gets blown off course while sailing around Africa and discovers Brazi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4572000" y="1371600"/>
            <a:ext cx="2438280" cy="304812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6553080" y="2971800"/>
            <a:ext cx="2246400" cy="34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0" dur="indefinite" restart="never" nodeType="tmRoot">
          <p:childTnLst>
            <p:seq>
              <p:cTn id="891" dur="indefinite" nodeType="mainSeq">
                <p:childTnLst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6" dur="5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9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7" dur="1000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8" dur="10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10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3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Treaty of Tordesilla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1143000" y="1219320"/>
            <a:ext cx="6477120" cy="48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Amerigo Vespucci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572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overs the South American contine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European geographer proposes that the new find be named after Vespucc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merica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4876920" y="1676520"/>
            <a:ext cx="3733560" cy="350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4" dur="indefinite" restart="never" nodeType="tmRoot">
          <p:childTnLst>
            <p:seq>
              <p:cTn id="915" dur="indefinite" nodeType="mainSeq">
                <p:childTnLst>
                  <p:par>
                    <p:cTn id="916" fill="hold">
                      <p:stCondLst>
                        <p:cond delay="indefinite"/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20" dur="20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25" dur="2000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30" dur="2000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Native American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arly peoples of the Americ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ibes- natives divided into different tribes speaking over 1000 different languag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lture- way of life (hunting, fishing, etc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ivilizations- Advanced cultures (town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ople who settle down and liv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Native Americans of North America -- Media -- Encarta ® Online "/>
          <p:cNvPicPr/>
          <p:nvPr/>
        </p:nvPicPr>
        <p:blipFill>
          <a:blip r:embed="rId1"/>
          <a:stretch/>
        </p:blipFill>
        <p:spPr>
          <a:xfrm>
            <a:off x="4738680" y="1919160"/>
            <a:ext cx="3857760" cy="38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9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9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9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9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9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Vasco Balboa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anish Explor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513- Explores the Isthmus of Panama and finds another ocea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uth Sea”=Pacific Oce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1066680" y="1371600"/>
            <a:ext cx="28638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1" dur="indefinite" restart="never" nodeType="tmRoot">
          <p:childTnLst>
            <p:seq>
              <p:cTn id="932" dur="indefinite" nodeType="mainSeq">
                <p:childTnLst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7" dur="10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8" dur="10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9" dur="10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4" dur="10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5" dur="10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6" dur="1000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9" dur="10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0" dur="10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1" dur="1000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Ferdinand Magella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panish explor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ails around the worl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covers the Strait of Magellan on the southern tip of South Americ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covers and names the Pacific Oce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illed in the Philippi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8 of the 237 men actually return to Spai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Ferdinand Magellan"/>
          <p:cNvPicPr/>
          <p:nvPr/>
        </p:nvPicPr>
        <p:blipFill>
          <a:blip r:embed="rId1"/>
          <a:stretch/>
        </p:blipFill>
        <p:spPr>
          <a:xfrm>
            <a:off x="5029200" y="1676520"/>
            <a:ext cx="3395520" cy="387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2" dur="indefinite" restart="never" nodeType="tmRoot">
          <p:childTnLst>
            <p:seq>
              <p:cTn id="953" dur="indefinite" nodeType="mainSeq">
                <p:childTnLst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8" dur="10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9" dur="10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0" dur="10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fill="hold">
                      <p:stCondLst>
                        <p:cond delay="indefinite"/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6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3" dur="10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4" dur="10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75" dur="1000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82" dur="1000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3" fill="hold">
                      <p:stCondLst>
                        <p:cond delay="indefinite"/>
                      </p:stCondLst>
                      <p:childTnLst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8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9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3" dur="500" fill="hold"/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4" dur="500" fill="hold"/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5" dur="500"/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Magellan’s Rout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380880" y="914400"/>
            <a:ext cx="8229600" cy="573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Hernando Cort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anish conquista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quers the Aztec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believe him to be the god, Quetzalcoatl returning as promis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ctezuma- Aztec emperor murdered by Cort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1" name="" descr="Hernán Cortés"/>
          <p:cNvPicPr/>
          <p:nvPr/>
        </p:nvPicPr>
        <p:blipFill>
          <a:blip r:embed="rId1"/>
          <a:stretch/>
        </p:blipFill>
        <p:spPr>
          <a:xfrm>
            <a:off x="838080" y="1371600"/>
            <a:ext cx="330228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6" dur="indefinite" restart="never" nodeType="tmRoot">
          <p:childTnLst>
            <p:seq>
              <p:cTn id="997" dur="indefinite" nodeType="mainSeq">
                <p:childTnLst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2" dur="5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3" fill="hold">
                      <p:stCondLst>
                        <p:cond delay="indefinite"/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7" dur="500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8" fill="hold">
                      <p:stCondLst>
                        <p:cond delay="indefinite"/>
                      </p:stCondLst>
                      <p:childTnLst>
                        <p:par>
                          <p:cTn id="1009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2" dur="500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fill="hold">
                      <p:stCondLst>
                        <p:cond delay="indefinite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7" dur="500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Francisco Pizarro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anish conquista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531- Conquers the Inc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idnaps The Inca, collects a ransom of gold and silver, and then murders the “Sun God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5334120" y="1371600"/>
            <a:ext cx="2714400" cy="44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8" dur="indefinite" restart="never" nodeType="tmRoot">
          <p:childTnLst>
            <p:seq>
              <p:cTn id="1019" dur="indefinite" nodeType="mainSeq">
                <p:childTnLst>
                  <p:par>
                    <p:cTn id="1020" fill="hold">
                      <p:stCondLst>
                        <p:cond delay="indefinite"/>
                      </p:stCondLst>
                      <p:childTnLst>
                        <p:par>
                          <p:cTn id="1021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4" dur="10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5" dur="10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6" dur="10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7" fill="hold">
                      <p:stCondLst>
                        <p:cond delay="indefinite"/>
                      </p:stCondLst>
                      <p:childTnLst>
                        <p:par>
                          <p:cTn id="1028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1" dur="10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2" dur="10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3" dur="10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10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9" dur="10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0" dur="10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Ponce de Leo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anish conquista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plores Florida in search of gold and the “Fountain of Youth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nds neith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7" name="" descr="Ponce de León"/>
          <p:cNvPicPr/>
          <p:nvPr/>
        </p:nvPicPr>
        <p:blipFill>
          <a:blip r:embed="rId1"/>
          <a:stretch/>
        </p:blipFill>
        <p:spPr>
          <a:xfrm>
            <a:off x="457200" y="2548080"/>
            <a:ext cx="4038480" cy="26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1" dur="indefinite" restart="never" nodeType="tmRoot">
          <p:childTnLst>
            <p:seq>
              <p:cTn id="1042" dur="indefinite" nodeType="mainSeq">
                <p:childTnLst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0" dur="10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2" dur="1000" fill="hold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4" dur="1000" fill="hold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3e3ff"/>
                </a:solidFill>
                <a:latin typeface="Arial"/>
              </a:rPr>
              <a:t>Panfilo de Narvaez</a:t>
            </a: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52280" y="1447560"/>
            <a:ext cx="426744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panish explor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pedition of 250 men survive a major hurricane near Cub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cover and explore the western coast of Florida in 1528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ny men die in attack by Indian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hip leaves them strand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rvaez and crew build 5 rafts and sail for Mexic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 rafts sink and Narvaez di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5 survivors wander throughout the Southwest for 8 years before arriving in Mexico Cit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5105520" y="1752480"/>
            <a:ext cx="297972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Hernando de Soto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anish conquista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539- Explores the SE United Sta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nd no gold, but discovers the Mississippi Riv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105520" y="1600200"/>
            <a:ext cx="307476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9" dur="indefinite" restart="never" nodeType="tmRoot">
          <p:childTnLst>
            <p:seq>
              <p:cTn id="1080" dur="indefinite" nodeType="mainSeq">
                <p:childTnLst>
                  <p:par>
                    <p:cTn id="1081" fill="hold">
                      <p:stCondLst>
                        <p:cond delay="indefinite"/>
                      </p:stCondLst>
                      <p:childTnLst>
                        <p:par>
                          <p:cTn id="1082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5" dur="10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6" dur="10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7" dur="1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2" dur="10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3" dur="10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4" dur="1000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fill="hold">
                      <p:stCondLst>
                        <p:cond delay="indefinite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9" dur="1000" fill="hold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0" dur="1000" fill="hold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1" dur="10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Francisco Coronado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anish conquista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plores SW United States in search of “cities paved with streets of gold.”- El Dorad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nds no treasure, but discovers the Grand Canyon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6" name="" descr="Francisco Vásquez de Coronado"/>
          <p:cNvPicPr/>
          <p:nvPr/>
        </p:nvPicPr>
        <p:blipFill>
          <a:blip r:embed="rId1"/>
          <a:stretch/>
        </p:blipFill>
        <p:spPr>
          <a:xfrm>
            <a:off x="4952880" y="2057400"/>
            <a:ext cx="3543480" cy="31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2" dur="indefinite" restart="never" nodeType="tmRoot">
          <p:childTnLst>
            <p:seq>
              <p:cTn id="1103" dur="indefinite" nodeType="mainSeq">
                <p:childTnLst>
                  <p:par>
                    <p:cTn id="1104" fill="hold">
                      <p:stCondLst>
                        <p:cond delay="indefinite"/>
                      </p:stCondLst>
                      <p:childTnLst>
                        <p:par>
                          <p:cTn id="1105" fill="hold">
                            <p:stCondLst>
                              <p:cond delay="0"/>
                            </p:stCondLst>
                            <p:childTnLst>
                              <p:par>
                                <p:cTn id="110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8" dur="77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09" dur="77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1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11" dur="77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1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3" dur="77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1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9" dur="77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20" dur="77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22" dur="77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24" dur="77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6" fill="hold">
                      <p:stCondLst>
                        <p:cond delay="indefinite"/>
                      </p:stCondLst>
                      <p:childTnLst>
                        <p:par>
                          <p:cTn id="1127" fill="hold">
                            <p:stCondLst>
                              <p:cond delay="0"/>
                            </p:stCondLst>
                            <p:childTnLst>
                              <p:par>
                                <p:cTn id="112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0" dur="77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31" dur="770" fill="hold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33" dur="770" fill="hold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35" dur="770" fill="hold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1219320" y="228600"/>
            <a:ext cx="6629400" cy="64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Mayas of Yucata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ichest civilization in Central Americ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ity- religious centers with massive templ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tisans- artists to decorate the buildings with murals and sculptur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cholars- developed method of writing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cientists- used sun to create a calenda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stronomers- careful observation of planets and stars to predict eclips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" descr="Maya Civilization -- Media -- Encarta ® Online "/>
          <p:cNvPicPr/>
          <p:nvPr/>
        </p:nvPicPr>
        <p:blipFill>
          <a:blip r:embed="rId1"/>
          <a:stretch/>
        </p:blipFill>
        <p:spPr>
          <a:xfrm>
            <a:off x="1009800" y="1689120"/>
            <a:ext cx="2933640" cy="43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Spanish Colonial Society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419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lony- land settled by people from another country that remains under the control of the countr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rtugal- Brazi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pain- S. America, Mexico, Caribbea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0" y="1294920"/>
            <a:ext cx="40384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ci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paniards born in Spa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eoles- Spanish born in the New Worl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stizos- Spanish and Indian mi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dians- nativ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ulattoes- black and Spanish mi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Zambos- Indian and black mix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685800" y="4038480"/>
            <a:ext cx="33336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7" dur="indefinite" restart="never" nodeType="tmRoot">
          <p:childTnLst>
            <p:seq>
              <p:cTn id="1138" dur="indefinite" nodeType="mainSeq">
                <p:childTnLst>
                  <p:par>
                    <p:cTn id="1139" fill="hold">
                      <p:stCondLst>
                        <p:cond delay="indefinite"/>
                      </p:stCondLst>
                      <p:childTnLst>
                        <p:par>
                          <p:cTn id="1140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3" dur="10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4" dur="10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5" dur="10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8" dur="500" fill="hold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9" dur="500" fill="hold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0" dur="500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15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Spanish Coloni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723920" y="1371600"/>
            <a:ext cx="44197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ring new plants, seeds, language, tools, and domestic animal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tablish sugar plantation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slave the native Indians to work on the plantation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ease wipes ou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ced to look to Africa for worke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nd all gold and silver back to Spai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ventual decline in gold/silver supply leads to decline in Spanish pow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ars and rebellions cost mone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228600" y="1676520"/>
            <a:ext cx="4371840" cy="44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8" dur="indefinite" restart="never" nodeType="tmRoot">
          <p:childTnLst>
            <p:seq>
              <p:cTn id="1159" dur="indefinite" nodeType="mainSeq">
                <p:childTnLst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64" dur="500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9" dur="10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0" dur="10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1" dur="1000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2" fill="hold">
                      <p:stCondLst>
                        <p:cond delay="indefinite"/>
                      </p:stCondLst>
                      <p:childTnLst>
                        <p:par>
                          <p:cTn id="1173" fill="hold">
                            <p:stCondLst>
                              <p:cond delay="0"/>
                            </p:stCondLst>
                            <p:childTnLst>
                              <p:par>
                                <p:cTn id="11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76" dur="500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9" dur="500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2" dur="500"/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7" dur="2000"/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8" dur="2000" fill="hold"/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9" dur="2000" fill="hold"/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0" fill="hold">
                      <p:stCondLst>
                        <p:cond delay="indefinite"/>
                      </p:stCondLst>
                      <p:childTnLst>
                        <p:par>
                          <p:cTn id="1191" fill="hold">
                            <p:stCondLst>
                              <p:cond delay="0"/>
                            </p:stCondLst>
                            <p:childTnLst>
                              <p:par>
                                <p:cTn id="119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4" dur="100"/>
                                        <p:tgtEl>
                                          <p:spTgt spid="2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5" dur="400" fill="hold"/>
                                        <p:tgtEl>
                                          <p:spTgt spid="2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6" dur="400" fill="hold"/>
                                        <p:tgtEl>
                                          <p:spTgt spid="2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1" dur="500"/>
                                        <p:tgtEl>
                                          <p:spTgt spid="2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533520" y="1371600"/>
            <a:ext cx="7848360" cy="5068800"/>
          </a:xfrm>
          <a:prstGeom prst="rect">
            <a:avLst/>
          </a:prstGeom>
          <a:ln w="0">
            <a:noFill/>
          </a:ln>
        </p:spPr>
      </p:pic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The Pirates of the Caribbea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solidFill>
            <a:srgbClr val="ff6600">
              <a:alpha val="7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 Dogs- English and Dutch sailors attack Spanish ships and steal treasur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ohn Hawkins- Used to transport slaves, but made more money stealing from Spanish ship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rancis Drake- Sails around South America and raids Spanish ships- then sails around the worl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enry Morgan- Amasses a wealth of over $70,000 in one yea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2"/>
          <a:stretch/>
        </p:blipFill>
        <p:spPr>
          <a:xfrm>
            <a:off x="4495680" y="1371600"/>
            <a:ext cx="2008440" cy="274320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3"/>
          <a:stretch/>
        </p:blipFill>
        <p:spPr>
          <a:xfrm>
            <a:off x="6629400" y="2209680"/>
            <a:ext cx="2085840" cy="281952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"/>
          <p:cNvPicPr/>
          <p:nvPr/>
        </p:nvPicPr>
        <p:blipFill>
          <a:blip r:embed="rId4"/>
          <a:stretch/>
        </p:blipFill>
        <p:spPr>
          <a:xfrm>
            <a:off x="5105520" y="3962520"/>
            <a:ext cx="208908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2" dur="indefinite" restart="never" nodeType="tmRoot">
          <p:childTnLst>
            <p:seq>
              <p:cTn id="1203" dur="indefinite" nodeType="mainSeq">
                <p:childTnLst>
                  <p:par>
                    <p:cTn id="1204" fill="hold">
                      <p:stCondLst>
                        <p:cond delay="indefinite"/>
                      </p:stCondLst>
                      <p:childTnLst>
                        <p:par>
                          <p:cTn id="1205" fill="hold">
                            <p:stCondLst>
                              <p:cond delay="0"/>
                            </p:stCondLst>
                            <p:childTnLst>
                              <p:par>
                                <p:cTn id="1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0" fill="hold">
                      <p:stCondLst>
                        <p:cond delay="indefinite"/>
                      </p:stCondLst>
                      <p:childTnLst>
                        <p:par>
                          <p:cTn id="1211" fill="hold">
                            <p:stCondLst>
                              <p:cond delay="0"/>
                            </p:stCondLst>
                            <p:childTnLst>
                              <p:par>
                                <p:cTn id="1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4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5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0" dur="5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1" dur="5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24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5" fill="hold">
                      <p:stCondLst>
                        <p:cond delay="indefinite"/>
                      </p:stCondLst>
                      <p:childTnLst>
                        <p:par>
                          <p:cTn id="1226" fill="hold">
                            <p:stCondLst>
                              <p:cond delay="0"/>
                            </p:stCondLst>
                            <p:childTnLst>
                              <p:par>
                                <p:cTn id="1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9" dur="500" fill="hold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0" dur="500" fill="hold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3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4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5" dur="9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7" fill="hold">
                      <p:stCondLst>
                        <p:cond delay="indefinite"/>
                      </p:stCondLst>
                      <p:childTnLst>
                        <p:par>
                          <p:cTn id="1238" fill="hold">
                            <p:stCondLst>
                              <p:cond delay="0"/>
                            </p:stCondLst>
                            <p:childTnLst>
                              <p:par>
                                <p:cTn id="1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1" dur="500" fill="hold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2" dur="500" fill="hold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6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7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8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Spanish Declin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ing Philip II of Spain attacks Queen Elizabeth’s England with the Spanish Armad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88- Entire Armada destroyed in the English Channel by a fierce stor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laced by the English Royal Nav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istress of the Seas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3" name="" descr="Defeat of the Spanish Armada"/>
          <p:cNvPicPr/>
          <p:nvPr/>
        </p:nvPicPr>
        <p:blipFill>
          <a:blip r:embed="rId1"/>
          <a:stretch/>
        </p:blipFill>
        <p:spPr>
          <a:xfrm>
            <a:off x="457200" y="2689200"/>
            <a:ext cx="4038480" cy="231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9" dur="indefinite" restart="never" nodeType="tmRoot">
          <p:childTnLst>
            <p:seq>
              <p:cTn id="1250" dur="indefinite" nodeType="mainSeq">
                <p:childTnLst>
                  <p:par>
                    <p:cTn id="1251" fill="hold">
                      <p:stCondLst>
                        <p:cond delay="indefinite"/>
                      </p:stCondLst>
                      <p:childTnLst>
                        <p:par>
                          <p:cTn id="1252" fill="hold">
                            <p:stCondLst>
                              <p:cond delay="0"/>
                            </p:stCondLst>
                            <p:childTnLst>
                              <p:par>
                                <p:cTn id="125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5" dur="800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6" dur="8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7" dur="8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8" dur="8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1" fill="hold">
                      <p:stCondLst>
                        <p:cond delay="indefinite"/>
                      </p:stCondLst>
                      <p:childTnLst>
                        <p:par>
                          <p:cTn id="1262" fill="hold">
                            <p:stCondLst>
                              <p:cond delay="0"/>
                            </p:stCondLst>
                            <p:childTnLst>
                              <p:par>
                                <p:cTn id="126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5" dur="800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6" dur="800" fill="hold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7" dur="800" fill="hold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8" dur="800" fill="hold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1" fill="hold">
                      <p:stCondLst>
                        <p:cond delay="indefinite"/>
                      </p:stCondLst>
                      <p:childTnLst>
                        <p:par>
                          <p:cTn id="1272" fill="hold">
                            <p:stCondLst>
                              <p:cond delay="0"/>
                            </p:stCondLst>
                            <p:childTnLst>
                              <p:par>
                                <p:cTn id="127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5" dur="800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6" dur="800" fill="hold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7" dur="800" fill="hold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8" dur="800" fill="hold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3" dur="800"/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4" dur="800" fill="hold"/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5" dur="800" fill="hold"/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6" dur="800" fill="hold"/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English Settling of America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r Walter Raleig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87- given permission to start a colony in Virgini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oanoke- first colony in Americ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panish prevent supplies getting to colon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91- supplies arrive, but colony is gon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ost Colony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4648320" y="1523880"/>
            <a:ext cx="351612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9" dur="indefinite" restart="never" nodeType="tmRoot">
          <p:childTnLst>
            <p:seq>
              <p:cTn id="1290" dur="indefinite" nodeType="mainSeq">
                <p:childTnLst>
                  <p:par>
                    <p:cTn id="1291" fill="hold">
                      <p:stCondLst>
                        <p:cond delay="indefinite"/>
                      </p:stCondLst>
                      <p:childTnLst>
                        <p:par>
                          <p:cTn id="1292" fill="hold">
                            <p:stCondLst>
                              <p:cond delay="0"/>
                            </p:stCondLst>
                            <p:childTnLst>
                              <p:par>
                                <p:cTn id="129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5" dur="10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6" dur="10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97" dur="10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8" fill="hold">
                      <p:stCondLst>
                        <p:cond delay="indefinite"/>
                      </p:stCondLst>
                      <p:childTnLst>
                        <p:par>
                          <p:cTn id="1299" fill="hold">
                            <p:stCondLst>
                              <p:cond delay="0"/>
                            </p:stCondLst>
                            <p:childTnLst>
                              <p:par>
                                <p:cTn id="130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2" dur="1000" fill="hold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3" dur="1000" fill="hold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04" dur="1000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5" fill="hold">
                      <p:stCondLst>
                        <p:cond delay="indefinite"/>
                      </p:stCondLst>
                      <p:childTnLst>
                        <p:par>
                          <p:cTn id="1306" fill="hold">
                            <p:stCondLst>
                              <p:cond delay="0"/>
                            </p:stCondLst>
                            <p:childTnLst>
                              <p:par>
                                <p:cTn id="130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9" dur="1000" fill="hold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0" dur="1000" fill="hold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11" dur="1000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2" fill="hold">
                      <p:stCondLst>
                        <p:cond delay="indefinite"/>
                      </p:stCondLst>
                      <p:childTnLst>
                        <p:par>
                          <p:cTn id="1313" fill="hold">
                            <p:stCondLst>
                              <p:cond delay="0"/>
                            </p:stCondLst>
                            <p:childTnLst>
                              <p:par>
                                <p:cTn id="131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6" dur="1000" fill="hold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7" dur="1000" fill="hold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18" dur="1000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3" dur="1000" fill="hold"/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4" dur="1000" fill="hold"/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25" dur="1000"/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6" fill="hold">
                      <p:stCondLst>
                        <p:cond delay="indefinite"/>
                      </p:stCondLst>
                      <p:childTnLst>
                        <p:par>
                          <p:cTn id="1327" fill="hold">
                            <p:stCondLst>
                              <p:cond delay="0"/>
                            </p:stCondLst>
                            <p:childTnLst>
                              <p:par>
                                <p:cTn id="13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0" dur="1000" fill="hold"/>
                                        <p:tgtEl>
                                          <p:spTgt spid="2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1" dur="1000" fill="hold"/>
                                        <p:tgtEl>
                                          <p:spTgt spid="2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32" dur="1000"/>
                                        <p:tgtEl>
                                          <p:spTgt spid="2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The Compani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arter- official grant given by kind of certain rights, powers, and privileg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ymouth Company and London (Virginia) Company given charters by King James I in 160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gna Charta- limits King James’ powers and guaranteed English freedom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5257800" y="3581280"/>
            <a:ext cx="292428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3" dur="indefinite" restart="never" nodeType="tmRoot">
          <p:childTnLst>
            <p:seq>
              <p:cTn id="1334" dur="indefinite" nodeType="mainSeq">
                <p:childTnLst>
                  <p:par>
                    <p:cTn id="1335" fill="hold">
                      <p:stCondLst>
                        <p:cond delay="indefinite"/>
                      </p:stCondLst>
                      <p:childTnLst>
                        <p:par>
                          <p:cTn id="1336" fill="hold">
                            <p:stCondLst>
                              <p:cond delay="0"/>
                            </p:stCondLst>
                            <p:childTnLst>
                              <p:par>
                                <p:cTn id="13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4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4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4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4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4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5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5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5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3" fill="hold">
                      <p:stCondLst>
                        <p:cond delay="indefinite"/>
                      </p:stCondLst>
                      <p:childTnLst>
                        <p:par>
                          <p:cTn id="1354" fill="hold">
                            <p:stCondLst>
                              <p:cond delay="0"/>
                            </p:stCondLst>
                            <p:childTnLst>
                              <p:par>
                                <p:cTn id="13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7" dur="5000" fill="hold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8" dur="5000" fill="hold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9" fill="hold">
                      <p:stCondLst>
                        <p:cond delay="indefinite"/>
                      </p:stCondLst>
                      <p:childTnLst>
                        <p:par>
                          <p:cTn id="1360" fill="hold">
                            <p:stCondLst>
                              <p:cond delay="0"/>
                            </p:stCondLst>
                            <p:childTnLst>
                              <p:par>
                                <p:cTn id="13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63" dur="50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1600200" y="1295280"/>
            <a:ext cx="6019920" cy="4635720"/>
          </a:xfrm>
          <a:prstGeom prst="rect">
            <a:avLst/>
          </a:prstGeom>
          <a:ln w="0">
            <a:noFill/>
          </a:ln>
        </p:spPr>
      </p:pic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Jamestow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rted by London Company in 1606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 reasons for bad star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ip blown off cour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tablished on a low island in a river near a marsh full of malaria carrying mosquito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d to drink dirty river wat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 reasons why London Company failed Jamestow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de discovery of gold a priorit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ttlers not allowed to own anything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ailure to send workers to develop the are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4" dur="indefinite" restart="never" nodeType="tmRoot">
          <p:childTnLst>
            <p:seq>
              <p:cTn id="1365" dur="indefinite" nodeType="mainSeq">
                <p:childTnLst>
                  <p:par>
                    <p:cTn id="1366" fill="hold">
                      <p:stCondLst>
                        <p:cond delay="indefinite"/>
                      </p:stCondLst>
                      <p:childTnLst>
                        <p:par>
                          <p:cTn id="1367" fill="hold">
                            <p:stCondLst>
                              <p:cond delay="0"/>
                            </p:stCondLst>
                            <p:childTnLst>
                              <p:par>
                                <p:cTn id="136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0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1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73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5" fill="hold">
                      <p:stCondLst>
                        <p:cond delay="indefinite"/>
                      </p:stCondLst>
                      <p:childTnLst>
                        <p:par>
                          <p:cTn id="1376" fill="hold">
                            <p:stCondLst>
                              <p:cond delay="0"/>
                            </p:stCondLst>
                            <p:childTnLst>
                              <p:par>
                                <p:cTn id="137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9" dur="5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0" dur="5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1" fill="hold">
                      <p:stCondLst>
                        <p:cond delay="indefinite"/>
                      </p:stCondLst>
                      <p:childTnLst>
                        <p:par>
                          <p:cTn id="1382" fill="hold">
                            <p:stCondLst>
                              <p:cond delay="0"/>
                            </p:stCondLst>
                            <p:childTnLst>
                              <p:par>
                                <p:cTn id="13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5" dur="5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6" dur="5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7" fill="hold">
                      <p:stCondLst>
                        <p:cond delay="indefinite"/>
                      </p:stCondLst>
                      <p:childTnLst>
                        <p:par>
                          <p:cTn id="1388" fill="hold">
                            <p:stCondLst>
                              <p:cond delay="0"/>
                            </p:stCondLst>
                            <p:childTnLst>
                              <p:par>
                                <p:cTn id="13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1" dur="500" fill="hold"/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2" dur="500" fill="hold"/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3" fill="hold">
                      <p:stCondLst>
                        <p:cond delay="indefinite"/>
                      </p:stCondLst>
                      <p:childTnLst>
                        <p:par>
                          <p:cTn id="1394" fill="hold">
                            <p:stCondLst>
                              <p:cond delay="0"/>
                            </p:stCondLst>
                            <p:childTnLst>
                              <p:par>
                                <p:cTn id="139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7" dur="500" fill="hold"/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8" dur="500" fill="hold"/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9" fill="hold">
                      <p:stCondLst>
                        <p:cond delay="indefinite"/>
                      </p:stCondLst>
                      <p:childTnLst>
                        <p:par>
                          <p:cTn id="1400" fill="hold">
                            <p:stCondLst>
                              <p:cond delay="0"/>
                            </p:stCondLst>
                            <p:childTnLst>
                              <p:par>
                                <p:cTn id="140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3" dur="5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4" dur="5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5" fill="hold">
                      <p:stCondLst>
                        <p:cond delay="indefinite"/>
                      </p:stCondLst>
                      <p:childTnLst>
                        <p:par>
                          <p:cTn id="1406" fill="hold">
                            <p:stCondLst>
                              <p:cond delay="0"/>
                            </p:stCondLst>
                            <p:childTnLst>
                              <p:par>
                                <p:cTn id="140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9" dur="500" fill="hold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0" dur="500" fill="hold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1" fill="hold">
                      <p:stCondLst>
                        <p:cond delay="indefinite"/>
                      </p:stCondLst>
                      <p:childTnLst>
                        <p:par>
                          <p:cTn id="1412" fill="hold">
                            <p:stCondLst>
                              <p:cond delay="0"/>
                            </p:stCondLst>
                            <p:childTnLst>
                              <p:par>
                                <p:cTn id="141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5" dur="500" fill="hold"/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6" dur="500" fill="hold"/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7" fill="hold">
                      <p:stCondLst>
                        <p:cond delay="indefinite"/>
                      </p:stCondLst>
                      <p:childTnLst>
                        <p:par>
                          <p:cTn id="1418" fill="hold">
                            <p:stCondLst>
                              <p:cond delay="0"/>
                            </p:stCondLst>
                            <p:childTnLst>
                              <p:par>
                                <p:cTn id="141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1" dur="500" fill="hold"/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2" dur="500" fill="hold"/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John Smith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comes leader of Jamestow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rders men to dig wells, build shelters, clear the land, and plant food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rn from the Indian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work, no food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mith’s basic rul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nter of 1609-1610- “the starving time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lonists ready to abandon by Spring, 1610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glish ships arrive with loads of suppli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>
            <a:off x="5529240" y="2384280"/>
            <a:ext cx="2274840" cy="292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3" dur="indefinite" restart="never" nodeType="tmRoot">
          <p:childTnLst>
            <p:seq>
              <p:cTn id="1424" dur="indefinite" nodeType="mainSeq">
                <p:childTnLst>
                  <p:par>
                    <p:cTn id="1425" fill="hold">
                      <p:stCondLst>
                        <p:cond delay="indefinite"/>
                      </p:stCondLst>
                      <p:childTnLst>
                        <p:par>
                          <p:cTn id="1426" fill="hold">
                            <p:stCondLst>
                              <p:cond delay="0"/>
                            </p:stCondLst>
                            <p:childTnLst>
                              <p:par>
                                <p:cTn id="142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9" dur="100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0" dur="10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1" dur="10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2" fill="hold">
                      <p:stCondLst>
                        <p:cond delay="indefinite"/>
                      </p:stCondLst>
                      <p:childTnLst>
                        <p:par>
                          <p:cTn id="1433" fill="hold">
                            <p:stCondLst>
                              <p:cond delay="0"/>
                            </p:stCondLst>
                            <p:childTnLst>
                              <p:par>
                                <p:cTn id="143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6" dur="1000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7" dur="1000" fill="hold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8" dur="1000" fill="hold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1" dur="1000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2" dur="1000" fill="hold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3" dur="1000" fill="hold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4" fill="hold">
                      <p:stCondLst>
                        <p:cond delay="indefinite"/>
                      </p:stCondLst>
                      <p:childTnLst>
                        <p:par>
                          <p:cTn id="1445" fill="hold">
                            <p:stCondLst>
                              <p:cond delay="0"/>
                            </p:stCondLst>
                            <p:childTnLst>
                              <p:par>
                                <p:cTn id="144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8" dur="1000"/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9" dur="1000" fill="hold"/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0" dur="1000" fill="hold"/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3" dur="1000"/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4" dur="1000" fill="hold"/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5" dur="1000" fill="hold"/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6" fill="hold">
                      <p:stCondLst>
                        <p:cond delay="indefinite"/>
                      </p:stCondLst>
                      <p:childTnLst>
                        <p:par>
                          <p:cTn id="1457" fill="hold">
                            <p:stCondLst>
                              <p:cond delay="0"/>
                            </p:stCondLst>
                            <p:childTnLst>
                              <p:par>
                                <p:cTn id="145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0" dur="1000"/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1" dur="1000" fill="hold"/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2" dur="1000" fill="hold"/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5" dur="1000"/>
                                        <p:tgtEl>
                                          <p:spTgt spid="2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6" dur="1000" fill="hold"/>
                                        <p:tgtEl>
                                          <p:spTgt spid="2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7" dur="1000" fill="hold"/>
                                        <p:tgtEl>
                                          <p:spTgt spid="2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0" dur="1000"/>
                                        <p:tgtEl>
                                          <p:spTgt spid="2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1" dur="1000" fill="hold"/>
                                        <p:tgtEl>
                                          <p:spTgt spid="2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2" dur="1000" fill="hold"/>
                                        <p:tgtEl>
                                          <p:spTgt spid="2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Jamestown Surviv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4419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moking habit spreads in England and Europ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bacco becomes a cash crop for Jamestown, Virgini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ohn Rolfe learns to grow and cure tobacc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ives Jamestown a cash crop to sel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ventually marries Indian princess Pocahontas and returns to England with h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4267080" y="1447920"/>
            <a:ext cx="4648320" cy="3611520"/>
          </a:xfrm>
          <a:prstGeom prst="rect">
            <a:avLst/>
          </a:prstGeom>
          <a:ln w="0">
            <a:noFill/>
          </a:ln>
        </p:spPr>
      </p:pic>
      <p:pic>
        <p:nvPicPr>
          <p:cNvPr id="281" name="" descr=""/>
          <p:cNvPicPr/>
          <p:nvPr/>
        </p:nvPicPr>
        <p:blipFill>
          <a:blip r:embed="rId2"/>
          <a:stretch/>
        </p:blipFill>
        <p:spPr>
          <a:xfrm>
            <a:off x="6629400" y="4038480"/>
            <a:ext cx="220968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3" dur="indefinite" restart="never" nodeType="tmRoot">
          <p:childTnLst>
            <p:seq>
              <p:cTn id="1474" dur="indefinite" nodeType="mainSeq">
                <p:childTnLst>
                  <p:par>
                    <p:cTn id="1475" fill="hold">
                      <p:stCondLst>
                        <p:cond delay="indefinite"/>
                      </p:stCondLst>
                      <p:childTnLst>
                        <p:par>
                          <p:cTn id="1476" fill="hold">
                            <p:stCondLst>
                              <p:cond delay="0"/>
                            </p:stCondLst>
                            <p:childTnLst>
                              <p:par>
                                <p:cTn id="147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9" dur="10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0" dur="10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1" dur="10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2" fill="hold">
                      <p:stCondLst>
                        <p:cond delay="indefinite"/>
                      </p:stCondLst>
                      <p:childTnLst>
                        <p:par>
                          <p:cTn id="1483" fill="hold">
                            <p:stCondLst>
                              <p:cond delay="0"/>
                            </p:stCondLst>
                            <p:childTnLst>
                              <p:par>
                                <p:cTn id="148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6" dur="1000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7" dur="1000" fill="hold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8" dur="1000" fill="hold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9" fill="hold">
                      <p:stCondLst>
                        <p:cond delay="indefinite"/>
                      </p:stCondLst>
                      <p:childTnLst>
                        <p:par>
                          <p:cTn id="1490" fill="hold">
                            <p:stCondLst>
                              <p:cond delay="0"/>
                            </p:stCondLst>
                            <p:childTnLst>
                              <p:par>
                                <p:cTn id="149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3" dur="1000"/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4" dur="1000" fill="hold"/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5" dur="1000" fill="hold"/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6" fill="hold">
                      <p:stCondLst>
                        <p:cond delay="indefinite"/>
                      </p:stCondLst>
                      <p:childTnLst>
                        <p:par>
                          <p:cTn id="1497" fill="hold">
                            <p:stCondLst>
                              <p:cond delay="0"/>
                            </p:stCondLst>
                            <p:childTnLst>
                              <p:par>
                                <p:cTn id="149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0" dur="1000"/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1" dur="1000" fill="hold"/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2" dur="1000" fill="hold"/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3" fill="hold">
                      <p:stCondLst>
                        <p:cond delay="indefinite"/>
                      </p:stCondLst>
                      <p:childTnLst>
                        <p:par>
                          <p:cTn id="1504" fill="hold">
                            <p:stCondLst>
                              <p:cond delay="0"/>
                            </p:stCondLst>
                            <p:childTnLst>
                              <p:par>
                                <p:cTn id="150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7" dur="1000"/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8" dur="1000" fill="hold"/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9" dur="1000" fill="hold"/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2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3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Jamestown Governmen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use of Burg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comes the first law-making body in America on July 30, 1619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rst step toward representative government in Americ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5000760" y="2595600"/>
            <a:ext cx="3333600" cy="25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4" dur="indefinite" restart="never" nodeType="tmRoot">
          <p:childTnLst>
            <p:seq>
              <p:cTn id="1515" dur="indefinite" nodeType="mainSeq">
                <p:childTnLst>
                  <p:par>
                    <p:cTn id="1516" fill="hold">
                      <p:stCondLst>
                        <p:cond delay="indefinite"/>
                      </p:stCondLst>
                      <p:childTnLst>
                        <p:par>
                          <p:cTn id="1517" fill="hold">
                            <p:stCondLst>
                              <p:cond delay="0"/>
                            </p:stCondLst>
                            <p:childTnLst>
                              <p:par>
                                <p:cTn id="151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0" dur="1000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1" dur="10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2" dur="10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3" fill="hold">
                      <p:stCondLst>
                        <p:cond delay="indefinite"/>
                      </p:stCondLst>
                      <p:childTnLst>
                        <p:par>
                          <p:cTn id="1524" fill="hold">
                            <p:stCondLst>
                              <p:cond delay="0"/>
                            </p:stCondLst>
                            <p:childTnLst>
                              <p:par>
                                <p:cTn id="152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7" dur="1000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8" dur="1000" fill="hold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9" dur="1000" fill="hold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0" fill="hold">
                      <p:stCondLst>
                        <p:cond delay="indefinite"/>
                      </p:stCondLst>
                      <p:childTnLst>
                        <p:par>
                          <p:cTn id="1531" fill="hold">
                            <p:stCondLst>
                              <p:cond delay="0"/>
                            </p:stCondLst>
                            <p:childTnLst>
                              <p:par>
                                <p:cTn id="153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4" dur="1000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5" dur="1000" fill="hold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6" dur="1000" fill="hold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Decline of the Maya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pulation increased so fast that there was not enough food availabl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me died, moved, or joined other trib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ya civilization becomes extinct before the first Europeans come to Americ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5684760" y="1600200"/>
            <a:ext cx="19638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35" dur="2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40" dur="20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45" dur="20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Jamestow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frican slaves are brought in to work the plantations in Virgini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60 unmarried women sent to the colonis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rch, 1622- 347 settlers killed by Indian ra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ttlers retaliate and poison 250 India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5867280" y="1523880"/>
            <a:ext cx="20844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7" dur="indefinite" restart="never" nodeType="tmRoot">
          <p:childTnLst>
            <p:seq>
              <p:cTn id="1538" dur="indefinite" nodeType="mainSeq">
                <p:childTnLst>
                  <p:par>
                    <p:cTn id="1539" fill="hold">
                      <p:stCondLst>
                        <p:cond delay="indefinite"/>
                      </p:stCondLst>
                      <p:childTnLst>
                        <p:par>
                          <p:cTn id="1540" fill="hold">
                            <p:stCondLst>
                              <p:cond delay="0"/>
                            </p:stCondLst>
                            <p:childTnLst>
                              <p:par>
                                <p:cTn id="154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3" dur="1000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4" dur="10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5" dur="10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6" fill="hold">
                      <p:stCondLst>
                        <p:cond delay="indefinite"/>
                      </p:stCondLst>
                      <p:childTnLst>
                        <p:par>
                          <p:cTn id="1547" fill="hold">
                            <p:stCondLst>
                              <p:cond delay="0"/>
                            </p:stCondLst>
                            <p:childTnLst>
                              <p:par>
                                <p:cTn id="154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0" dur="1000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1" dur="1000" fill="hold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2" dur="1000" fill="hold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3" fill="hold">
                      <p:stCondLst>
                        <p:cond delay="indefinite"/>
                      </p:stCondLst>
                      <p:childTnLst>
                        <p:par>
                          <p:cTn id="1554" fill="hold">
                            <p:stCondLst>
                              <p:cond delay="0"/>
                            </p:stCondLst>
                            <p:childTnLst>
                              <p:par>
                                <p:cTn id="155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7" dur="1000"/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8" dur="1000" fill="hold"/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9" dur="1000" fill="hold"/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2" dur="1000"/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3" dur="1000" fill="hold"/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4" dur="1000" fill="hold"/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Jamestow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624- King James I decides to revoke the London Company charter for Jamestow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eates a royal colony ruled by the king and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hi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governo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overnor has power to reject laws made by the House of Burgess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lonists allowed to elect House members, but not the governo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5334120" y="1981080"/>
            <a:ext cx="287172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5" dur="indefinite" restart="never" nodeType="tmRoot">
          <p:childTnLst>
            <p:seq>
              <p:cTn id="1566" dur="indefinite" nodeType="mainSeq">
                <p:childTnLst>
                  <p:par>
                    <p:cTn id="1567" fill="hold">
                      <p:stCondLst>
                        <p:cond delay="indefinite"/>
                      </p:stCondLst>
                      <p:childTnLst>
                        <p:par>
                          <p:cTn id="1568" fill="hold">
                            <p:stCondLst>
                              <p:cond delay="0"/>
                            </p:stCondLst>
                            <p:childTnLst>
                              <p:par>
                                <p:cTn id="156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1" dur="1000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2" dur="10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3" dur="10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4" fill="hold">
                      <p:stCondLst>
                        <p:cond delay="indefinite"/>
                      </p:stCondLst>
                      <p:childTnLst>
                        <p:par>
                          <p:cTn id="1575" fill="hold">
                            <p:stCondLst>
                              <p:cond delay="0"/>
                            </p:stCondLst>
                            <p:childTnLst>
                              <p:par>
                                <p:cTn id="15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8" dur="1000"/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9" dur="1000" fill="hold"/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0" dur="1000" fill="hold"/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8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3" dur="1000"/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4" dur="1000" fill="hold"/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5" dur="1000" fill="hold"/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8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8" dur="1000"/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9" dur="1000" fill="hold"/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0" dur="1000" fill="hold"/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The Inca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cated in Per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rganized a rich and powerful empire by conquering neighboring trib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uzco- capital 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cated in the Andes Mountai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" descr="Inca Empire -- Media -- Encarta ® Online "/>
          <p:cNvPicPr/>
          <p:nvPr/>
        </p:nvPicPr>
        <p:blipFill>
          <a:blip r:embed="rId1"/>
          <a:stretch/>
        </p:blipFill>
        <p:spPr>
          <a:xfrm>
            <a:off x="5029200" y="1752480"/>
            <a:ext cx="3581280" cy="317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2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7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2" dur="5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5" dur="5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The Inca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rm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d llamas and alpacas for work and foo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d wool for cloth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tisans- fashioned gold and silver from the mines for jewelry and religious ico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ca organiz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5334120" y="2438280"/>
            <a:ext cx="2971800" cy="2057400"/>
            <a:chOff x="5334120" y="2438280"/>
            <a:chExt cx="2971800" cy="2057400"/>
          </a:xfrm>
        </p:grpSpPr>
        <p:sp>
          <p:nvSpPr>
            <p:cNvPr id="142" name=""/>
            <p:cNvSpPr/>
            <p:nvPr/>
          </p:nvSpPr>
          <p:spPr>
            <a:xfrm>
              <a:off x="5334120" y="3733920"/>
              <a:ext cx="2971800" cy="761760"/>
            </a:xfrm>
            <a:prstGeom prst="rect">
              <a:avLst/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562720" y="3048120"/>
              <a:ext cx="2514600" cy="6858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867280" y="2438280"/>
              <a:ext cx="1905120" cy="6098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486400" y="3962520"/>
              <a:ext cx="2514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Farmers, laborer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638680" y="3200400"/>
              <a:ext cx="2362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463416"/>
                  </a:solidFill>
                  <a:latin typeface="Arial"/>
                </a:rPr>
                <a:t>Noble class- priest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019920" y="2438280"/>
              <a:ext cx="152388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463416"/>
                  </a:solidFill>
                  <a:latin typeface="Arial"/>
                </a:rPr>
                <a:t>THE INCA </a:t>
              </a:r>
              <a:r>
                <a:rPr b="1" lang="en-US" sz="1600" spc="-1" strike="noStrike">
                  <a:solidFill>
                    <a:srgbClr val="463416"/>
                  </a:solidFill>
                  <a:latin typeface="Arial"/>
                </a:rPr>
                <a:t>The Sun God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5181480" y="4876920"/>
            <a:ext cx="358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l power flowed from the Inca through the nobles to the peasan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72" dur="2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77" dur="20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82" dur="20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87" dur="20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9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9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206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The Aztec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cated in Central America from Mexico to southern North Americ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rchants traveled all over trading precious stones, cacao beans, gold, and silv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nochtitlan- capital cit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" descr="Aztec Empire -- Media -- Encarta ® Online "/>
          <p:cNvPicPr/>
          <p:nvPr/>
        </p:nvPicPr>
        <p:blipFill>
          <a:blip r:embed="rId1"/>
          <a:stretch/>
        </p:blipFill>
        <p:spPr>
          <a:xfrm>
            <a:off x="5130720" y="1600200"/>
            <a:ext cx="307332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3" dur="2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The North American Indian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cated in U.S. and Canad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rritory- tribes would band together for support, trade, and protection, but stayed in their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ow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erritor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 empire crossed over into other territori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lture area- A region in which most of the tribes had same sort of cultur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457200" y="1841400"/>
            <a:ext cx="4038480" cy="401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13T00:40:27Z</dcterms:created>
  <dc:creator>George Maruska</dc:creator>
  <dc:description/>
  <dc:language>en-US</dc:language>
  <cp:lastModifiedBy>Laurel N. Desaulniers</cp:lastModifiedBy>
  <dcterms:modified xsi:type="dcterms:W3CDTF">2008-07-23T16:54:06Z</dcterms:modified>
  <cp:revision>13</cp:revision>
  <dc:subject/>
  <dc:title>Discovering the Americas</dc:title>
</cp:coreProperties>
</file>