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0ABF-BB23-4A0D-8A3D-F2D09DC0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0A13-4F14-4AEA-91A2-DA1ACD54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90CB-AD59-4D67-B130-5B9B89CE6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01D4-41D9-40AA-9E4D-C912B5628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1136-2931-4613-A70D-344F2643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F4CC-76B4-49D0-9DA7-33F8296A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BD92-C142-400F-A976-DF16AF3B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8DED-AC2A-4F41-A904-EC2A7220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33A3-4F23-4FD1-9478-78FEE8C5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C0A4-FB36-41D2-BA7A-EE0D5286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EC44-D9E7-4B0E-A7C2-CB268FF3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F246-81E8-4A69-9043-870F4113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4EE7-B1DD-4334-8801-5DF1A1A21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yberlearning-world.com/lessons/civics/comptoon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cyberlearning-world.com/lessons/civics/comptoon.jpg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examine the importance of the Great Compromise and 3/5 Comprom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rcRect l="9974" t="3098" r="1665" b="4951"/>
          <a:stretch/>
        </p:blipFill>
        <p:spPr>
          <a:xfrm>
            <a:off x="0" y="1981080"/>
            <a:ext cx="914076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19920" y="2895480"/>
            <a:ext cx="26668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It called for a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nicameral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gislature, in which every state received one vo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stitutional Conven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Philadelphia, 178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32400" y="1066680"/>
            <a:ext cx="917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George Washington was elected president of the Conven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828800"/>
            <a:ext cx="5943600" cy="5029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1828800"/>
            <a:ext cx="5715000" cy="5029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6560" y="1981080"/>
            <a:ext cx="22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irginia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32080" y="1981080"/>
            <a:ext cx="26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Jersey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9880" y="2895480"/>
            <a:ext cx="19051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Both plans called for a strong national government with 3 branch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2514600"/>
            <a:ext cx="27432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It called for a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bicamer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legislature, in which the number of representatives in each house would depend on the population of the sta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0" t="0" r="0" b="64463"/>
          <a:stretch/>
        </p:blipFill>
        <p:spPr>
          <a:xfrm>
            <a:off x="3240" y="2619360"/>
            <a:ext cx="914076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19920" y="1066680"/>
            <a:ext cx="26668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It called for a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nicameral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egislature, in which every state received one vo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5943600" cy="5029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0"/>
            <a:ext cx="5715000" cy="5029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6560" y="152280"/>
            <a:ext cx="22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irginia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32080" y="152280"/>
            <a:ext cx="26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Jersey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1066680"/>
            <a:ext cx="19051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Both plans called for a strong national government with 3 branch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838080"/>
            <a:ext cx="320040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It called for a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bicamer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legislature, in which the number of representatives in each house would depend on the population of the sta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038480"/>
            <a:ext cx="91440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reat Compro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495680"/>
            <a:ext cx="91440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provided for a bicameral Cong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952880"/>
            <a:ext cx="9144000" cy="94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ouse of Representativ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each state is represented according to its population (satisfied the VA Pl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867280"/>
            <a:ext cx="91440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n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each state has 2 Senators (satisfied the NJ Pl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338880"/>
            <a:ext cx="91440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Both houses of Congress must pass every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>
            <a:hlinkClick r:id="rId2"/>
          </p:cNvPr>
          <p:cNvPicPr/>
          <p:nvPr/>
        </p:nvPicPr>
        <p:blipFill>
          <a:blip r:embed="rId3"/>
          <a:srcRect l="0" t="36641" r="0" b="41155"/>
          <a:stretch/>
        </p:blipFill>
        <p:spPr>
          <a:xfrm>
            <a:off x="2209680" y="2362320"/>
            <a:ext cx="5256360" cy="1523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4"/>
          </p:cNvPr>
          <p:cNvPicPr/>
          <p:nvPr/>
        </p:nvPicPr>
        <p:blipFill>
          <a:blip r:embed="rId5"/>
          <a:srcRect l="0" t="0" r="0" b="64472"/>
          <a:stretch/>
        </p:blipFill>
        <p:spPr>
          <a:xfrm>
            <a:off x="2209680" y="0"/>
            <a:ext cx="5256360" cy="2438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rcRect l="0" t="57741" r="0" b="17833"/>
          <a:stretch/>
        </p:blipFill>
        <p:spPr>
          <a:xfrm>
            <a:off x="2209680" y="3809880"/>
            <a:ext cx="5256360" cy="1676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rcRect l="0" t="82236" r="0" b="0"/>
          <a:stretch/>
        </p:blipFill>
        <p:spPr>
          <a:xfrm>
            <a:off x="2209680" y="5486400"/>
            <a:ext cx="52563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77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770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0" y="1524600"/>
            <a:ext cx="228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rder to determine the population of a state, only 3 out of every 5 slaves would be cou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81680" y="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ree-Fifths Compro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6480"/>
            <a:ext cx="682776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02:07:37Z</dcterms:created>
  <dc:creator>Adam Berlin</dc:creator>
  <dc:description/>
  <dc:language>en-US</dc:language>
  <cp:lastModifiedBy>default</cp:lastModifiedBy>
  <dcterms:modified xsi:type="dcterms:W3CDTF">2009-08-29T17:26:36Z</dcterms:modified>
  <cp:revision>13</cp:revision>
  <dc:subject/>
  <dc:title>Slide 1</dc:title>
</cp:coreProperties>
</file>