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4C4E-56FF-4BE6-9696-4A8B69FF9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B5C4-F2D4-44C7-8824-452AAD664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96BB-A18C-468E-A3CF-CE9E55AAB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C5AA-3755-4DFC-8036-EECBB8B28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6190-E683-49AC-8912-6CE0FE718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1C4A-7EF7-49B2-92F6-F3CAC8EE1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3C76-6208-4809-98DD-ECA345D55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577D-FEF0-4F94-B8F3-1C52BF079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952B-A5A9-4EF8-9F77-62598609B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58C7-9D5A-45B1-B0BF-DB6612439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494D-F034-4998-9EC9-852236EFF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2EF5-F63C-43B3-9338-885B449AF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6A370-0614-4305-BE1B-C196D8D81A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yberlearning-world.com/lessons/civics/comptoon.jpg" TargetMode="External"/><Relationship Id="rId3" Type="http://schemas.openxmlformats.org/officeDocument/2006/relationships/image" Target="../media/image3.jpeg"/><Relationship Id="rId4" Type="http://schemas.openxmlformats.org/officeDocument/2006/relationships/hyperlink" Target="http://www.cyberlearning-world.com/lessons/civics/comptoon.jpg" TargetMode="External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ctiv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examine the importance of the Great Compromise and 3/5 Compromi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rcRect l="9974" t="3098" r="1665" b="4951"/>
          <a:stretch/>
        </p:blipFill>
        <p:spPr>
          <a:xfrm>
            <a:off x="0" y="1981080"/>
            <a:ext cx="914076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19920" y="2895480"/>
            <a:ext cx="266688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 It called for a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nicameral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egislature, in which every state received one vot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nstitutional Conventio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Philadelphia, 178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-32400" y="1066680"/>
            <a:ext cx="917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George Washington was elected president of the Convention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828800"/>
            <a:ext cx="5943600" cy="5029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1828800"/>
            <a:ext cx="5715000" cy="5029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6560" y="1981080"/>
            <a:ext cx="222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Virginia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032080" y="1981080"/>
            <a:ext cx="268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Jersey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9880" y="2895480"/>
            <a:ext cx="190512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 Both plans called for a strong national government with 3 branch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2514600"/>
            <a:ext cx="274320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 It called for a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bicamera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legislature, in which the number of representatives in each house would depend on the population of the stat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rcRect l="0" t="0" r="0" b="64463"/>
          <a:stretch/>
        </p:blipFill>
        <p:spPr>
          <a:xfrm>
            <a:off x="3240" y="2619360"/>
            <a:ext cx="914076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019920" y="1066680"/>
            <a:ext cx="266688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 It called for a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nicameral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egislature, in which every state received one vot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5943600" cy="5029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0"/>
            <a:ext cx="5715000" cy="5029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06560" y="152280"/>
            <a:ext cx="222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Virginia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032080" y="152280"/>
            <a:ext cx="268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Jersey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09880" y="1066680"/>
            <a:ext cx="190512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 Both plans called for a strong national government with 3 branch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838080"/>
            <a:ext cx="320040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 It called for a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bicamera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legislature, in which the number of representatives in each house would depend on the population of the stat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4038480"/>
            <a:ext cx="914400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Great Comprom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4495680"/>
            <a:ext cx="914400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provided for a bicameral Congr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4952880"/>
            <a:ext cx="9144000" cy="947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ouse of Representativ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each state is represented according to its population (satisfied the VA Pla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5867280"/>
            <a:ext cx="914400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n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each state has 2 Senators (satisfied the NJ Pla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6338880"/>
            <a:ext cx="914400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 Both houses of Congress must pass every la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>
            <a:hlinkClick r:id="rId2"/>
          </p:cNvPr>
          <p:cNvPicPr/>
          <p:nvPr/>
        </p:nvPicPr>
        <p:blipFill>
          <a:blip r:embed="rId3"/>
          <a:srcRect l="0" t="36641" r="0" b="41155"/>
          <a:stretch/>
        </p:blipFill>
        <p:spPr>
          <a:xfrm>
            <a:off x="2209680" y="2362320"/>
            <a:ext cx="5256360" cy="15238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>
            <a:hlinkClick r:id="rId4"/>
          </p:cNvPr>
          <p:cNvPicPr/>
          <p:nvPr/>
        </p:nvPicPr>
        <p:blipFill>
          <a:blip r:embed="rId5"/>
          <a:srcRect l="0" t="0" r="0" b="64472"/>
          <a:stretch/>
        </p:blipFill>
        <p:spPr>
          <a:xfrm>
            <a:off x="2209680" y="0"/>
            <a:ext cx="5256360" cy="2438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rcRect l="0" t="57741" r="0" b="17833"/>
          <a:stretch/>
        </p:blipFill>
        <p:spPr>
          <a:xfrm>
            <a:off x="2209680" y="3809880"/>
            <a:ext cx="5256360" cy="1676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7"/>
          <a:srcRect l="0" t="82236" r="0" b="0"/>
          <a:stretch/>
        </p:blipFill>
        <p:spPr>
          <a:xfrm>
            <a:off x="2209680" y="5486400"/>
            <a:ext cx="52563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77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" dur="770" fill="hold"/>
                                        <p:tgtEl>
                                          <p:spTgt spid="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0" dur="77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2" dur="77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58000" y="1524600"/>
            <a:ext cx="2286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order to determine the population of a state, only 3 out of every 5 slaves would be coun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781680" y="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hree-Fifths Comprom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6480"/>
            <a:ext cx="682776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8T02:07:37Z</dcterms:created>
  <dc:creator>Adam Berlin</dc:creator>
  <dc:description/>
  <dc:language>en-US</dc:language>
  <cp:lastModifiedBy>default</cp:lastModifiedBy>
  <dcterms:modified xsi:type="dcterms:W3CDTF">2009-08-29T17:26:36Z</dcterms:modified>
  <cp:revision>13</cp:revision>
  <dc:subject/>
  <dc:title>Slide 1</dc:title>
</cp:coreProperties>
</file>