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2CE-F335-4945-99AA-AECB0881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A13B-88C8-48BA-8210-1982D540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1B7-9377-4D4A-9E33-917853A8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E5B-6FA2-4922-A26D-0425AE6A4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947-C0CF-4E2A-A310-B05082F6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28B-63FC-46B2-9995-665B469F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D64A-C7B1-442D-81A9-48B26298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3141-0342-451A-96A2-F26009CF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3AB-E4E5-403E-A137-12E0532D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F535-DF2B-41B5-9AF1-B7876B2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D08-FEDE-4206-A742-323B6DD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B61-68F2-4B48-8EB0-AB8E1EF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7C1F-FBBF-4641-9C5B-E25BA176B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yberlearning-world.com/lessons/civics/comptoon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cyberlearning-world.com/lessons/civics/comptoon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amine the importance of the Great Compromise and 3/5 Compro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9974" t="3098" r="1665" b="4951"/>
          <a:stretch/>
        </p:blipFill>
        <p:spPr>
          <a:xfrm>
            <a:off x="0" y="1981080"/>
            <a:ext cx="91407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19920" y="28954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itutional Conven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hiladelphia, 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" y="1066680"/>
            <a:ext cx="91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George Washington was elected president of the Conven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82880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6560" y="1981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080" y="19810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954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14600"/>
            <a:ext cx="2743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4463"/>
          <a:stretch/>
        </p:blipFill>
        <p:spPr>
          <a:xfrm>
            <a:off x="3240" y="2619360"/>
            <a:ext cx="9140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9920" y="10666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22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080" y="152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0666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838080"/>
            <a:ext cx="32004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eat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d for a bicameral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952880"/>
            <a:ext cx="91440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use of Represent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is represented according to its population (satisfied the VA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has 2 Senators (satisfied the NJ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Both houses of Congress must pass ever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rcRect l="0" t="36641" r="0" b="41155"/>
          <a:stretch/>
        </p:blipFill>
        <p:spPr>
          <a:xfrm>
            <a:off x="2209680" y="2362320"/>
            <a:ext cx="52563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/>
          </p:cNvPr>
          <p:cNvPicPr/>
          <p:nvPr/>
        </p:nvPicPr>
        <p:blipFill>
          <a:blip r:embed="rId5"/>
          <a:srcRect l="0" t="0" r="0" b="64472"/>
          <a:stretch/>
        </p:blipFill>
        <p:spPr>
          <a:xfrm>
            <a:off x="2209680" y="0"/>
            <a:ext cx="525636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rcRect l="0" t="57741" r="0" b="17833"/>
          <a:stretch/>
        </p:blipFill>
        <p:spPr>
          <a:xfrm>
            <a:off x="2209680" y="3809880"/>
            <a:ext cx="5256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0" t="82236" r="0" b="0"/>
          <a:stretch/>
        </p:blipFill>
        <p:spPr>
          <a:xfrm>
            <a:off x="2209680" y="5486400"/>
            <a:ext cx="5256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0" y="15246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determine the population of a state, only 3 out of every 5 slaves would be cou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-Fifths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6827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2:07:37Z</dcterms:created>
  <dc:creator>Adam Berlin</dc:creator>
  <dc:description/>
  <dc:language>en-US</dc:language>
  <cp:lastModifiedBy>default</cp:lastModifiedBy>
  <dcterms:modified xsi:type="dcterms:W3CDTF">2009-08-29T17:26:36Z</dcterms:modified>
  <cp:revision>13</cp:revision>
  <dc:subject/>
  <dc:title>Slide 1</dc:title>
</cp:coreProperties>
</file>