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542-9569-48D9-B952-1EDC56CC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D68-F320-4DF0-9B3F-5871C950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B28-A3D7-40EC-8A5C-C344256F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338-498E-401C-932E-9AE19FA5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6EA-55D8-4715-BBF6-11392CAC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0E1-6246-4567-B8D2-65A4B012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1BF-4083-49A3-91F4-F65BDDB7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D29-6156-4FE6-AEAA-B86EA3D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5D4-DEBC-4525-BB18-1BAA89EB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FF5-50B4-4864-8DAB-B4B5B12B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67D-F3DA-4BDE-9CFB-22D54C39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7AC-4275-427C-B142-066ED605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04C2-25BB-4E77-9ADC-5A02C39FB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yberlearning-world.com/lessons/civics/comptoon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cyberlearning-world.com/lessons/civics/comptoon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amine the importance of the Great Compromise and 3/5 Compro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9974" t="3098" r="1665" b="4951"/>
          <a:stretch/>
        </p:blipFill>
        <p:spPr>
          <a:xfrm>
            <a:off x="0" y="1981080"/>
            <a:ext cx="91407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19920" y="28954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itutional Conven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hiladelphia, 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" y="1066680"/>
            <a:ext cx="91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George Washington was elected president of the Conven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82880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6560" y="1981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080" y="19810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954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14600"/>
            <a:ext cx="2743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0" b="64463"/>
          <a:stretch/>
        </p:blipFill>
        <p:spPr>
          <a:xfrm>
            <a:off x="3240" y="2619360"/>
            <a:ext cx="9140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9920" y="10666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22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080" y="1522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0666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838080"/>
            <a:ext cx="32004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eat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d for a bicameral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952880"/>
            <a:ext cx="91440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use of Represent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is represented according to its population (satisfied the VA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has 2 Senators (satisfied the NJ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Both houses of Congress must pass ever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rcRect l="0" t="36641" r="0" b="41155"/>
          <a:stretch/>
        </p:blipFill>
        <p:spPr>
          <a:xfrm>
            <a:off x="2209680" y="2362320"/>
            <a:ext cx="525636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/>
          </p:cNvPr>
          <p:cNvPicPr/>
          <p:nvPr/>
        </p:nvPicPr>
        <p:blipFill>
          <a:blip r:embed="rId5"/>
          <a:srcRect l="0" t="0" r="0" b="64472"/>
          <a:stretch/>
        </p:blipFill>
        <p:spPr>
          <a:xfrm>
            <a:off x="2209680" y="0"/>
            <a:ext cx="525636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rcRect l="0" t="57741" r="0" b="17833"/>
          <a:stretch/>
        </p:blipFill>
        <p:spPr>
          <a:xfrm>
            <a:off x="2209680" y="3809880"/>
            <a:ext cx="5256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0" t="82236" r="0" b="0"/>
          <a:stretch/>
        </p:blipFill>
        <p:spPr>
          <a:xfrm>
            <a:off x="2209680" y="5486400"/>
            <a:ext cx="5256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0" y="15246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determine the population of a state, only 3 out of every 5 slaves would be cou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-Fifths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6827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2:07:37Z</dcterms:created>
  <dc:creator>Adam Berlin</dc:creator>
  <dc:description/>
  <dc:language>en-US</dc:language>
  <cp:lastModifiedBy>default</cp:lastModifiedBy>
  <dcterms:modified xsi:type="dcterms:W3CDTF">2009-08-29T17:26:36Z</dcterms:modified>
  <cp:revision>13</cp:revision>
  <dc:subject/>
  <dc:title>Slide 1</dc:title>
</cp:coreProperties>
</file>