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A816-64F9-46DE-A5C1-71873856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54B2-F898-4005-A1A5-A002F171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D5E-A395-40C8-99C0-B97F451A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B927-8BD6-4812-B944-75A24F3C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B5E-9305-43B9-9D24-58311BA3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BDF-6E0D-4062-B2BB-BA187D4E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C17-508B-4C68-9780-E307287F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F85-52D8-43C0-A75B-3BCA86A7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407-47B7-4D1B-B61E-B7342B2B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A9EC-9501-457A-893D-570DB410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331E-10F3-41A9-BBB2-41EA34C8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AECE-B2AC-4603-91EA-E74B1930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81ED-6AED-4CD2-96FA-8EAE8D7F5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yberlearning-world.com/lessons/civics/comptoon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cyberlearning-world.com/lessons/civics/comptoon.jp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xamine the importance of the Great Compromise and 3/5 Comprom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9974" t="3098" r="1665" b="4951"/>
          <a:stretch/>
        </p:blipFill>
        <p:spPr>
          <a:xfrm>
            <a:off x="0" y="1981080"/>
            <a:ext cx="91407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19920" y="2895480"/>
            <a:ext cx="2666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nicamera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gislature, in which every state received one vo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titutional Conven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hiladelphia, 178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2400" y="1066680"/>
            <a:ext cx="91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George Washington was elected president of the Conven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828800"/>
            <a:ext cx="59436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1828800"/>
            <a:ext cx="57150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6560" y="198108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irginia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32080" y="198108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Jerse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2895480"/>
            <a:ext cx="1905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Both plans called for a strong national government with 3 branch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514600"/>
            <a:ext cx="27432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icamer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gislature, in which the number of representatives in each house would depend on the population of the st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0" b="64463"/>
          <a:stretch/>
        </p:blipFill>
        <p:spPr>
          <a:xfrm>
            <a:off x="3240" y="2619360"/>
            <a:ext cx="91407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19920" y="1066680"/>
            <a:ext cx="2666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nicamera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gislature, in which every state received one vo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59436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0"/>
            <a:ext cx="57150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6560" y="15228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irginia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32080" y="15228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Jerse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1066680"/>
            <a:ext cx="1905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Both plans called for a strong national government with 3 branch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838080"/>
            <a:ext cx="32004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icamer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gislature, in which the number of representatives in each house would depend on the population of the st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0384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reat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4956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provided for a bicameral Con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952880"/>
            <a:ext cx="914400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use of Representati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each state is represented according to its population (satisfied the VA P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8672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n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each state has 2 Senators (satisfied the NJ P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Both houses of Congress must pass every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2"/>
          </p:cNvPr>
          <p:cNvPicPr/>
          <p:nvPr/>
        </p:nvPicPr>
        <p:blipFill>
          <a:blip r:embed="rId3"/>
          <a:srcRect l="0" t="36641" r="0" b="41155"/>
          <a:stretch/>
        </p:blipFill>
        <p:spPr>
          <a:xfrm>
            <a:off x="2209680" y="2362320"/>
            <a:ext cx="5256360" cy="1523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4"/>
          </p:cNvPr>
          <p:cNvPicPr/>
          <p:nvPr/>
        </p:nvPicPr>
        <p:blipFill>
          <a:blip r:embed="rId5"/>
          <a:srcRect l="0" t="0" r="0" b="64472"/>
          <a:stretch/>
        </p:blipFill>
        <p:spPr>
          <a:xfrm>
            <a:off x="2209680" y="0"/>
            <a:ext cx="5256360" cy="243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rcRect l="0" t="57741" r="0" b="17833"/>
          <a:stretch/>
        </p:blipFill>
        <p:spPr>
          <a:xfrm>
            <a:off x="2209680" y="3809880"/>
            <a:ext cx="525636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rcRect l="0" t="82236" r="0" b="0"/>
          <a:stretch/>
        </p:blipFill>
        <p:spPr>
          <a:xfrm>
            <a:off x="2209680" y="5486400"/>
            <a:ext cx="5256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0" y="1524600"/>
            <a:ext cx="228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determine the population of a state, only 3 out of every 5 slaves would be cou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ree-Fifths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682776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2:07:37Z</dcterms:created>
  <dc:creator>Adam Berlin</dc:creator>
  <dc:description/>
  <dc:language>en-US</dc:language>
  <cp:lastModifiedBy>default</cp:lastModifiedBy>
  <dcterms:modified xsi:type="dcterms:W3CDTF">2009-08-29T17:26:36Z</dcterms:modified>
  <cp:revision>13</cp:revision>
  <dc:subject/>
  <dc:title>Slide 1</dc:title>
</cp:coreProperties>
</file>