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429C-F8D6-480F-961F-8344F826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B195-2083-4C5E-8909-B0BE406F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E34-4C24-49D2-B78B-D8072B16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9FC-1421-4723-8453-5DDE3A4B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6607C-6EA7-4DE1-AD93-FEFD7790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1D4A8-6EC8-4D85-9CA2-D0C38061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E792C-8F6F-49F8-95DE-D7322559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54B22-8B21-49DF-9641-9B34615E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B3921-0258-4244-8756-FE057571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ABDD0-AD66-45E7-A7FF-9D3E7161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77CBD-5016-4FA3-AB17-0644AAA6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953-0E46-4AC0-BF1C-F2A7F46F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FDF19-2132-432D-908D-6A2CAD2E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1172A-F225-4B1B-9D12-6215F90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9A927-AC11-46F7-A511-0460F6F5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46011-F4BE-4B7A-9024-E60F905A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F4ED4-8BF8-46F2-B985-1AD6F9DF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230-44EB-4D75-989D-56151F3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A87-22E8-4C58-B704-6BD3205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1DE-FCA1-4E1C-83CE-69E46014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A01-86C8-4B27-B270-9D8F0605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0EAB-9C64-4AD1-860E-98EBFE25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6D89-2EFB-4CC9-90EA-0742DEA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791-5500-400A-BD16-C0911F0C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64EB-43A1-4BA2-9001-1D4E3829D6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1A90-AB0E-4A5D-ACA4-F2E22D6396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stern La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 w/ the western 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ontro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sett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ow to gov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handle India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of how to settle the new Ohio Territory that had been given to America after the Revolutionary W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y of 178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30640" y="1600200"/>
            <a:ext cx="3272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overning the We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tinental Congress agreed that all the new western states would be admitted on equal terms as the original 1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oneers move out west at the end of the Rev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iel Boone- Kentucky and Tennesse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Harding, 'Daniel Boone'"/>
          <p:cNvPicPr/>
          <p:nvPr/>
        </p:nvPicPr>
        <p:blipFill>
          <a:blip r:embed="rId1"/>
          <a:stretch/>
        </p:blipFill>
        <p:spPr>
          <a:xfrm>
            <a:off x="5105520" y="1828800"/>
            <a:ext cx="287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a new way to gove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d by a governor and 3 judges appointed by Congress. (Territory Statu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reached 5,000 free, voting age males- legislature could be elected and a non-voting delegate could be sent to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pulation reached 60,000 free inhabitants, people could draft a constitution and apply for statehood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see caption below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rthwest Ordinance of 1787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90920" y="14479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other prov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rred slavery from the Northwest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ouraged public edu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ised to treat the Indians w/ “the utmost good faith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eaknesses of the Articles of Confede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ak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had only one vo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hode Island had as much power as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aws required 9 of the 13 states to agre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President or execu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09960" y="1905120"/>
            <a:ext cx="371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ina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wer over money not given to Congr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ach state able to create its own mon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value along w/ the Continental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worth a Continental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1776 Continental Dollar Obverse"/>
          <p:cNvPicPr/>
          <p:nvPr/>
        </p:nvPicPr>
        <p:blipFill>
          <a:blip r:embed="rId1"/>
          <a:stretch/>
        </p:blipFill>
        <p:spPr>
          <a:xfrm>
            <a:off x="4832280" y="2019240"/>
            <a:ext cx="367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wer Over Tra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state allowed to do its own foreign tra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 ability to levy taxes on impor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ain floods American market w/ cheaper g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50344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forcing Trea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ny 1 of the 13 states could ignore a treaty written by the new gov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1960" y="3152880"/>
            <a:ext cx="38289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litary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ritish refuse to leave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 unable to pay its debts to Britain or force them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deal with the Indian threa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W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nable to get the Spanish to allow use of New Orle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Continental Army"/>
          <p:cNvPicPr/>
          <p:nvPr/>
        </p:nvPicPr>
        <p:blipFill>
          <a:blip r:embed="rId1"/>
          <a:stretch/>
        </p:blipFill>
        <p:spPr>
          <a:xfrm>
            <a:off x="5715000" y="1447920"/>
            <a:ext cx="2197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4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andards addre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5 The student will explain specific events and key ideas that brought about the adoption and implementation of the United States Constitu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Explain how weaknesses in the Articles of Confederation and Daniel Shays’ Rebellion led to a call for a stronger central govern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USH 6 The student will analyze the nature of territorial and population growth, and its impact in the early decades of the new n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Explain the Northwest Ordinance’s importance in the westward migration of Americans, on slavery, public education, and the addition of new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47960" y="2057400"/>
            <a:ext cx="41907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Shay’s Rebell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189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merica suffers a depr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arp decline in business activity and job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arms are seized for nonpayment of ta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eclo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384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Daniel Shay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Shays leads a rebellion against the Massachusetts Cou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s 1500 former Continental Army veter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end of foreclo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mand representation in Congr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y the courthouse for 3 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28573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ernor James Bowdoin orders General Benjamin Lincoln to stop Sh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ilitia stops Sha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governor John Hancock pardons all men who took part in the Rebell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erts Americans to the real troubles of the new 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1866960" cy="2352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2219400" cy="2752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029200" y="3809880"/>
            <a:ext cx="2163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5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5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4038480" cy="35816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ting is called for Philadelph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For “the sole and express purpose of revising the Articles of Confederatio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ssential Question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452320"/>
            <a:ext cx="739152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id weaknesses in the Articles of Confederation and Daniel Shays’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bellion lead to a call for a stronger central govern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 of Confed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Continental Cong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tional co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of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p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ion of church and st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 Ordinance of 17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west Ordinance of 17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y’s Rebe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 Won…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w What??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VIEW: Second Continental Congress in 1775 urges the colonies to organize new govern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replace the colonial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952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477120" cy="51688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Need For a Strong Central Governmen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4038840" cy="4496040"/>
          </a:xfrm>
          <a:prstGeom prst="rect">
            <a:avLst/>
          </a:prstGeom>
          <a:solidFill>
            <a:srgbClr val="3399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re by many for a stronger central government than the state gover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s that since the states had fought and won a war for independence, why should they answer to another gover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ovember 15, 1777 (during the revolu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reated a confederation or league of free and independent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ted States of Amer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a Congress w/ two to seven delegates from each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tate had only one vo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Cover of the Articles of Confederation"/>
          <p:cNvPicPr/>
          <p:nvPr/>
        </p:nvPicPr>
        <p:blipFill>
          <a:blip r:embed="rId1"/>
          <a:stretch/>
        </p:blipFill>
        <p:spPr>
          <a:xfrm>
            <a:off x="5548320" y="1943280"/>
            <a:ext cx="2238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atifi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13 state had to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atify (accep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propo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 last to ratif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81- All states surrendered their clai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cles of Confederation ra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Early Drawing of the Courthouse"/>
          <p:cNvPicPr/>
          <p:nvPr/>
        </p:nvPicPr>
        <p:blipFill>
          <a:blip r:embed="rId1"/>
          <a:stretch/>
        </p:blipFill>
        <p:spPr>
          <a:xfrm>
            <a:off x="938160" y="1990800"/>
            <a:ext cx="30765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Land Ordinance of 1785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3420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0T16:51:42Z</dcterms:created>
  <dc:creator>George Maruska</dc:creator>
  <dc:description/>
  <dc:language>en-US</dc:language>
  <cp:lastModifiedBy>default</cp:lastModifiedBy>
  <dcterms:modified xsi:type="dcterms:W3CDTF">2008-11-02T23:26:10Z</dcterms:modified>
  <cp:revision>19</cp:revision>
  <dc:subject/>
  <dc:title>Land Ordinance of 1785</dc:title>
</cp:coreProperties>
</file>