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20A-32E9-4AA7-81BD-530E30BD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0E1-72C6-47AE-B591-03AFA975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71B-8652-44E5-BA01-9CE57EF6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A89-CD84-4B58-8917-0C38D519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AA792-6BFB-468D-AA03-79A282AB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55535-E58E-4F89-9F66-E3DD73B3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05EC2-0D2C-43B5-B71C-EF873DDD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F20E9-CF73-475F-A0AD-CBCBFCDF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DEF1D-BB65-4F0B-8734-839786C2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29DA6-F463-4741-9039-112AB6CA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E6222-8582-435E-A139-B26B384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597-15E7-4BEA-AC1F-7B8957E1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C6253-83FF-47F5-8DF3-2C51032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24C12-3B09-4C9A-BE2A-422C1A9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1B6F8-64EB-44C2-AC5A-174A2CC2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77636-9C7F-4F35-9FC1-01F2A862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58500-5436-45A0-ACC6-95422916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6E8-1064-4B83-B117-D3CF3DE3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B7E-6BB7-4570-ACBA-4AB784E0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6CD-1F44-47B3-8532-5C9FC57D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B40-5AD4-470B-A82F-50AD1E01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E8C-149F-4DD9-A8B2-78DA886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1E7-3A45-4CFB-8B5C-B4A43994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7FB-BA7F-41D6-B015-2C6E9811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E6C6-4910-4A9F-8C5F-26F097AEB0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43E4-FF5E-495F-ADE2-86B9C7B564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stern La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w/ the western 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ontr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sett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gov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handle India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how to settle the new Ohio Territory that had been given to America after the Revolutionary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y of 17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0640" y="1600200"/>
            <a:ext cx="327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verning the W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oneers move out west at the end of the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iel Boone- Kentucky and Tennesse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Harding, 'Daniel Boone'"/>
          <p:cNvPicPr/>
          <p:nvPr/>
        </p:nvPicPr>
        <p:blipFill>
          <a:blip r:embed="rId1"/>
          <a:stretch/>
        </p:blipFill>
        <p:spPr>
          <a:xfrm>
            <a:off x="5105520" y="1828800"/>
            <a:ext cx="287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a new way to gov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by a governor and 3 judges appointed by Congress. (Territory Stat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pulation reached 60,000 free inhabitants, people could draft a constitution and apply for statehoo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see caption below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90920" y="14479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other pro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rred slavery from the Northwest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d public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sed to treat the Indians w/ “the utmost good faith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eaknesses of 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ak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ode Island had as much power as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9960" y="1905120"/>
            <a:ext cx="371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na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wer over money not given to Cong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able to create its own mon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alue along w/ the Continental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worth a Continenta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1776 Continental Dollar Obverse"/>
          <p:cNvPicPr/>
          <p:nvPr/>
        </p:nvPicPr>
        <p:blipFill>
          <a:blip r:embed="rId1"/>
          <a:stretch/>
        </p:blipFill>
        <p:spPr>
          <a:xfrm>
            <a:off x="4832280" y="2019240"/>
            <a:ext cx="367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wer Over Tra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tate allowed to do its own foreign tr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ability to levy taxes on im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 floods American market w/ cheaper g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forcing Trea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1960" y="3152880"/>
            <a:ext cx="38289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itary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itish refuse to leave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unable to pay its debts to Britain or force them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deal with the Indian threa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W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get the Spanish to allow use of New Orle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Continental Army"/>
          <p:cNvPicPr/>
          <p:nvPr/>
        </p:nvPicPr>
        <p:blipFill>
          <a:blip r:embed="rId1"/>
          <a:stretch/>
        </p:blipFill>
        <p:spPr>
          <a:xfrm>
            <a:off x="5715000" y="1447920"/>
            <a:ext cx="2197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5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andards addre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5 The student will explain specific events and key ideas that brought about the adoption and implementation of the United States Constitu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Explain how weaknesses in the Articles of Confederation and Daniel Shays’ Rebellion led to a call for a stronger central gover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 6 The student will analyze the nature of territorial and population growth, and its impact in the early decades of the new 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Explain the Northwest Ordinance’s importance in the westward migration of Americans, on slavery, public education, and the addition of new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47960" y="2057400"/>
            <a:ext cx="41907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Shay’s Rebell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89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merica suffers a dep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rms are seized for nonpayment of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eclo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38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iel Shay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Shays leads a rebellion against the Massachusetts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1500 former Continental Army veter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end of foreclo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representation in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y the courthouse for 3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2857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James Bowdoin orders General Benjamin Lincoln to stop Sh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litia stops Sh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governor John Hancock pardons all men who took part in the Rebel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erts Americans to the real troubles of the new 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1866960" cy="2352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219400" cy="2752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216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4038480" cy="35816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is called for Philadelph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 “the sole and express purpose of revising the Articles of Confederatio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sential Question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452320"/>
            <a:ext cx="73915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weaknesses in the Articles of Confederation and Daniel Shays’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llion lead to a call for a stronger central govern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 of Confe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Continental Con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al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of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p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church and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Ordinance of 17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west Ordinance of 17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y’s Rebe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 Won…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w What??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EW: Second Continental Congress in 1775 urges the colonies to organize new govern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replace the colonial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952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5168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Need For a Strong Central Gover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4038840" cy="44960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by many for a stronger central government than the state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hat since the states had fought and won a war for independence, why should they answer to another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vember 15, 1777 (during the revolu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reated a confederation or league of free and independent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ted States of Amer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a Congress w/ two to seven delegates from each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e had only one vo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Cover of the Articles of Confederation"/>
          <p:cNvPicPr/>
          <p:nvPr/>
        </p:nvPicPr>
        <p:blipFill>
          <a:blip r:embed="rId1"/>
          <a:stretch/>
        </p:blipFill>
        <p:spPr>
          <a:xfrm>
            <a:off x="5548320" y="1943280"/>
            <a:ext cx="22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tifi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13 state had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atify (accep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ro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 last to ratif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1- All states surrendered their clai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of Confederation ra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Early Drawing of the Courthouse"/>
          <p:cNvPicPr/>
          <p:nvPr/>
        </p:nvPicPr>
        <p:blipFill>
          <a:blip r:embed="rId1"/>
          <a:stretch/>
        </p:blipFill>
        <p:spPr>
          <a:xfrm>
            <a:off x="938160" y="1990800"/>
            <a:ext cx="3076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nd Ordinance of 1785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342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0T16:51:42Z</dcterms:created>
  <dc:creator>George Maruska</dc:creator>
  <dc:description/>
  <dc:language>en-US</dc:language>
  <cp:lastModifiedBy>default</cp:lastModifiedBy>
  <dcterms:modified xsi:type="dcterms:W3CDTF">2008-11-02T23:26:10Z</dcterms:modified>
  <cp:revision>19</cp:revision>
  <dc:subject/>
  <dc:title>Land Ordinance of 1785</dc:title>
</cp:coreProperties>
</file>