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opardy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C7A-D826-4374-87AE-DE09AADA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9CC-3370-4926-95DF-FC913BB4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63D-21E3-4990-A15E-74E1B8FF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816-CAA7-4352-AE67-0B8EDD95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4A4-8909-420E-BCF6-D64F39E5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1764-5B71-470A-AF65-423BF4EC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0D9-A95B-4574-8E17-10EEC68B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11C-8267-4639-94FB-18C2A51A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890-C977-4FE4-86C7-4C9EC60C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E0A-5DA4-4C5B-9F4A-5B8CCD28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292-3309-4B44-928B-6330CA20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F14-B92B-4508-ADE2-5FBF9437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5824-FD58-41B1-85A2-BA6D5AFDF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0016000">
            <a:off x="837720" y="236196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ll, what do you know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vigation Acts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9810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urpose of the Stamp Act of 1765 was to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upply  England with needed money after the French and Indian War.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man was given credit for writing the Dec. of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Thomas Jefferso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anonymous essay was really written by Thomas Pa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Common S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4796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Colonist that supported the English were given the name 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Loyalist or T0rr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What are unalienable righ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2240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auses of the Am. 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049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Dec. 0f 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Events of the Rev.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6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Black"/>
              </a:rPr>
              <a:t>Rev.War Batt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1224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Grab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those that no one can take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523880"/>
            <a:ext cx="73152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This man was the oldest member of the Continental Congress, a writer and inven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Ben Frank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shington’s troops winter home where he lost more than 2000 soldiers due to starvation and the bitter co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alley Forg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Frenchmen helped the Americans defeat the British at Yorkt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rquis de Lafayett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5238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famous lady’s real name was Mary Hayes but later was called ____ ____ for replacing her husband at a cannon in batt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lly Pitch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rrupt government officials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hat engaged in selling scarce goods for a profit  was call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economic system existed for the benefit of their mother count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fit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confirmed U. S.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aty of Paris 17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lasted only 15 mins. It is considered the 1st. Battle of the revolu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xingt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shington crossed the Delaware R. on Christmas night for a surprise attack on the Hess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Language &amp; Literature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9880" y="38088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nt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447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is called the turning point of the w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aratoga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American victory led to the surrender of the Britis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rcantilism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572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orkt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752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was given the wrong name, it should have been called Breed’s Hill.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nker Hill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6002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“Crispus Attucks and 4 others were killed at this ev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ston Massacr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was the first tax that affected colonist directly because it was levied on goods and servic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”Stamp 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was our governing body during the Rev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cond Continental Cong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1571760"/>
            <a:ext cx="8305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is was based on the English philosopher John Locke’s concep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famous demonstration by the colonist against England was all about tax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c. of  Independenc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were the supporters of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atri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ston Tea Party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closing of the Boston Harbor by the English is an example of the _____ ___ ordered  by King George 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olerable 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act set down by the  British made all colonial ships use British or colonial  crews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2001-03-09T14:17:01Z</dcterms:modified>
  <cp:revision>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