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opardy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D6B-42AF-4417-A6D8-B2AF6E90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54C-CAE1-49F9-8916-EC2A9956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0C8-19A2-4B9E-99A6-192AD72C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6D9-01F9-4B1F-A330-A1FD238D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46E-4773-4F34-94B2-6EABB0C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08E-007E-4722-A554-6E2F376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C63-B7BD-41CB-A45F-6618927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7F4-C541-4553-88CF-E667F994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978-3C23-4F23-9531-D128EDEE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066-D07D-4B3A-B7BA-82249BB3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285-7728-4DB7-AA2B-D2E7C5DA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20F-2F85-4E17-9262-B72F4EBA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970-8F64-4442-8835-EE6F3AD9A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avigation Act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the Stamp Act of 1765 was to 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pply  England with needed money after the French and Indian War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man was given credit for writing the Dec.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mas Jeffers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nonymous essay was really written by Thomas Pai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mmon Se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Colonist that supported the English were given the name 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Loyalist or T0rr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at are unalienable righ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Black"/>
              </a:rPr>
              <a:t>Causes of the Am. R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049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Dec. 0f 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Events of the Rev.W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v.War Batt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hose that no one can take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3880"/>
            <a:ext cx="7315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his man was the oldest member of the Continental Congress, a writer and inven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Dec. of Ind.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’s troops winter home where he lost more than 2000 soldiers due to starvation and the bitter col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alley Forg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renchmen helped the Americans defeat the British at Yorkt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rquis de Lafayett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famous lady’s real name was Mary Hayes but later was called ____ ____ for replacing her husband at a cannon in batt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lly Pitch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rrupt government officials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at engaged in selling scarce goods for a profit  was call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economic system existed for the benefit of their mother coun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fite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confirmed U. S.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aty of Paris 17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Events of Rev. War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lasted only 15 mins. It is considered the 1st. Battle of the revolu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x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shington crossed the Delaware R. on Christmas night for a surprise attack on the Hess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Language &amp; Literature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9880" y="38088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en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is called the turning point of the w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ratoga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American victory led to the surrender of the Britis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rcantilis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rkt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battle was given the wrong name, it should have been called Breed’s Hill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nker Hill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ttles/ Am. Rev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Crispus Attucks and 4 others were killed at this ev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Massacr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the first tax that affected colonist directly because it was levied on goods and servi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”Stamp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is was our governing body during the Rev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Continental Congr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571760"/>
            <a:ext cx="8305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is was based on the English philosopher John Locke’s concep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famous demonstration by the colonist against England was all about tax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ec. of  Independence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se were the supporters of Indepen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atri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ston Tea Party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losing of the Boston Harbor by the English is an example of the _____ ___ ordered  by King George I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lerable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act set down by the  British made all colonial ships use British or colonial  crew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Causes/ Am. Rev.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Jeopard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2001-03-09T14:17:01Z</dcterms:modified>
  <cp:revision>4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