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opardy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271-51E1-43FF-AF8E-9AD8664F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AC2-EDF7-46B4-863A-B62DE487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B84-A72D-48A4-9986-D13E4636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AA19-77B9-4284-8FBD-BA7489CF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7CA9-C430-4130-967F-5E5A5D89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9EBA-1197-459B-B3B3-A9026986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5823-E16A-438A-9C06-AB52E489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369-B4B6-4D8A-A4BD-FA6B4679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EDA-0247-4FD6-BCDD-C770D9FC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80D-098E-42A3-81D6-F4825930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EC6-B144-4BA7-B37F-AD327F6C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F5F-D134-4053-8EF3-65B90620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7D6F-CDAF-40FD-ABE6-9BF3706A5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20016000">
            <a:off x="837720" y="2361960"/>
            <a:ext cx="7543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ll, what do you know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avigation Acts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9810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urpose of the Stamp Act of 1765 was to 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upply  England with needed money after the French and Indian War.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This man was given credit for writing the Dec. of Indepen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Thomas Jefferso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This anonymous essay was really written by Thomas Pa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Common S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4796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Colonist that supported the English were given the name 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Loyalist or T0rr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What are unalienable righ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2240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Causes of the Am. R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3049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Dec. 0f 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Events of the Rev.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60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 Black"/>
              </a:rPr>
              <a:t>Rev.War Batt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1224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Grab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those that no one can take a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1523880"/>
            <a:ext cx="73152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This man was the oldest member of the Continental Congress, a writer and invent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Ben Frank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ashington’s troops winter home where he lost more than 2000 soldiers due to starvation and the bitter co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alley Forg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Frenchmen helped the Americans defeat the British at Yorkt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80880"/>
            <a:ext cx="838188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rquis de Lafayett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5238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famous lady’s real name was Mary Hayes but later was called ____ ____ for replacing her husband at a cannon in batt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lly Pitch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rrupt government officials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hat engaged in selling scarce goods for a profit  was call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economic system existed for the benefit of their mother count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fit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confirmed U. S. indepen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eaty of Paris 17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battle lasted only 15 mins. It is considered the 1st. Battle of the revolu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xingto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ashington crossed the Delaware R. on Christmas night for a surprise attack on the Hess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Language &amp; Literature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9880" y="38088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ento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4479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battle is called the turning point of the w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aratoga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American victory led to the surrender of the Britis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ercantilism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572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Yorkt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7524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battle was given the wrong name, it should have been called Breed’s Hill.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nker Hill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16002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“Crispus Attucks and 4 others were killed at this ev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oston Massacr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was the first tax that affected colonist directly because it was levied on goods and servic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”Stamp 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was our governing body during the Rev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cond Continental Cong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1571760"/>
            <a:ext cx="83059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his was based on the English philosopher John Locke’s concep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famous demonstration by the colonist against England was all about tax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c. of  Independenc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were the supporters of Indepen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atri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oston Tea Party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closing of the Boston Harbor by the English is an example of the _____ ___ ordered  by King George I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olerable 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act set down by the  British made all colonial ships use British or colonial  crews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6:41:16Z</dcterms:created>
  <dc:creator>lab</dc:creator>
  <dc:description/>
  <dc:language>en-US</dc:language>
  <cp:lastModifiedBy>Department of Technology</cp:lastModifiedBy>
  <dcterms:modified xsi:type="dcterms:W3CDTF">2001-03-09T14:17:01Z</dcterms:modified>
  <cp:revision>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ln\asuettc web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