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788-7CF1-407C-A7D6-9CBADCEF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61F-FA87-4642-9F80-1089EADD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679-C29F-4AB2-8034-CADDD196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9F3-06E2-4B79-8AD7-5362872F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539-1644-4EE1-A599-832BFC0B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180-7584-4C3C-BD1D-0FF9E6D5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06D-804A-47EB-9065-B270609B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539-70A6-4A77-8785-9F4E38AC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8BB-96E4-4CBE-A13C-700DE15A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664-FA6E-49E0-AE63-F470EA43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405-F59E-47D7-89FF-B63C09CE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C49-1A4B-454E-B24A-F24650DB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ACC-3C0D-467E-A66A-0721457E4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837720" y="236196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vigation Acts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the Stamp Act of 1765 was to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pply  England with needed money after the French and Indian War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man was given credit for writing the Dec.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mas Jeffers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anonymous essay was really written by Thomas Pa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Common S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Colonist that supported the English were given the name 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Loyalist or T0rr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What are unalienable righ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auses of the Am. 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049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Dec. 0f 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Events of the Rev.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Rev.War Batt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Grab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se that no one can take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523880"/>
            <a:ext cx="73152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his man was the oldest member of the Continental Congress, a writer and inven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Ben Frank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’s troops winter home where he lost more than 2000 soldiers due to starvation and the bitter co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alley Forg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renchmen helped the Americans defeat the British at Yorkt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rquis de Lafayett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amous lady’s real name was Mary Hayes but later was called ____ ____ for replacing her husband at a cannon in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lly Pitch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upt government officials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at engaged in selling scarce goods for a profit  was ca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economic system existed for the benefit of their mother coun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fit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confirmed U. S.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aty of Paris 17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lasted only 15 mins. It is considered the 1st. Battle of the revolu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xing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 crossed the Delaware R. on Christmas night for a surprise attack on the Hess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Language &amp; Literature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9880" y="38088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n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447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is called the turning point of the w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ratoga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American victory led to the surrender of the Britis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rcantilism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orkt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752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was given the wrong name, it should have been called Breed’s Hill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nker Hill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6002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“Crispus Attucks and 4 others were killed at this ev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Massacr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the first tax that affected colonist directly because it was levied on goods and servi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”Stamp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our governing body during the Re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ond Continental Cong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571760"/>
            <a:ext cx="8305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is was based on the English philosopher John Locke’s concep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famous demonstration by the colonist against England was all about tax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c. of  Independenc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were the supporters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tri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Tea Party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closing of the Boston Harbor by the English is an example of the _____ ___ ordered  by King George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olerable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act set down by the  British made all colonial ships use British or colonial  crews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2001-03-09T14:17:01Z</dcterms:modified>
  <cp:revision>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