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52.gif" ContentType="image/gif"/>
  <Override PartName="/ppt/media/image32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BB8-0CD8-4952-AD27-6CC6F81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B51-7E37-4BEA-B27E-1A167780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6A4-1E08-4200-A704-49341D85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A97-AACB-4385-AC07-0EC3EED1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01E-F4B4-49F9-A7DA-1B648D6A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2F4B-C87A-4F9C-9C67-E41B897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207E-E3ED-4AAF-AE42-E2F69D7C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1445-B31E-4A05-A719-3B6AECCA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A5E3-93CA-4651-95D9-C011CEEB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553C-9BAE-48EB-B014-D0C9419D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AFD-E51A-4A90-844A-9600D0E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625-B236-4FB3-809F-030DDDE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34AE-70E2-4BE1-A13E-9AA5F0FA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6D9B-42C6-43B1-9A49-1639B4C6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136-C004-4097-BB28-8914CAD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F2F2-0B48-4E62-99C0-BFE20131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6314-FE44-4B5A-8641-06F387CA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021-54AD-49FF-BCA6-2A14362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F1A-1319-4C13-A322-843B43AB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146-2CA6-4EA4-9DCE-9A31AE06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808-1429-4166-B162-CBA6B7C0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E3C-22FF-4545-A594-82A3CD0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76B-9CFD-4152-A877-FBA16C3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873-A319-4EB0-B443-536EEF9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4356-8667-4E67-9B0D-135A0E67D7F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FB2-E0EF-4148-977B-AE45D4052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C6B-91FF-46BF-BF6F-A6A5EE687F4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C04F-ABE2-4A27-8FA4-6E85B15EC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rrpain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rr/hispanic/1898/img/emilio.jp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5.html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9.html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39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30440" y="380880"/>
            <a:ext cx="58100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American Expansion Overs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898-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and Puerto Rico last remnants of the old Spanish Em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ing for starvation w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 million/year sugar trade with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duty placed on all raw sugar hurts trade and forces plantations to c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 revolution over Spanish misrule and economic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ists burn cities and pla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rmy places citizens in concentration camps, or kills those that ref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. Valeriano Weyler kills over 200,000 Cub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a reduced to utter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’s dead from murder or disea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Cuban Revolutionaries in 1898"/>
          <p:cNvPicPr/>
          <p:nvPr/>
        </p:nvPicPr>
        <p:blipFill>
          <a:blip r:embed="rId2"/>
          <a:stretch/>
        </p:blipFill>
        <p:spPr>
          <a:xfrm>
            <a:off x="4724280" y="1523880"/>
            <a:ext cx="3535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223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22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over treatment of Cubans by the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’ Marti- Cuban revolutionist writes brilliant essays trying to get America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newspapers show sympa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 Randolph Hea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eph Pullit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yellow journalism to gain support fo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dem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$50 million of investments were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467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only 90 miles from American s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$ million in business investments in sugar, rice, tobacco, and railroads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100 million/year trade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Portrait of Jose Marti"/>
          <p:cNvPicPr/>
          <p:nvPr/>
        </p:nvPicPr>
        <p:blipFill>
          <a:blip r:embed="rId2"/>
          <a:stretch/>
        </p:blipFill>
        <p:spPr>
          <a:xfrm>
            <a:off x="5334120" y="4267080"/>
            <a:ext cx="17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ugurated on March 4, 18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opposes going to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that war would put the country back into a de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all McKinley “weak and a bidder for the admiration of the crowd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Maine Arrives at Havana"/>
          <p:cNvPicPr/>
          <p:nvPr/>
        </p:nvPicPr>
        <p:blipFill>
          <a:blip r:embed="rId2"/>
          <a:stretch/>
        </p:blipFill>
        <p:spPr>
          <a:xfrm>
            <a:off x="609480" y="1600200"/>
            <a:ext cx="3505320" cy="26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attleship sent to Havana Harbor to protect American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des while still at anchor- 250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blames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comes a pro-war slo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Kinley refuses to go to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23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timat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by McKinley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cease all fighting w/ the revolution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n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 the concentration ca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agrees to all, but #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78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1, 1898- McKinley asks Congress for permission to intervene in Cu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nding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er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rpose of the war was to only bring peace to the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Cuban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3421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16080" cy="373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dore George Dewey sent to Spanish-controlled Philippine Is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30, 1898- Secretly sneaks into Manila Harbor and opens fire on the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noon the Spanish give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lose 170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loses 1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Caribb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fleet destroyed in Santiago Harbor by American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lasts 4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9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467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volunteers led by Theodore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24, 1898- charges San Juan H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- Spanish attempt to flee C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army invades Puerto Rico w/ no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7- Spanish surr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lendid little wa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odore Rooseve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752480"/>
            <a:ext cx="4724280" cy="317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114800" y="1752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8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USH14 The student will explain America’s evolving relationship with the world at the turn of the twentie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Describe the Spanish-American War, the war in the Philippines, and the debate over American expansion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xplain U.S. involvement in Latin America, as reflected by the Roosevelt Corollary to the Monroe Doctrine and the creation of the Panama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U.S. troops burying the dead"/>
          <p:cNvPicPr/>
          <p:nvPr/>
        </p:nvPicPr>
        <p:blipFill>
          <a:blip r:embed="rId2"/>
          <a:stretch/>
        </p:blipFill>
        <p:spPr>
          <a:xfrm>
            <a:off x="1219320" y="2590920"/>
            <a:ext cx="7543800" cy="3703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Casu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67160" cy="4038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6 Americans killed in b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 killed from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ace Treaty of 189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gets freedom from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is given Puerto Rico, and Gu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would pay $20 million for the Phillip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acquires an empire over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ists deligh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 do with the Philipp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Sp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we just took them from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ver to Great Britain or F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bad for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dependenc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not smart enoug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– Take control, educate and Christianize the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1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77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0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2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77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quest of the Philipp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lio Aguin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s Filipino rebels against 70,000 US tro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ed in 19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pine Government Act of 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an appointed governor, elected assembly, and an appointed upp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Howard Taft appointed to be the first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16- allowed to elect both houses of legislature, and promised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Emilio Aguinal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523880"/>
            <a:ext cx="281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5- American sugar cane and pineapple companies begin t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- Treaty signed allowing Hawaii to sell all its sugar to U.S. in return of not dealing with any other foreign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7- Pearl Harbor leased to U.S. as a naval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392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s intentions of limiting all foreign influence in Hawa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ugar businessmen start a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 call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1893- Hawaii annexed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8- made a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Queen Liliuokalani"/>
          <p:cNvPicPr/>
          <p:nvPr/>
        </p:nvPicPr>
        <p:blipFill>
          <a:blip r:embed="rId2"/>
          <a:stretch/>
        </p:blipFill>
        <p:spPr>
          <a:xfrm>
            <a:off x="1295280" y="1981080"/>
            <a:ext cx="288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standing trade relationship of furs for porcelain and si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become disturbed with foreign influence from America and Grea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o-Japanese War of 1894-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nations try to divide mainland Ch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ncerns of losing Chinese trade re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4114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Door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8 China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John Hay pro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all treaty port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ations trading with China would be on equal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oxer Rebell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Boxers”- Chinese secret society determined to remove all foreigners from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0- 300 foreigners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- rebellion is crushed by foreign pow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 repays foreign nations for losses in the rebe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returns its share to the Chinese government and allows Chinese students to come to America and stu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36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6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29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nation- foreigners forbidden to enter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by President Fillmore to negotiate a trad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es w/ 4 steam-powered ships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S 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 so impressed they open 2 ports to American t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trigue with industrialization ends its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n imperial nation and takes colonies for raw materi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4-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- invades Rus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Matthew Perry"/>
          <p:cNvPicPr/>
          <p:nvPr/>
        </p:nvPicPr>
        <p:blipFill>
          <a:blip r:embed="rId2"/>
          <a:stretch/>
        </p:blipFill>
        <p:spPr>
          <a:xfrm>
            <a:off x="5029200" y="14479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hanging political, economic, and technological climate of the latter 1800’s influence the expansion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's relationship with the World change in the latter 1800’s and early 1900’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 become a world power and lea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haracteristics of American Imperi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0880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merican Expansion in the Caribbean and Latin Amer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ular C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whether American colonies had protected rights under the Constit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d possessions (Alaska and Hawaii) were destined for statehood, and had constitutional r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possessions (Puerto Rico and Philippines) were not destined for statehood and did not have constitutional protections, but could not be deprived of life, liberty, or property w/out due process of la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47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0574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aker Act of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a new government in Puerto 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and executive council appointed by the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ed low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Made a territory and made Puerto Ricans American citiz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ortifying Puerto Rico"/>
          <p:cNvPicPr/>
          <p:nvPr/>
        </p:nvPicPr>
        <p:blipFill>
          <a:blip r:embed="rId2"/>
          <a:stretch/>
        </p:blipFill>
        <p:spPr>
          <a:xfrm>
            <a:off x="609480" y="190512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Indepen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29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1 Platt Amend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ever enter into any foreign relationships that might endanger its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ot incur debts it cannot re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has full authority to intervene when Cuban independence is threat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government must provide naval bases for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becomes a protectorate of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9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Image, Source: intermediary roll film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391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Image, Source: intermediary roll film"/>
          <p:cNvPicPr/>
          <p:nvPr/>
        </p:nvPicPr>
        <p:blipFill>
          <a:blip r:embed="rId3"/>
          <a:stretch/>
        </p:blipFill>
        <p:spPr>
          <a:xfrm>
            <a:off x="380880" y="15228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anama Ca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ed for a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vessels had to make a 6 week voyage around S. America to get from the west coast to the east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’s French tried to build a canal on the Isthmus of Panama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Plan of Panama Canal"/>
          <p:cNvPicPr/>
          <p:nvPr/>
        </p:nvPicPr>
        <p:blipFill>
          <a:blip r:embed="rId2"/>
          <a:stretch/>
        </p:blipFill>
        <p:spPr>
          <a:xfrm>
            <a:off x="5029200" y="1295280"/>
            <a:ext cx="336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umbian Negot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1040" y="12193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thmus of Panama a province of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tary of State John Hay negotiates a trea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9 year lease on a 6 mile strip of land across Panama for $10 million and $250,000/year 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 agrees, but refuses to ratify– wants more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 Theodore Roosevelt is fur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ama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0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revolutionaries ask for U.S. aid in revolting against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s sent in to “protect American intere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sends troops, but Americans force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, 1903- 3 days later, new government established in Pa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weeks later U.S. given rights to build the ca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ama is paid $10 million for a 10 mile strip of 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ly rental of $250,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ship_canal.jpg (17737 bytes)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the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Army Corp of Engineers begin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 and malaria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Walter Reed discovers that it was transmitted by mosquit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drained to destroy the breeding gr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4- “Big Ditch”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00 million pro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million cubic yards of earth rem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18000" cy="449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18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8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4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American Foreign Poli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ama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S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-American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osevelt Coro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 Diplo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23- President James Monroe issues to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attempt to further colonize the Ame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interfere with independent nations in the Western Hemi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ould never enforce due to small n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55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invades Mexico to force repayment of war deb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 Austrian prince, Maximilian as the new Emperor of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ays violation of Monroe Doct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ble to enforce because of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III faced with wars in Europe pulls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lian executed by Mexican nationali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4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9068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 dispute between Venezuela and British Gu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intervenes- Great Britain claims Monroe Doctrine not a part of international l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war a possibility, Britain settles the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Juan Vicente Gómez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zuela cannot repay debts to Britain, Italy, and Ger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lockade the Venezuelan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Theodore Roosevelt demand violation of Monroe Doct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sett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31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sevelt Corol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ican Republic owes European nations money– they threaten to interv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announces that the U.S. had the right to interfere in Latin American disputes on behalf of the European 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becomes “international policeman” of the West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 softly and carry a big stick.”–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447920"/>
            <a:ext cx="387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6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llar Diplomac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068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States “influence” in Latin America by William Howard T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bankers lend money to Latin American gov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ebtors failed to repay the debts, U.S. govt. intervened to “protect” American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meant the landing of the Mar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2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ubles with 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’s still angry over the 1848 war wi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ir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utes over Rio Grande, cattle rustling, and Indi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13, Americans had invested $1 billion in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90680" y="14475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0- Long-time President Diaz is overthrown by Victoriano Hu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oses a powerful 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vestors “disturbed” by the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Victoriano Huerta"/>
          <p:cNvPicPr/>
          <p:nvPr/>
        </p:nvPicPr>
        <p:blipFill>
          <a:blip r:embed="rId2"/>
          <a:stretch/>
        </p:blipFill>
        <p:spPr>
          <a:xfrm>
            <a:off x="1143000" y="1523880"/>
            <a:ext cx="3467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ful Waiting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29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Woodrow Wilson announces “watchful waiting” poli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ief that revolutionary government would be gotten rid of by Mexica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rta attempts to seize American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1914- Germany attempts to send arms to the new Mexican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marines to invade Mex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C Med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924360" cy="49528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ent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mediation between U.S. and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rta asked to retire– he do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rival, Carr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ally to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228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8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9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6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3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9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229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’s policy of establishing colonies and building empires for economic gain, prestige, and missionary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-1600’s- Great Britain, France, Spain, Portugal, Du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’s- Germany, Italy, Belgium, Japan join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remains iso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0680" y="205740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Revolution demanded new raw materials and increased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nstruments of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gun and repeating rif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de in the creation of an emp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isco “Pancho” Vi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s with Carranza over alliance wi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kills 18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es border into New Mexico and kills 17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troops to capture Villa “dead or al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John Pershing leads 5,000 troops into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s due to Mexican rese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captures 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762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rican Emp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18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431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had been a colony, and its sympathies were with the other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developed American West of the 1800’s was like a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real “need” for raw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less trade opportunities to Europe and its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ward’s Fo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Seward- Secretary of State under Lincoln and John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 capped mountains w/ an arctic clim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zar Alexander II wants to sell- needs money for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ward and Russian ambassador agree to the purchase of Alaska for $7.2 mi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.02/ac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years later– “black gold” f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95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 1890’s- America not interested in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fluence of Sea Power up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how that to be a great nation, a great navy is ne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es needed as naval bases for refueling, raw materials, and mar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- Great White Fleet is commissioned by Cong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22880" y="2057400"/>
            <a:ext cx="3003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49579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Spanish-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39:53Z</dcterms:created>
  <dc:creator>George Maruska</dc:creator>
  <dc:description/>
  <dc:language>en-US</dc:language>
  <cp:lastModifiedBy>ldesaulniers</cp:lastModifiedBy>
  <dcterms:modified xsi:type="dcterms:W3CDTF">2009-02-23T20:36:51Z</dcterms:modified>
  <cp:revision>26</cp:revision>
  <dc:subject/>
  <dc:title>American Expansion Overseas</dc:title>
</cp:coreProperties>
</file>