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25.wmf" ContentType="image/x-wmf"/>
  <Override PartName="/ppt/media/image14.jpeg" ContentType="image/jpeg"/>
  <Override PartName="/ppt/media/image41.jpeg" ContentType="image/jpeg"/>
  <Override PartName="/ppt/media/image54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52.gif" ContentType="image/gif"/>
  <Override PartName="/ppt/media/image32.wmf" ContentType="image/x-wmf"/>
  <Override PartName="/ppt/media/image46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0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63CC-9CF5-4237-B46B-DCB1B403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6BE-8905-436C-A8E2-7933483D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892F-9C17-4605-93A6-85C3DB8A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420-546B-43DF-91F3-4B32B608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0935-D3B4-4B0D-B817-BFEBE8F2F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B34D-1246-4F16-98F6-2F39B5B5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BC41-3373-4A83-AACF-043629BE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D073-01BD-4188-9A4D-FE974345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23F2-2F2E-4E5D-A230-CE66099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379F-7BC3-4928-8CDF-B74F4A8B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C785-9861-4BF6-9FE2-F4D7415F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F28-425A-4C0F-8250-A6151CD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765A-E194-4B2B-B212-F52B86A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7B5F-CE6D-4053-A015-800AE0E5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C554-F6F1-4E83-9C69-C98B8A49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D6E8-C3F1-41D7-A2F7-4B257411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6740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3560" y="205740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76740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3560" y="416664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CFD8-E812-48D1-BCDD-EA50B168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37D-223A-4A4D-9BF0-9F2AC284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B4B-EB57-4886-BE73-978D7F11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2B7-EF9E-47B5-B460-D3EF096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228240"/>
            <a:ext cx="7086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339-88B2-48FF-993A-7A05919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9A0-F1DC-44DB-8AB4-32B7DFDA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2560" y="416664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C540-0DD5-4787-9BAC-F99F30DF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2560" y="205740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6664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79B-A0A2-4E83-AD44-E0B7A600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560" y="6248520"/>
            <a:ext cx="173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6FE5-1B73-4E4A-BD3E-157D8E78403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9680" y="6248520"/>
            <a:ext cx="264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21560" y="6248520"/>
            <a:ext cx="1736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278-1B78-46BC-997D-5035C925C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228680" y="1701720"/>
            <a:ext cx="107640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DC7C-C84A-4629-BFD5-19C41E7E4BA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9C4F-9812-454A-A69A-12E06DDE4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rrpain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oc.gov/rr/hispanic/1898/img/emilio.jpg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5.html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19.html" TargetMode="External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heodore-roosevelt.com/trr39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630440" y="380880"/>
            <a:ext cx="5810040" cy="6019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Arial"/>
              </a:rPr>
              <a:t>American Expansion Overs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1898-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and Puerto Rico last remnants of the old Spanish Emp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working for starvation w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0 million/year sugar trade with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% duty placed on all raw sugar hurts trade and forces plantations to clo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67080" y="2209680"/>
            <a:ext cx="4648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4267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 revolution over Spanish misrule and economic cri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utionists burn cities and plan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rmy places citizens in concentration camps, or kills those that ref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. Valeriano Weyler kills over 200,000 Cub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ba reduced to utter ru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0’s dead from murder or disea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Cuban Revolutionaries in 1898"/>
          <p:cNvPicPr/>
          <p:nvPr/>
        </p:nvPicPr>
        <p:blipFill>
          <a:blip r:embed="rId2"/>
          <a:stretch/>
        </p:blipFill>
        <p:spPr>
          <a:xfrm>
            <a:off x="4724280" y="1523880"/>
            <a:ext cx="3535560" cy="4876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81680" y="1143000"/>
            <a:ext cx="2235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229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over treatment of Cubans by the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se’ Marti- Cuban revolutionist writes brilliant essays trying to get America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newspapers show sympat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 Randolph Hea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seph Pullit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yellow journalism to gain support fo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Business demand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 $50 million of investments were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294920"/>
            <a:ext cx="3467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only 90 miles from American so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$ million in business investments in sugar, rice, tobacco, and railroads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$100 million/year trade was at stak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Portrait of Jose Marti"/>
          <p:cNvPicPr/>
          <p:nvPr/>
        </p:nvPicPr>
        <p:blipFill>
          <a:blip r:embed="rId2"/>
          <a:stretch/>
        </p:blipFill>
        <p:spPr>
          <a:xfrm>
            <a:off x="5334120" y="4267080"/>
            <a:ext cx="1731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6" dur="2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2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ugurated on March 4, 18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opposes going to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r that war would put the country back into a depres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all McKinley “weak and a bidder for the admiration of the crowd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181480" y="1523880"/>
            <a:ext cx="341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Maine Arrives at Havana"/>
          <p:cNvPicPr/>
          <p:nvPr/>
        </p:nvPicPr>
        <p:blipFill>
          <a:blip r:embed="rId2"/>
          <a:stretch/>
        </p:blipFill>
        <p:spPr>
          <a:xfrm>
            <a:off x="609480" y="1600200"/>
            <a:ext cx="3505320" cy="2610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el battleship sent to Havana Harbor to protect American inter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des while still at anchor- 250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blames Sp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becomes a pro-war slog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Kinley refuses to go to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981080" y="3657600"/>
            <a:ext cx="23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3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3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3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3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3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ltimat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4229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by McKinley to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cease all fighting w/ the revolutiona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n independ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lish the concentration cam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 agrees to all, but #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78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1, 1898- McKinley asks Congress for permission to intervene in Cub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nding appro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er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urpose of the war was to only bring peace to the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aranteed Cuban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1371600"/>
            <a:ext cx="3421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2895480"/>
            <a:ext cx="3016080" cy="3733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05520" y="10666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dore George Dewey sent to Spanish-controlled Philippine Is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il 30, 1898- Secretly sneaks into Manila Harbor and opens fire on the 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noon the Spanish give 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lose 170 m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ican loses 1 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tstrok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227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in the Caribb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fleet destroyed in Santiago Harbor by American vess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le lasts 4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467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volunteers led by Theodore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ne 24, 1898- charges San Juan Hi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- Spanish attempt to flee Cu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 army invades Puerto Rico w/ no resi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17- Spanish surre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plendid little war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odore Roosevel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1752480"/>
            <a:ext cx="4724280" cy="3173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114800" y="17524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8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8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8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6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1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 Stand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USH14 The student will explain America’s evolving relationship with the world at the turn of the twentieth centu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Describe the Spanish-American War, the war in the Philippines, and the debate over American expansionis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Explain U.S. involvement in Latin America, as reflected by the Roosevelt Corollary to the Monroe Doctrine and the creation of the Panama Ca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U.S. troops burying the dead"/>
          <p:cNvPicPr/>
          <p:nvPr/>
        </p:nvPicPr>
        <p:blipFill>
          <a:blip r:embed="rId2"/>
          <a:stretch/>
        </p:blipFill>
        <p:spPr>
          <a:xfrm>
            <a:off x="1219320" y="2590920"/>
            <a:ext cx="7543800" cy="3703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Casual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467160" cy="4038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86 Americans killed in batt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00 killed from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ace Treaty of 189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20574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ba gets freedom from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is given Puerto Rico, and Gu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States would pay $20 million for the Phillipp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acquires an empire overn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ists delight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3" dur="8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 do with the Philipp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 to Spa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we just took them from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rn over to Great Britain or Fr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bad for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 independenc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, not smart enough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– Take control, educate and Christianize the peop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105520" y="1752480"/>
            <a:ext cx="3787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77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3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5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7" dur="77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77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5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9" dur="77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quest of the Philipp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ilio Aguinal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ds Filipino rebels against 70,000 US tro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tured in 19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ilippine Government Act of 19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an appointed governor, elected assembly, and an appointed upp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Howard Taft appointed to be the first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16- allowed to elect both houses of legislature, and promised independ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Emilio Aguinald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1523880"/>
            <a:ext cx="2817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5- American sugar cane and pineapple companies begin tr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- Treaty signed allowing Hawaii to sell all its sugar to U.S. in return of not dealing with any other foreign 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7- Pearl Harbor leased to U.S. as a naval b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7339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3924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s intentions of limiting all foreign influence in Hawa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sugar businessmen start a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 called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1893- Hawaii annexed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8- made a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Queen Liliuokalani"/>
          <p:cNvPicPr/>
          <p:nvPr/>
        </p:nvPicPr>
        <p:blipFill>
          <a:blip r:embed="rId2"/>
          <a:stretch/>
        </p:blipFill>
        <p:spPr>
          <a:xfrm>
            <a:off x="1295280" y="1981080"/>
            <a:ext cx="2889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lations with Chi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 standing trade relationship of furs for porcelain and si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nese become disturbed with foreign influence from America and Great Bri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o-Japanese War of 1894-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nations try to divide mainland Ch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rican concerns of losing Chinese trade rel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4114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Door Poli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2520" y="1752120"/>
            <a:ext cx="4000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8 China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retary of State John Hay propo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 all treaty ports op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ations trading with China would be on equal g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405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oxer Rebell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Boxers”- Chinese secret society determined to remove all foreigners from Ch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00- 300 foreigners ki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gust- rebellion is crushed by foreign pow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na repays foreign nations for losses in the rebe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returns its share to the Chinese government and allows Chinese students to come to America and stu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029200" y="1371600"/>
            <a:ext cx="3360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0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5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0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292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ed nation- foreigners forbidden to enter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by President Fillmore to negotiate a trade trea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rives w/ 4 steam-powered ships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S Ful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panese so impressed they open 2 ports to American tra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ese intrigue with industrialization ends its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comes an imperial nation and takes colonies for raw materi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94- invades Ch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0- invades Rus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Matthew Perry"/>
          <p:cNvPicPr/>
          <p:nvPr/>
        </p:nvPicPr>
        <p:blipFill>
          <a:blip r:embed="rId2"/>
          <a:stretch/>
        </p:blipFill>
        <p:spPr>
          <a:xfrm>
            <a:off x="5029200" y="1447920"/>
            <a:ext cx="37400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4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4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5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10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sential Question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29492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the changing political, economic, and technological climate of the latter 1800’s influence the expansion of Ame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's relationship with the World change in the latter 1800’s and early 1900’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id America become a world power and lea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haracteristics of American Imperialis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608800" cy="6248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merican Expansion in the Caribbean and Latin Americ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Insular C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whether American colonies had protected rights under the Constituti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ed possessions (Alaska and Hawaii) were destined for statehood, and had constitutional righ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ncorporated possessions (Puerto Rico and Philippines) were not destined for statehood and did not have constitutional protections, but could not be deprived of life, liberty, or property w/out due process of law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478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1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4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4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1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4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4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90680" y="2057400"/>
            <a:ext cx="346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aker Act of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a new government in Puerto R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and executive council appointed by the Presid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ed lower ho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Made a territory and made Puerto Ricans American citize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Fortifying Puerto Rico"/>
          <p:cNvPicPr/>
          <p:nvPr/>
        </p:nvPicPr>
        <p:blipFill>
          <a:blip r:embed="rId2"/>
          <a:stretch/>
        </p:blipFill>
        <p:spPr>
          <a:xfrm>
            <a:off x="609480" y="1905120"/>
            <a:ext cx="42674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8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8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an Independ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4229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01 Platt Amend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ever enter into any foreign relationships that might endanger its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ban government must not incur debts it cannot rep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States has full authority to intervene when Cuban independence is threat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n government must provide naval bases for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ba becomes a protectorate of the Unite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9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9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9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9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9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9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Image, Source: intermediary roll film"/>
          <p:cNvPicPr/>
          <p:nvPr/>
        </p:nvPicPr>
        <p:blipFill>
          <a:blip r:embed="rId2"/>
          <a:stretch/>
        </p:blipFill>
        <p:spPr>
          <a:xfrm>
            <a:off x="4114800" y="2743200"/>
            <a:ext cx="4876920" cy="3916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Image, Source: intermediary roll film"/>
          <p:cNvPicPr/>
          <p:nvPr/>
        </p:nvPicPr>
        <p:blipFill>
          <a:blip r:embed="rId3"/>
          <a:stretch/>
        </p:blipFill>
        <p:spPr>
          <a:xfrm>
            <a:off x="380880" y="152280"/>
            <a:ext cx="5000760" cy="4000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Panama Can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ed for a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vessels had to make a 6 week voyage around S. America to get from the west coast to the east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’s French tried to build a canal on the Isthmus of Panama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Plan of Panama Canal"/>
          <p:cNvPicPr/>
          <p:nvPr/>
        </p:nvPicPr>
        <p:blipFill>
          <a:blip r:embed="rId2"/>
          <a:stretch/>
        </p:blipFill>
        <p:spPr>
          <a:xfrm>
            <a:off x="5029200" y="1295280"/>
            <a:ext cx="336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umbian Negoti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91040" y="1219320"/>
            <a:ext cx="41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thmus of Panama a province of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tary of State John Hay negotiates a trea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9 year lease on a 6 mile strip of land across Panama for $10 million and $250,000/year r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 agrees, but refuses to ratify– wants more mon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ident Theodore Roosevelt is fur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1371600"/>
            <a:ext cx="404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1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nama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0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revolutionaries ask for U.S. aid in revolting against Columb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ines sent in to “protect American interes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umbia sends troops, but Americans force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mber, 1903- 3 days later, new government established in Pana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weeks later U.S. given rights to build the ca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ama is paid $10 million for a 10 mile strip of la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ly rental of $250,0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ship_canal.jpg (17737 bytes)"/>
          <p:cNvPicPr/>
          <p:nvPr/>
        </p:nvPicPr>
        <p:blipFill>
          <a:blip r:embed="rId2"/>
          <a:stretch/>
        </p:blipFill>
        <p:spPr>
          <a:xfrm>
            <a:off x="4952880" y="1981080"/>
            <a:ext cx="396252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the Can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Army Corp of Engineers begin buil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 and malaria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. Walter Reed discovers that it was transmitted by mosquito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wamps drained to destroy the breeding gr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4- “Big Ditch” is comp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400 million pro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million cubic yards of earth remo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618000" cy="4496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218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2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7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8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8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8001000" cy="541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ff"/>
                </a:solidFill>
                <a:latin typeface="Arial"/>
              </a:rPr>
              <a:t>American Foreign Polic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nama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eria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am Se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gh R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en Liliuokal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llow j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2520" y="1447560"/>
            <a:ext cx="3467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-American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oosevelt Coro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dore Mathew Per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 Diplo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 Sti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90680" y="1143000"/>
            <a:ext cx="3924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23- President James Monroe issues to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attempt to further colonize the Ame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 may not interfere with independent nations in the Western Hemisp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could never enforce due to small nav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955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0" dur="indefinite" restart="never" nodeType="tmRoot">
          <p:childTnLst>
            <p:seq>
              <p:cTn id="1451" dur="indefinite" nodeType="mainSeq">
                <p:childTnLst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1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305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ce invades Mexico to force repayment of war deb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 Austrian prince, Maximilian as the new Emperor of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says violation of Monroe Doct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able to enforce because of Civil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poleon III faced with wars in Europe pulls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ilian executed by Mexican nationalis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48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90680" y="12949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der dispute between Venezuela and British Gu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intervenes- Great Britain claims Monroe Doctrine not a part of international l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war a possibility, Britain settles the disp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Juan Vicente Gómez"/>
          <p:cNvPicPr/>
          <p:nvPr/>
        </p:nvPicPr>
        <p:blipFill>
          <a:blip r:embed="rId2"/>
          <a:stretch/>
        </p:blipFill>
        <p:spPr>
          <a:xfrm>
            <a:off x="914400" y="1752480"/>
            <a:ext cx="40384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4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5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2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2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roe Doctrine Test #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430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zuela cannot repay debts to Britain, Italy, and Ger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blockade the Venezuelan co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Theodore Roosevelt demand violation of Monroe Doctr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is sett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310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8" dur="indefinite" restart="never" nodeType="tmRoot">
          <p:childTnLst>
            <p:seq>
              <p:cTn id="1539" dur="indefinite" nodeType="mainSeq">
                <p:childTnLst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4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4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osevelt Corol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ican Republic owes European nations money– they threaten to interve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sevelt announces that the U.S. had the right to interfere in Latin American disputes on behalf of the European n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ed States becomes “international policeman” of the Western Hemi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 softly and carry a big stick.”– Rooseve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1447920"/>
            <a:ext cx="387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1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76" dur="2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1" dur="2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86" dur="2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llar Diplomacy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9068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ed States “influence” in Latin America by William Howard Ta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can bankers lend money to Latin American gov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ebtors failed to repay the debts, U.S. govt. intervened to “protect” American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ually meant the landing of the Mar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3324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5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oubles with Mexic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41529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xican’s still angry over the 1848 war wi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t 1/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ir 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utes over Rio Grande, cattle rustling, and Indi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913, Americans had invested $1 billion in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7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xican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90680" y="1447560"/>
            <a:ext cx="3924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10- Long-time President Diaz is overthrown by Victoriano Hu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loses a powerful 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investors “disturbed” by the ev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Victoriano Huerta"/>
          <p:cNvPicPr/>
          <p:nvPr/>
        </p:nvPicPr>
        <p:blipFill>
          <a:blip r:embed="rId2"/>
          <a:stretch/>
        </p:blipFill>
        <p:spPr>
          <a:xfrm>
            <a:off x="1143000" y="1523880"/>
            <a:ext cx="3467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ful Waiting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29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Woodrow Wilson announces “watchful waiting” poli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ief that revolutionary government would be gotten rid of by Mexican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rta attempts to seize American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il, 1914- Germany attempts to send arms to the new Mexican gov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marines to invade Mexic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724280" y="1523880"/>
            <a:ext cx="385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C Medi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2520" y="1676520"/>
            <a:ext cx="3924360" cy="4952880"/>
          </a:xfrm>
          <a:prstGeom prst="rect">
            <a:avLst/>
          </a:prstGeom>
          <a:solidFill>
            <a:srgbClr val="ddf4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ent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mediation between U.S. and Mex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erta asked to retire– he do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by rival, Carranz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s ally to the United St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32288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5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6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7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2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3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8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9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0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1" dur="8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4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5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6" dur="8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w Imperia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229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tion’s policy of establishing colonies and building empires for economic gain, prestige, and missionary purpo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0-1600’s- Great Britain, France, Spain, Portugal, Du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0’s- Germany, Italy, Belgium, Japan join 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remains iso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0680" y="2057400"/>
            <a:ext cx="384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ustrial Revolution demanded new raw materials and increased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instruments of w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chine gun and repeating rif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de in the creation of an emp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isco “Pancho” Vi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3467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s with Carranza over alliance wi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16- kills 18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es border into New Mexico and kills 17 Americ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son orders troops to capture Villa “dead or aliv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John Pershing leads 5,000 troops into Mex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draws due to Mexican rese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ver captures Vill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498760" cy="2895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248520" y="3809880"/>
            <a:ext cx="2762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rican Empi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8001000" cy="5187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1295280"/>
            <a:ext cx="4311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500"/>
                            </p:stCondLst>
                            <p:childTnLst>
                              <p:par>
                                <p:cTn id="18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merican Iso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5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had been a colony, and its sympathies were with the other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ndeveloped American West of the 1800’s was like a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 real “need” for raw materi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less trade opportunities to Europe and its colo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41148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6,-106,-10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ward’s Fol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iam Seward- Secretary of State under Lincoln and John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 capped mountains w/ an arctic clim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zar Alexander II wants to sell- needs money for w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ward and Russian ambassador agree to the purchase of Alaska for $7.2 mill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.02/ac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d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years later– “black gold” f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95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tain Alfred Mah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4076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 1890’s- America not interested in expa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nfluence of Sea Power upon Hi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mpts to show that to be a great nation, a great navy is nee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es needed as naval bases for refueling, raw materials, and mar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95- Great White Fleet is commissioned by Congr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22880" y="2057400"/>
            <a:ext cx="3003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380880"/>
            <a:ext cx="495792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The Spanish-American W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39:53Z</dcterms:created>
  <dc:creator>George Maruska</dc:creator>
  <dc:description/>
  <dc:language>en-US</dc:language>
  <cp:lastModifiedBy>ldesaulniers</cp:lastModifiedBy>
  <dcterms:modified xsi:type="dcterms:W3CDTF">2009-02-23T20:36:51Z</dcterms:modified>
  <cp:revision>26</cp:revision>
  <dc:subject/>
  <dc:title>American Expansion Overseas</dc:title>
</cp:coreProperties>
</file>