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png" ContentType="image/png"/>
  <Override PartName="/ppt/media/image11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8.jpeg" ContentType="image/jpeg"/>
  <Override PartName="/ppt/media/image51.jpeg" ContentType="image/jpeg"/>
  <Override PartName="/ppt/media/image18.png" ContentType="image/png"/>
  <Override PartName="/ppt/media/image6.jpeg" ContentType="image/jpeg"/>
  <Override PartName="/ppt/media/image17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25.wmf" ContentType="image/x-wmf"/>
  <Override PartName="/ppt/media/image14.jpeg" ContentType="image/jpeg"/>
  <Override PartName="/ppt/media/image41.jpeg" ContentType="image/jpeg"/>
  <Override PartName="/ppt/media/image54.png" ContentType="image/png"/>
  <Override PartName="/ppt/media/image2.jpeg" ContentType="image/jpeg"/>
  <Override PartName="/ppt/media/image36.jpeg" ContentType="image/jpeg"/>
  <Override PartName="/ppt/media/image3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2.jpeg" ContentType="image/jpeg"/>
  <Override PartName="/ppt/media/image38.jpeg" ContentType="image/jpeg"/>
  <Override PartName="/ppt/media/image42.jpeg" ContentType="image/jpeg"/>
  <Override PartName="/ppt/media/image43.jpeg" ContentType="image/jpeg"/>
  <Override PartName="/ppt/media/image44.jpeg" ContentType="image/jpeg"/>
  <Override PartName="/ppt/media/image52.gif" ContentType="image/gif"/>
  <Override PartName="/ppt/media/image32.wmf" ContentType="image/x-wmf"/>
  <Override PartName="/ppt/media/image46.jpeg" ContentType="image/jpeg"/>
  <Override PartName="/ppt/media/image47.jpeg" ContentType="image/jpeg"/>
  <Override PartName="/ppt/media/image45.jpeg" ContentType="image/jpeg"/>
  <Override PartName="/ppt/media/image50.jpeg" ContentType="image/jpeg"/>
  <Override PartName="/ppt/media/image12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0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55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4.jpeg" ContentType="image/jpeg"/>
  <Override PartName="/ppt/media/image37.png" ContentType="image/png"/>
  <Override PartName="/ppt/media/image7.png" ContentType="image/png"/>
  <Override PartName="/ppt/media/image35.jpeg" ContentType="image/jpe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1702-ED11-4E26-BEC4-DDC37E6A1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6664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7145-E0E5-4409-BDA2-A2FBA60B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256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6664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2560" y="416664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F89F-9B2B-4A68-B7BF-2A428847C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67400" y="205740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3560" y="205740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6664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67400" y="416664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3560" y="416664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51CE-3FED-4435-BD08-E6E72210A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C4F1-3AF1-4A4F-8194-58753F305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205740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678E-3656-4B21-8FD0-BF8D1133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DCCA0-80CC-454C-9757-A86C6007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02560" y="205740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148D-CE72-45D4-B371-7DDA8687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3EE1E-B73B-423D-9617-8D39BF0F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52120" y="228240"/>
            <a:ext cx="7086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27E1-6578-4806-A3D0-019A391F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02560" y="205740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6664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3EA7-F749-424D-9100-BEAA2014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205740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92DF-D7F1-4C78-9873-EA3B771F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0256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02560" y="416664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563D-9349-443B-9D0A-4AF134CF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0256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6664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9E95-B755-4837-A39E-195A5E65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6664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D1510-F93E-4458-9669-F56A7831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0256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6664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02560" y="416664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19B0-E4E5-4C4C-97BD-387426875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767400" y="205740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63560" y="205740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6664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767400" y="416664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63560" y="416664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BA1A-60D0-43F8-9F9E-6D59AC770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586A-F2D8-43C9-AE58-0DB5E373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2560" y="205740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2F23-C931-447C-92D5-43A65A13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CD02-B4F7-40DC-9170-FF00EADE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52120" y="228240"/>
            <a:ext cx="7086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541E-77C3-4117-9F12-ECB2693D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2560" y="205740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6664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8A7B-B96F-4380-BBD2-DB361B57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256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2560" y="416664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65A3-3C78-4538-B271-8579DFB3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256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6664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093F-190F-4A57-B242-E1C51228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240" y="205740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53560" y="6248520"/>
            <a:ext cx="1737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C9EC-3DE6-4BFD-8BDA-B2CE178EC966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79680" y="6248520"/>
            <a:ext cx="264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21560" y="6248520"/>
            <a:ext cx="173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8BAF-D403-4DC1-8EC0-7F4C42BF3B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228680" y="1701720"/>
            <a:ext cx="107640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E752-0D78-4A0A-B488-42349A6BF13C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E637-4FCF-4A42-B715-247289B28F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heodore-roosevelt.com/rrpaint.jpg" TargetMode="External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oc.gov/rr/hispanic/1898/img/emilio.jpg" TargetMode="External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heodore-roosevelt.com/trr15.html" TargetMode="External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heodore-roosevelt.com/trr19.html" TargetMode="External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gif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8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heodore-roosevelt.com/trr39.html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630440" y="380880"/>
            <a:ext cx="5810040" cy="6019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Arial"/>
              </a:rPr>
              <a:t>American Expansion Oversea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1898-19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b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ba and Puerto Rico last remnants of the old Spanish Empi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nomic Cr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ople working for starvation wag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00 million/year sugar trade with United Sta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% duty placed on all raw sugar hurts trade and forces plantations to clo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267080" y="2209680"/>
            <a:ext cx="464832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ban Revol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4267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95 revolution over Spanish misrule and economic cri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olutionists burn cities and plant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nish army places citizens in concentration camps, or kills those that refu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. Valeriano Weyler kills over 200,000 Cuba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ba reduced to utter ru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00’s dead from murder or diseas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Cuban Revolutionaries in 1898"/>
          <p:cNvPicPr/>
          <p:nvPr/>
        </p:nvPicPr>
        <p:blipFill>
          <a:blip r:embed="rId2"/>
          <a:stretch/>
        </p:blipFill>
        <p:spPr>
          <a:xfrm>
            <a:off x="4724280" y="1523880"/>
            <a:ext cx="3535560" cy="4876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781680" y="1143000"/>
            <a:ext cx="22352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8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8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3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merican Suppo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4229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rn over treatment of Cubans by the Spanis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se’ Marti- Cuban revolutionist writes brilliant essays trying to get American suppo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erican newspapers show sympath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lliam Randolph Hea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seph Pullitz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yellow journalism to gain support for Cub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g Business demand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 $50 million of investments were at stak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28840" y="1294920"/>
            <a:ext cx="34671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reas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ba only 90 miles from American so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0$ million in business investments in sugar, rice, tobacco, and railroads was at stak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$100 million/year trade was at stak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Portrait of Jose Marti"/>
          <p:cNvPicPr/>
          <p:nvPr/>
        </p:nvPicPr>
        <p:blipFill>
          <a:blip r:embed="rId2"/>
          <a:stretch/>
        </p:blipFill>
        <p:spPr>
          <a:xfrm>
            <a:off x="5334120" y="4267080"/>
            <a:ext cx="17319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0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5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9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6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1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6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1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6" dur="2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1" dur="2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lliam McKinle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4229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augurated on March 4, 18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ongly opposes going to w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ar that war would put the country back into a depres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nish call McKinley “weak and a bidder for the admiration of the crowd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3416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member the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Main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Maine Arrives at Havana"/>
          <p:cNvPicPr/>
          <p:nvPr/>
        </p:nvPicPr>
        <p:blipFill>
          <a:blip r:embed="rId2"/>
          <a:stretch/>
        </p:blipFill>
        <p:spPr>
          <a:xfrm>
            <a:off x="609480" y="1600200"/>
            <a:ext cx="3505320" cy="2610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2520" y="1371600"/>
            <a:ext cx="3467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el battleship sent to Havana Harbor to protect American interes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odes while still at anchor- 250 kill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erica blames Sp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ember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i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 becomes a pro-war slog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cKinley refuses to go to w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981080" y="3657600"/>
            <a:ext cx="23209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5" dur="3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0" dur="3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9" dur="3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3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9" dur="3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ltimat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4229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t by McKinley to Sp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in cease all fighting w/ the revolutiona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ban independ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lish the concentration cam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in agrees to all, but #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876920" y="1447920"/>
            <a:ext cx="3784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76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R 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4305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ril 11, 1898- McKinley asks Congress for permission to intervene in Cub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unding approv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ler Re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urpose of the war was to only bring peace to the Caribbe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uaranteed Cuban independ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105520" y="1371600"/>
            <a:ext cx="3421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r in the Pacif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057400" y="2895480"/>
            <a:ext cx="3016080" cy="3733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05520" y="1066680"/>
            <a:ext cx="3657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odore George Dewey sent to Spanish-controlled Philippine Isla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ril 30, 1898- Secretly sneaks into Manila Harbor and opens fire on the 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y noon the Spanish give u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anish lose 170 m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erican loses 1 m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tstrok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228600" y="685800"/>
            <a:ext cx="2278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r in the Caribbe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733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nish fleet destroyed in Santiago Harbor by American vesse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ttle lasts 4 hou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495680" y="175248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267080" y="1676520"/>
            <a:ext cx="464832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5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0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8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579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82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ugh Rid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3467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erican volunteers led by Theodore Rooseve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ne 24, 1898- charges San Juan Hi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uly 2- Spanish attempt to flee Cub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erican army invades Puerto Rico w/ no resist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ly 17- Spanish surrend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plendid little war!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odore Roosevel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14800" y="1752480"/>
            <a:ext cx="4724280" cy="31734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4114800" y="175248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8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8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8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8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8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8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8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8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8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8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8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8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8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8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8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8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8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8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8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8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8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8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8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8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8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8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8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8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7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658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1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a Standar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SUSH14 The student will explain America’s evolving relationship with the world at the turn of the twentieth centur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Describe the Spanish-American War, the war in the Philippines, and the debate over American expansionis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Explain U.S. involvement in Latin America, as reflected by the Roosevelt Corollary to the Monroe Doctrine and the creation of the Panama Can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U.S. troops burying the dead"/>
          <p:cNvPicPr/>
          <p:nvPr/>
        </p:nvPicPr>
        <p:blipFill>
          <a:blip r:embed="rId2"/>
          <a:stretch/>
        </p:blipFill>
        <p:spPr>
          <a:xfrm>
            <a:off x="1219320" y="2590920"/>
            <a:ext cx="7543800" cy="37036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r Casual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467160" cy="4038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86 Americans killed in batt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00 killed from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llow fe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ace Treaty of 189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ba gets freedom from Sp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ted States is given Puerto Rico, and Gua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ted States would pay $20 million for the Phillippi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 acquires an empire overn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ansionists delight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0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1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8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4" dur="8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5" dur="8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6" dur="8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1" dur="8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3" dur="8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8" dur="8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9" dur="8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0" dur="8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 do with the Philippin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438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s for Americ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to Spai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, we just took them from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rn over to Great Britain or Fran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, bad for busi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e independence t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, not smart enough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– Take control, educate and Christianize the peop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105520" y="1752480"/>
            <a:ext cx="37875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77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8" dur="77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0" dur="77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2" dur="77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77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9" dur="77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1" dur="77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3" dur="77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77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0" dur="77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2" dur="77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4" dur="77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77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1" dur="77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3" dur="77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5" dur="77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77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2" dur="77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4" dur="77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6" dur="77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77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3" dur="77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5" dur="77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7" dur="77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77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4" dur="77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6" dur="77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8" dur="77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77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5" dur="77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7" dur="77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9" dur="77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quest of the Philippi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90680" y="1143000"/>
            <a:ext cx="39243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milio Aguinal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ds Filipino rebels against 70,000 US troo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ptured in 190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ilippine Government Act of 19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ed an appointed governor, elected assembly, and an appointed upper hou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lliam Howard Taft appointed to be the first govern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16- allowed to elect both houses of legislature, and promised independ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Emilio Aguinald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43000" y="1523880"/>
            <a:ext cx="28177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wa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4305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65- American sugar cane and pineapple companies begin tra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75- Treaty signed allowing Hawaii to sell all its sugar to U.S. in return of not dealing with any other foreign n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87- Pearl Harbor leased to U.S. as a naval ba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952880" y="1981080"/>
            <a:ext cx="373392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en Liliuokalan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7960" y="1219320"/>
            <a:ext cx="3924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nounces intentions of limiting all foreign influence in Hawai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n sugar businessmen start a revol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ines called 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bruary 1, 1893- Hawaii annexed to the United St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98- made a territo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Queen Liliuokalani"/>
          <p:cNvPicPr/>
          <p:nvPr/>
        </p:nvPicPr>
        <p:blipFill>
          <a:blip r:embed="rId2"/>
          <a:stretch/>
        </p:blipFill>
        <p:spPr>
          <a:xfrm>
            <a:off x="1295280" y="1981080"/>
            <a:ext cx="28893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4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8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lations with Chin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430524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ng standing trade relationship of furs for porcelain and sil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inese become disturbed with foreign influence from America and Great Brit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o-Japanese War of 1894-18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pan invades Ch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uropean nations try to divide mainland Chi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erican concerns of losing Chinese trade rel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876920" y="1676520"/>
            <a:ext cx="411480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5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0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5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0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5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0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en Door Polic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952520" y="1752120"/>
            <a:ext cx="4000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98 China poli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retary of State John Hay propos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ep all treaty ports op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nations trading with China would be on equal grou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914400" y="1447920"/>
            <a:ext cx="3405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2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7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2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Boxer Rebell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4229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“Boxers”- Chinese secret society determined to remove all foreigners from Chi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00- 300 foreigners kill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gust- rebellion is crushed by foreign pow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na repays foreign nations for losses in the rebell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ted States returns its share to the Chinese government and allows Chinese students to come to America and stud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029200" y="1371600"/>
            <a:ext cx="3360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2292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lated nation- foreigners forbidden to enter the count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odore Mathew Per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t by President Fillmore to negotiate a trade trea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rives w/ 4 steam-powered ships–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USS Fult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panese so impressed they open 2 ports to American trad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panese intrigue with industrialization ends its isol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comes an imperial nation and takes colonies for raw materia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894- invades Ch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00- invades Rus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Matthew Perry"/>
          <p:cNvPicPr/>
          <p:nvPr/>
        </p:nvPicPr>
        <p:blipFill>
          <a:blip r:embed="rId2"/>
          <a:stretch/>
        </p:blipFill>
        <p:spPr>
          <a:xfrm>
            <a:off x="5029200" y="1447920"/>
            <a:ext cx="37400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8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9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0" dur="8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20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7" dur="20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20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83" dur="20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1" dur="5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ssential Question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240" y="129492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id the changing political, economic, and technological climate of the latter 1800’s influence the expansion of Americ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id America's relationship with the World change in the latter 1800’s and early 1900’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id America become a world power and lead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the characteristics of American Imperialis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828800" y="228600"/>
            <a:ext cx="5608800" cy="62485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American Expansion in the Caribbean and Latin Americ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0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Insular C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305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of whether American colonies had protected rights under the Constitut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reme Court dec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orporated possessions (Alaska and Hawaii) were destined for statehood, and had constitutional righ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ncorporated possessions (Puerto Rico and Philippines) were not destined for statehood and did not have constitutional protections, but could not be deprived of life, liberty, or property w/out due process of law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486400" y="1905120"/>
            <a:ext cx="264780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1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2" dur="4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4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0" dur="1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1" dur="4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4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1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4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4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1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9" dur="4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4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uerto Ric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90680" y="2057400"/>
            <a:ext cx="3467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aker Act of 19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tablished a new government in Puerto R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vernor and executive council appointed by the Presid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cted lower hou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16- Made a territory and made Puerto Ricans American citize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Fortifying Puerto Rico"/>
          <p:cNvPicPr/>
          <p:nvPr/>
        </p:nvPicPr>
        <p:blipFill>
          <a:blip r:embed="rId2"/>
          <a:stretch/>
        </p:blipFill>
        <p:spPr>
          <a:xfrm>
            <a:off x="609480" y="1905120"/>
            <a:ext cx="426744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6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ban Independ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4229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01 Platt Amend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uban government must never enter into any foreign relationships that might endanger its independe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uban government must not incur debts it cannot rep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ted States has full authority to intervene when Cuban independence is threaten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ban government must provide naval bases for the United 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ba becomes a protectorate of the United 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257800" y="1600200"/>
            <a:ext cx="2665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7" dur="indefinite" restart="never" nodeType="tmRoot">
          <p:childTnLst>
            <p:seq>
              <p:cTn id="1198" dur="indefinite" nodeType="mainSeq">
                <p:childTnLst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3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9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9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9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9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1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9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5" dur="1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9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3" dur="1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9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Image, Source: intermediary roll film"/>
          <p:cNvPicPr/>
          <p:nvPr/>
        </p:nvPicPr>
        <p:blipFill>
          <a:blip r:embed="rId2"/>
          <a:stretch/>
        </p:blipFill>
        <p:spPr>
          <a:xfrm>
            <a:off x="4114800" y="2743200"/>
            <a:ext cx="4876920" cy="39164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Image, Source: intermediary roll film"/>
          <p:cNvPicPr/>
          <p:nvPr/>
        </p:nvPicPr>
        <p:blipFill>
          <a:blip r:embed="rId3"/>
          <a:stretch/>
        </p:blipFill>
        <p:spPr>
          <a:xfrm>
            <a:off x="380880" y="152280"/>
            <a:ext cx="5000760" cy="40006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Panama Cana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5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Need for a Can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1529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n vessels had to make a 6 week voyage around S. America to get from the west coast to the east coa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80’s French tried to build a canal on the Isthmus of Panama but fail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Plan of Panama Canal"/>
          <p:cNvPicPr/>
          <p:nvPr/>
        </p:nvPicPr>
        <p:blipFill>
          <a:blip r:embed="rId2"/>
          <a:stretch/>
        </p:blipFill>
        <p:spPr>
          <a:xfrm>
            <a:off x="5029200" y="1295280"/>
            <a:ext cx="3362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3" dur="indefinite" restart="never" nodeType="tmRoot">
          <p:childTnLst>
            <p:seq>
              <p:cTn id="1264" dur="indefinite" nodeType="mainSeq">
                <p:childTnLst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2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0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umbian Negoti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991040" y="1219320"/>
            <a:ext cx="41529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thmus of Panama a province of Columb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retary of State John Hay negotiates a trea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9 year lease on a 6 mile strip of land across Panama for $10 million and $250,000/year r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 agrees, but refuses to ratify– wants more mone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sident Theodore Roosevelt is furio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1371600"/>
            <a:ext cx="4040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9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6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1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8" dur="1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5" dur="1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nama Revol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305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of revolutionaries ask for U.S. aid in revolting against Columb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ines sent in to “protect American interests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umbia sends troops, but Americans force o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vember, 1903- 3 days later, new government established in Pana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-weeks later U.S. given rights to build the ca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nama is paid $10 million for a 10 mile strip of la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early rental of $250,0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ship_canal.jpg (17737 bytes)"/>
          <p:cNvPicPr/>
          <p:nvPr/>
        </p:nvPicPr>
        <p:blipFill>
          <a:blip r:embed="rId2"/>
          <a:stretch/>
        </p:blipFill>
        <p:spPr>
          <a:xfrm>
            <a:off x="4952880" y="1981080"/>
            <a:ext cx="3962520" cy="28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6" dur="indefinite" restart="never" nodeType="tmRoot">
          <p:childTnLst>
            <p:seq>
              <p:cTn id="1317" dur="indefinite" nodeType="mainSeq">
                <p:childTnLst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5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0" dur="2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5" dur="2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0" dur="8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1" dur="8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8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8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ilding the Can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305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ted States Army Corp of Engineers begin build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llow fever and malaria a probl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. Walter Reed discovers that it was transmitted by mosquito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wamps drained to destroy the breeding grou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14- “Big Ditch” is comple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400 million projec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 million cubic yards of earth remov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952880" y="1523880"/>
            <a:ext cx="3618000" cy="44960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4648320" y="3886200"/>
            <a:ext cx="21826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6" dur="indefinite" restart="never" nodeType="tmRoot">
          <p:childTnLst>
            <p:seq>
              <p:cTn id="1367" dur="indefinite" nodeType="mainSeq">
                <p:childTnLst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2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4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9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97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2" dur="2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3" dur="2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2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762120" y="914400"/>
            <a:ext cx="8001000" cy="54180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ff"/>
                </a:solidFill>
                <a:latin typeface="Arial"/>
              </a:rPr>
              <a:t>American Foreign Polic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1" dur="indefinite" restart="never" nodeType="tmRoot">
          <p:childTnLst>
            <p:seq>
              <p:cTn id="1412" dur="indefinite" nodeType="mainSeq">
                <p:childTnLst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1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240" y="1447560"/>
            <a:ext cx="3467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nama Ca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erial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iam Sew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tain Alfred Mah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ugh Ri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en Liliuokal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llow j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52520" y="1447560"/>
            <a:ext cx="3467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nish-American W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r in the Philipp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oosevelt Coroll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odore Mathew Per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 Diploma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g Sti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Monroe Doctr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990680" y="1143000"/>
            <a:ext cx="3924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23- President James Monroe issues to Europ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urope may not attempt to further colonize the Americ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urope may not interfere with independent nations in the Western Hemisp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ted States could never enforce due to small nav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29559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2" dur="indefinite" restart="never" nodeType="tmRoot">
          <p:childTnLst>
            <p:seq>
              <p:cTn id="1423" dur="indefinite" nodeType="mainSeq">
                <p:childTnLst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8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3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8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3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nroe Doctrine Test #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4305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nce invades Mexico to force repayment of war deb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 an Austrian prince, Maximilian as the new Emperor of Mex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.S. says violation of Monroe Doctri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able to enforce because of Civil W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poleon III faced with wars in Europe pulls o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ximilian executed by Mexican nationalist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181480" y="1600200"/>
            <a:ext cx="3348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4" dur="indefinite" restart="never" nodeType="tmRoot">
          <p:childTnLst>
            <p:seq>
              <p:cTn id="1445" dur="indefinite" nodeType="mainSeq">
                <p:childTnLst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nroe Doctrine Test #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990680" y="1294920"/>
            <a:ext cx="3924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der dispute between Venezuela and British Guia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ted States intervenes- Great Britain claims Monroe Doctrine not a part of international la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war a possibility, Britain settles the dispu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Juan Vicente Gómez"/>
          <p:cNvPicPr/>
          <p:nvPr/>
        </p:nvPicPr>
        <p:blipFill>
          <a:blip r:embed="rId2"/>
          <a:stretch/>
        </p:blipFill>
        <p:spPr>
          <a:xfrm>
            <a:off x="914400" y="1752480"/>
            <a:ext cx="403848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4" dur="indefinite" restart="never" nodeType="tmRoot">
          <p:childTnLst>
            <p:seq>
              <p:cTn id="1485" dur="indefinite" nodeType="mainSeq">
                <p:childTnLst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2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2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2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2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8" dur="2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9" dur="2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nroe Doctrine Test #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4305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nezuela cannot repay debts to Britain, Italy, and German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blockade the Venezuelan coa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ident Theodore Roosevelt demand violation of Monroe Doctr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ter is settl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952880" y="1523880"/>
            <a:ext cx="33102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0" dur="indefinite" restart="never" nodeType="tmRoot">
          <p:childTnLst>
            <p:seq>
              <p:cTn id="1511" dur="indefinite" nodeType="mainSeq">
                <p:childTnLst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16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21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26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31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36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osevelt Coroll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4229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minican Republic owes European nations money– they threaten to interve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osevelt announces that the U.S. had the right to interfere in Latin American disputes on behalf of the European n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ted States becomes “international policeman” of the Western Hemisphe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ak softly and carry a big stick.”– Rooseve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76920" y="1447920"/>
            <a:ext cx="3879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7" dur="indefinite" restart="never" nodeType="tmRoot">
          <p:childTnLst>
            <p:seq>
              <p:cTn id="1538" dur="indefinite" nodeType="mainSeq">
                <p:childTnLst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43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48" dur="2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53" dur="2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58" dur="2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llar Diplomacy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90680" y="1447920"/>
            <a:ext cx="3924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ted States “influence” in Latin America by William Howard Ta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rican bankers lend money to Latin American gov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debtors failed to repay the debts, U.S. govt. intervened to “protect” American invest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ually meant the landing of the Mari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990720" y="1523880"/>
            <a:ext cx="33242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9" dur="indefinite" restart="never" nodeType="tmRoot">
          <p:childTnLst>
            <p:seq>
              <p:cTn id="1560" dur="indefinite" nodeType="mainSeq">
                <p:childTnLst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5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7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2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4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9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1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6" dur="1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oubles with Mexic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895480" y="1294920"/>
            <a:ext cx="41529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xican’s still angry over the 1848 war with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st 1/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their 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utes over Rio Grande, cattle rustling, and India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1913, Americans had invested $1 billion in Mex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7" dur="indefinite" restart="never" nodeType="tmRoot">
          <p:childTnLst>
            <p:seq>
              <p:cTn id="1588" dur="indefinite" nodeType="mainSeq">
                <p:childTnLst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6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9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1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6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8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13" dur="2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xican Revol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990680" y="1447560"/>
            <a:ext cx="3924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10- Long-time President Diaz is overthrown by Victoriano Huer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.S. loses a powerful al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n investors “disturbed” by the ev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Victoriano Huerta"/>
          <p:cNvPicPr/>
          <p:nvPr/>
        </p:nvPicPr>
        <p:blipFill>
          <a:blip r:embed="rId2"/>
          <a:stretch/>
        </p:blipFill>
        <p:spPr>
          <a:xfrm>
            <a:off x="1143000" y="1523880"/>
            <a:ext cx="346716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4" dur="indefinite" restart="never" nodeType="tmRoot">
          <p:childTnLst>
            <p:seq>
              <p:cTn id="1615" dur="indefinite" nodeType="mainSeq">
                <p:childTnLst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4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1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0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tchful Waiting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29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ident Woodrow Wilson announces “watchful waiting” polic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lief that revolutionary government would be gotten rid of by Mexican peo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erta attempts to seize American proper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ril, 1914- Germany attempts to send arms to the new Mexican gov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son orders marines to invade Mexic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724280" y="1523880"/>
            <a:ext cx="3856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1" dur="indefinite" restart="never" nodeType="tmRoot">
          <p:childTnLst>
            <p:seq>
              <p:cTn id="1642" dur="indefinite" nodeType="mainSeq">
                <p:childTnLst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7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3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1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9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7" dur="1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1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1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1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C Med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52520" y="1676520"/>
            <a:ext cx="3924360" cy="4952880"/>
          </a:xfrm>
          <a:prstGeom prst="rect">
            <a:avLst/>
          </a:prstGeom>
          <a:solidFill>
            <a:srgbClr val="ddf4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genti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zi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mediation between U.S. and Mex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erta asked to retire– he do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d by rival, Carranz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es ally to the United Sta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914400" y="1523880"/>
            <a:ext cx="322884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1" dur="indefinite" restart="never" nodeType="tmRoot">
          <p:childTnLst>
            <p:seq>
              <p:cTn id="1682" dur="indefinite" nodeType="mainSeq">
                <p:childTnLst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7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8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9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4" dur="8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5" dur="8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6" dur="8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1" dur="8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2" dur="8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3" dur="8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8" dur="8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9" dur="8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0" dur="8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3" dur="8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4" dur="8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5" dur="8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New Imperial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4229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nation’s policy of establishing colonies and building empires for economic gain, prestige, and missionary purpo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00-1600’s- Great Britain, France, Spain, Portugal, Dut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0’s- Germany, Italy, Belgium, Japan join 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erica remains isola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90680" y="2057400"/>
            <a:ext cx="38480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s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ustrial Revolution demanded new raw materials and increased tra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w instruments of w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hine gun and repeating rif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de in the creation of an empi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ancisco “Pancho” Vill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18960" y="1219320"/>
            <a:ext cx="3467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lits with Carranza over alliance with Amer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16- kills 18 America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sses border into New Mexico and kills 17 America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son orders troops to capture Villa “dead or alive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John Pershing leads 5,000 troops into Mex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draws due to Mexican resent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ver captures Vill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4952880" y="1295280"/>
            <a:ext cx="2498760" cy="28958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6248520" y="3809880"/>
            <a:ext cx="27622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6" dur="indefinite" restart="never" nodeType="tmRoot">
          <p:childTnLst>
            <p:seq>
              <p:cTn id="1717" dur="indefinite" nodeType="mainSeq">
                <p:childTnLst>
                  <p:par>
                    <p:cTn id="1718" fill="hold">
                      <p:stCondLst>
                        <p:cond delay="indefinite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0" fill="hold">
                      <p:stCondLst>
                        <p:cond delay="indefinite"/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American Empi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85800" y="1295280"/>
            <a:ext cx="8001000" cy="51879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2666880" y="1295280"/>
            <a:ext cx="43117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4" dur="indefinite" restart="never" nodeType="tmRoot">
          <p:childTnLst>
            <p:seq>
              <p:cTn id="1775" dur="indefinite" nodeType="mainSeq">
                <p:childTnLst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7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1" fill="hold">
                            <p:stCondLst>
                              <p:cond delay="500"/>
                            </p:stCondLst>
                            <p:childTnLst>
                              <p:par>
                                <p:cTn id="17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6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merican Isol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415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erica had been a colony, and its sympathies were with the other colon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undeveloped American West of the 1800’s was like a colon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 real “need” for raw materi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less trade opportunities to Europe and its colon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800600" y="2209680"/>
            <a:ext cx="41148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ward’s Fole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2520" y="1447920"/>
            <a:ext cx="3924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lliam Seward- Secretary of State under Lincoln and Johns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as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ce capped mountains w/ an arctic clim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zar Alexander II wants to sell- needs money for w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ward and Russian ambassador agree to the purchase of Alaska for $7.2 mill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.02/ac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d g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0 years later– “black gold” fou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143000" y="1447920"/>
            <a:ext cx="32958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ptain Alfred Mah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4076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- 1890’s- America not interested in expan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Influence of Sea Power upon His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tempts to show that to be a great nation, a great navy is need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onies needed as naval bases for refueling, raw materials, and marke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95- Great White Fleet is commissioned by Congres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222880" y="2057400"/>
            <a:ext cx="3003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81080" y="380880"/>
            <a:ext cx="4957920" cy="5715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The Spanish-American Wa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8T03:39:53Z</dcterms:created>
  <dc:creator>George Maruska</dc:creator>
  <dc:description/>
  <dc:language>en-US</dc:language>
  <cp:lastModifiedBy>ldesaulniers</cp:lastModifiedBy>
  <dcterms:modified xsi:type="dcterms:W3CDTF">2009-02-23T20:36:51Z</dcterms:modified>
  <cp:revision>26</cp:revision>
  <dc:subject/>
  <dc:title>American Expansion Overseas</dc:title>
</cp:coreProperties>
</file>