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F35-2563-4099-8C25-6C5A09C6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253-98C7-4851-AE25-DA3EA0B6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F24E-4466-4613-8788-1F2872BE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2D3-8C64-4F85-863D-DC17B948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3937-C3E0-42AD-9B4E-63747FE0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090-14FB-4840-869D-941F78D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7DE2-5413-4661-830C-50CE9DC6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DB1-FD59-479A-955E-8C532207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0FD-7BCA-44E8-B20A-23F728D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968-C199-44B3-A25D-7EEE21C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C74-B76F-4C0D-80E0-7590D1B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302F-28BD-4AF3-B490-A7D1B42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08EF-99EC-4D18-A6C8-1CC6370E2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audio" Target="../media/Jeopardy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467480" y="5284800"/>
            <a:ext cx="16765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76520" cy="1573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1981080"/>
            <a:ext cx="6705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merican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pan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5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lipper 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5345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ade steel production efficient and less expen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essemer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do you call the horse drawn machine to harvest grain invented by Cyrus McCorm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572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echanical Rea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was passed in 1887, which abolished Indian tribes and gave each male Indian 160 acres on a reservation to f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5715000"/>
            <a:ext cx="830556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awes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drive to extend the U.S. borders to the Pacific Oce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anifest Desti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30492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mproved farming by making the plow out of steel instead of cast ir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Industr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So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15228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196920"/>
            <a:ext cx="167616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Wes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Expa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135000"/>
            <a:ext cx="1905120" cy="785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Poli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ohn De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52388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River that Mexico wanted as the southern border of the united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ue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estern Expansion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opular transportation in large cities, reduced traffic jams, and was inexpensi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ubw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court case set the precedent for “separate but equal” facilities between blacks and whi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Plessy v. Fergu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andmark Court Cases fo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, by Alexander Graham Bell, eventually led to world wide communication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ele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810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ift of population from country to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mplete control over an industry’s production, quality, wages paid, and prices charg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Urb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 for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137160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Laws enacted by Southern state and local governments to separate white and black people in public and private facilit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im Crow La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2286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ocial Changes for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rmers organized this political party to promote decent prices for their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Populist Pa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Journalist who exposed city government corruption and social in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Muckra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44792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book written by Upton Sinclair to expose unhealthy conditions in the meat packing indus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Jung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160020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n organization formed by workers as a means to correct economic and social injustices caused by unfair labor practi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Monopo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bor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8305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Leader of the American Federation of Labor who focused on collective bargaining to reach written agreements between workers and employ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amuel Gom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itical Reform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Invented the light bulb, phonograph, and the microph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omas E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Secretary of State John Hay assured that all nations would have equal opportunity to trade with Chi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Open Doo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government policy of noninterference in the affairs of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Laissez-f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57176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rogressive reform outlawed monopoli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nvented the tele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herman Anti-Trust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144792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Question: Acquiring money in a dishonest or questionable m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</a:t>
            </a: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Samuel F.B. M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Owner of  the Standard Oil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John D. Rockefe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57200" y="556272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ck to the Game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2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 fast sailing ship invented by John Griff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ck Your Answ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3822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dustrial Revolution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8:47:09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