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Jeopardy.wav" ContentType="audio/x-wav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F90EF-6372-4462-94B9-A21A51827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DAC5F-0B50-4A42-9E5C-DE2B109D0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32380-D702-4B62-A8A7-4E0F3F0CC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9E22F-BB11-40BF-A81D-FA30F64B1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6BBFF-1D9B-412A-A7B7-25ADA46F0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82BE2-9574-4ED8-80F6-CDECB7C4E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B6D66-710C-42A1-BB5F-E16D812B6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DA79F-63EC-4D08-8B2A-B4BB764BC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D77AF-2149-41B1-AA92-CA1D7DB92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BF8DE-08D5-4B3E-B545-FA20098E3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195B3-2B31-4220-9D38-FA919B007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24A16-A617-4FD1-850F-615694734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71DE4-C99C-45AF-A539-E3B1B88230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audio" Target="../media/Jeopardy.wav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audio" Target="../media/Jeopardy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audio" Target="../media/Jeopardy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audio" Target="../media/Jeopardy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audio" Target="../media/Jeopardy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audio" Target="../media/Jeopardy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audio" Target="../media/Jeopardy.wav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audio" Target="../media/Jeopardy.wav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audio" Target="../media/Jeopardy.wav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audio" Target="../media/Jeopardy.wav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audio" Target="../media/Jeopardy.wav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audio" Target="../media/Jeopardy.wav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audio" Target="../media/Jeopardy.wav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audio" Target="../media/Jeopardy.wav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audio" Target="../media/Jeopardy.wav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audio" Target="../media/Jeopardy.wav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audio" Target="../media/Jeopardy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audio" Target="../media/Jeopardy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7467480" y="0"/>
            <a:ext cx="1676520" cy="15732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5284800"/>
            <a:ext cx="1676520" cy="15732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7467480" y="5284800"/>
            <a:ext cx="1676520" cy="15732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676520" cy="15732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1143000" y="1981080"/>
            <a:ext cx="670572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merican 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Expansion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split dir="out" orient="vert"/>
    <p:sndAc>
      <p:stSnd>
        <p:snd r:embed="rId5" name="Jeopardy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80880" y="1981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Clipper shi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0880" y="304920"/>
            <a:ext cx="838224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Industrial Revolution for 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>
            <a:hlinkClick r:id="rId1" action="ppaction://hlinksldjump"/>
          </p:cNvPr>
          <p:cNvSpPr/>
          <p:nvPr/>
        </p:nvSpPr>
        <p:spPr>
          <a:xfrm>
            <a:off x="457200" y="556272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Back to the Game Boar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2" name="Jeopardy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80880" y="1981080"/>
            <a:ext cx="853452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Made steel production efficient and less expens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heck Your Answer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80880" y="228600"/>
            <a:ext cx="838224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Industrial Revolution for 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1981080"/>
            <a:ext cx="830592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Bessemer proc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80880" y="228600"/>
            <a:ext cx="838224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Industrial Revolution for 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>
            <a:hlinkClick r:id="rId1" action="ppaction://hlinksldjump"/>
          </p:cNvPr>
          <p:cNvSpPr/>
          <p:nvPr/>
        </p:nvSpPr>
        <p:spPr>
          <a:xfrm>
            <a:off x="457200" y="556272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Back to the Game Boar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2" name="Jeopardy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80880" y="1981080"/>
            <a:ext cx="83059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What do you call the horse drawn machine to harvest grain invented by Cyrus McCormick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heck Your Answer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80880" y="457200"/>
            <a:ext cx="838224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Western Expansion for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1981080"/>
            <a:ext cx="830592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Mechanical Reap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80880" y="228600"/>
            <a:ext cx="838224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Western Expansion for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>
            <a:hlinkClick r:id="rId1" action="ppaction://hlinksldjump"/>
          </p:cNvPr>
          <p:cNvSpPr/>
          <p:nvPr/>
        </p:nvSpPr>
        <p:spPr>
          <a:xfrm>
            <a:off x="457200" y="556272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Back to the Game Boar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2" name="Jeopardy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57200" y="1371600"/>
            <a:ext cx="830592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What was passed in 1887, which abolished Indian tribes and gave each male Indian 160 acres on a reservation to farm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04920" y="5715000"/>
            <a:ext cx="830556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heck Your Answer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228600"/>
            <a:ext cx="838224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Western Expansion for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80880" y="1981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Dawes A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228600"/>
            <a:ext cx="838224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Western Expansion for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>
            <a:hlinkClick r:id="rId1" action="ppaction://hlinksldjump"/>
          </p:cNvPr>
          <p:cNvSpPr/>
          <p:nvPr/>
        </p:nvSpPr>
        <p:spPr>
          <a:xfrm>
            <a:off x="457200" y="556272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Back to the Game Boar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2" name="Jeopardy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80880" y="1479600"/>
            <a:ext cx="83059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The drive to extend the U.S. borders to the Pacific Oce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heck Your Answer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80880" y="228600"/>
            <a:ext cx="838224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Western Expansion for 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80880" y="1981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Manifest Destin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304920"/>
            <a:ext cx="838224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Western Expansion for 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>
            <a:hlinkClick r:id="rId1" action="ppaction://hlinksldjump"/>
          </p:cNvPr>
          <p:cNvSpPr/>
          <p:nvPr/>
        </p:nvSpPr>
        <p:spPr>
          <a:xfrm>
            <a:off x="457200" y="556272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Back to the Game Boar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2" name="Jeopardy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80880" y="1981080"/>
            <a:ext cx="83059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Who improved farming by making the plow out of steel instead of cast iro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heck Your Answer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80880" y="228600"/>
            <a:ext cx="838224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Western Expansion for 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1828800" cy="1143000"/>
          </a:xfrm>
          <a:prstGeom prst="rect">
            <a:avLst/>
          </a:prstGeom>
          <a:solidFill>
            <a:srgbClr val="ff0000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 Black"/>
              </a:rPr>
              <a:t>Industria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 Black"/>
              </a:rPr>
              <a:t>Revolu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315200" y="0"/>
            <a:ext cx="1828800" cy="1143000"/>
          </a:xfrm>
          <a:prstGeom prst="rect">
            <a:avLst/>
          </a:prstGeom>
          <a:solidFill>
            <a:srgbClr val="ff0000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 Black"/>
              </a:rPr>
              <a:t>Gra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 Black"/>
              </a:rPr>
              <a:t>Ba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828800" y="0"/>
            <a:ext cx="1828800" cy="1143000"/>
          </a:xfrm>
          <a:prstGeom prst="rect">
            <a:avLst/>
          </a:prstGeom>
          <a:solidFill>
            <a:srgbClr val="ff0000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657600" y="0"/>
            <a:ext cx="1828800" cy="1143000"/>
          </a:xfrm>
          <a:prstGeom prst="rect">
            <a:avLst/>
          </a:prstGeom>
          <a:solidFill>
            <a:srgbClr val="ff0000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 Black"/>
              </a:rPr>
              <a:t>Socia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 Black"/>
              </a:rPr>
              <a:t>Chan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486400" y="152280"/>
            <a:ext cx="1828800" cy="1143000"/>
          </a:xfrm>
          <a:prstGeom prst="rect">
            <a:avLst/>
          </a:prstGeom>
          <a:solidFill>
            <a:srgbClr val="ff0000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2286000"/>
            <a:ext cx="1828800" cy="1143000"/>
          </a:xfrm>
          <a:prstGeom prst="rect">
            <a:avLst/>
          </a:prstGeom>
          <a:solidFill>
            <a:srgbClr val="ff0000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315200" y="2286000"/>
            <a:ext cx="1828800" cy="1143000"/>
          </a:xfrm>
          <a:prstGeom prst="rect">
            <a:avLst/>
          </a:prstGeom>
          <a:solidFill>
            <a:srgbClr val="ff0000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2286000"/>
            <a:ext cx="1828800" cy="1143000"/>
          </a:xfrm>
          <a:prstGeom prst="rect">
            <a:avLst/>
          </a:prstGeom>
          <a:solidFill>
            <a:srgbClr val="ff0000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657600" y="2286000"/>
            <a:ext cx="1828800" cy="1143000"/>
          </a:xfrm>
          <a:prstGeom prst="rect">
            <a:avLst/>
          </a:prstGeom>
          <a:solidFill>
            <a:srgbClr val="ff0000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486400" y="2286000"/>
            <a:ext cx="1828800" cy="1143000"/>
          </a:xfrm>
          <a:prstGeom prst="rect">
            <a:avLst/>
          </a:prstGeom>
          <a:solidFill>
            <a:srgbClr val="ff0000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3429000"/>
            <a:ext cx="1828800" cy="1143000"/>
          </a:xfrm>
          <a:prstGeom prst="rect">
            <a:avLst/>
          </a:prstGeom>
          <a:solidFill>
            <a:srgbClr val="ff0000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315200" y="3429000"/>
            <a:ext cx="1828800" cy="1143000"/>
          </a:xfrm>
          <a:prstGeom prst="rect">
            <a:avLst/>
          </a:prstGeom>
          <a:solidFill>
            <a:srgbClr val="ff0000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828800" y="3429000"/>
            <a:ext cx="1828800" cy="1143000"/>
          </a:xfrm>
          <a:prstGeom prst="rect">
            <a:avLst/>
          </a:prstGeom>
          <a:solidFill>
            <a:srgbClr val="ff0000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657600" y="3429000"/>
            <a:ext cx="1828800" cy="1143000"/>
          </a:xfrm>
          <a:prstGeom prst="rect">
            <a:avLst/>
          </a:prstGeom>
          <a:solidFill>
            <a:srgbClr val="ff0000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486400" y="3429000"/>
            <a:ext cx="1828800" cy="1143000"/>
          </a:xfrm>
          <a:prstGeom prst="rect">
            <a:avLst/>
          </a:prstGeom>
          <a:solidFill>
            <a:srgbClr val="ff0000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4572000"/>
            <a:ext cx="1828800" cy="1143000"/>
          </a:xfrm>
          <a:prstGeom prst="rect">
            <a:avLst/>
          </a:prstGeom>
          <a:solidFill>
            <a:srgbClr val="ff0000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315200" y="4572000"/>
            <a:ext cx="1828800" cy="1143000"/>
          </a:xfrm>
          <a:prstGeom prst="rect">
            <a:avLst/>
          </a:prstGeom>
          <a:solidFill>
            <a:srgbClr val="ff0000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828800" y="4572000"/>
            <a:ext cx="1828800" cy="1143000"/>
          </a:xfrm>
          <a:prstGeom prst="rect">
            <a:avLst/>
          </a:prstGeom>
          <a:solidFill>
            <a:srgbClr val="ff0000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657600" y="4572000"/>
            <a:ext cx="1828800" cy="1143000"/>
          </a:xfrm>
          <a:prstGeom prst="rect">
            <a:avLst/>
          </a:prstGeom>
          <a:solidFill>
            <a:srgbClr val="ff0000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486400" y="4572000"/>
            <a:ext cx="1828800" cy="1143000"/>
          </a:xfrm>
          <a:prstGeom prst="rect">
            <a:avLst/>
          </a:prstGeom>
          <a:solidFill>
            <a:srgbClr val="ff0000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5715000"/>
            <a:ext cx="1828800" cy="1143000"/>
          </a:xfrm>
          <a:prstGeom prst="rect">
            <a:avLst/>
          </a:prstGeom>
          <a:solidFill>
            <a:srgbClr val="ff0000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315200" y="5715000"/>
            <a:ext cx="1828800" cy="1143000"/>
          </a:xfrm>
          <a:prstGeom prst="rect">
            <a:avLst/>
          </a:prstGeom>
          <a:solidFill>
            <a:srgbClr val="ff0000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828800" y="5715000"/>
            <a:ext cx="1828800" cy="1143000"/>
          </a:xfrm>
          <a:prstGeom prst="rect">
            <a:avLst/>
          </a:prstGeom>
          <a:solidFill>
            <a:srgbClr val="ff0000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657600" y="5715000"/>
            <a:ext cx="1828800" cy="1143000"/>
          </a:xfrm>
          <a:prstGeom prst="rect">
            <a:avLst/>
          </a:prstGeom>
          <a:solidFill>
            <a:srgbClr val="ff0000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486400" y="5715000"/>
            <a:ext cx="1828800" cy="1143000"/>
          </a:xfrm>
          <a:prstGeom prst="rect">
            <a:avLst/>
          </a:prstGeom>
          <a:solidFill>
            <a:srgbClr val="ff0000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143000"/>
            <a:ext cx="1828800" cy="1143000"/>
          </a:xfrm>
          <a:prstGeom prst="rect">
            <a:avLst/>
          </a:prstGeom>
          <a:solidFill>
            <a:srgbClr val="ff0000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315200" y="1143000"/>
            <a:ext cx="1828800" cy="1143000"/>
          </a:xfrm>
          <a:prstGeom prst="rect">
            <a:avLst/>
          </a:prstGeom>
          <a:solidFill>
            <a:srgbClr val="ff0000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828800" y="1143000"/>
            <a:ext cx="1828800" cy="1143000"/>
          </a:xfrm>
          <a:prstGeom prst="rect">
            <a:avLst/>
          </a:prstGeom>
          <a:solidFill>
            <a:srgbClr val="ff0000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657600" y="1143000"/>
            <a:ext cx="1828800" cy="1143000"/>
          </a:xfrm>
          <a:prstGeom prst="rect">
            <a:avLst/>
          </a:prstGeom>
          <a:solidFill>
            <a:srgbClr val="ff0000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486400" y="1143000"/>
            <a:ext cx="1828800" cy="1143000"/>
          </a:xfrm>
          <a:prstGeom prst="rect">
            <a:avLst/>
          </a:prstGeom>
          <a:solidFill>
            <a:srgbClr val="ff0000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905120" y="196920"/>
            <a:ext cx="1676160" cy="7855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 Black"/>
              </a:rPr>
              <a:t>Wester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 Black"/>
              </a:rPr>
              <a:t>Expan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410080" y="135000"/>
            <a:ext cx="1905120" cy="7855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 Black"/>
              </a:rPr>
              <a:t>Politica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 Black"/>
              </a:rPr>
              <a:t>Re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6320" y="1371600"/>
            <a:ext cx="1676160" cy="764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6320" y="3657600"/>
            <a:ext cx="1676160" cy="764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6320" y="2514600"/>
            <a:ext cx="1676160" cy="764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6320" y="4724280"/>
            <a:ext cx="1676160" cy="764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6320" y="5867280"/>
            <a:ext cx="1676160" cy="764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05120" y="1371600"/>
            <a:ext cx="1676160" cy="764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05120" y="3657600"/>
            <a:ext cx="1676160" cy="764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05120" y="2514600"/>
            <a:ext cx="1676160" cy="764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05120" y="4724280"/>
            <a:ext cx="1676160" cy="764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905120" y="5867280"/>
            <a:ext cx="1676160" cy="764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733920" y="1371600"/>
            <a:ext cx="1676160" cy="764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733920" y="3657600"/>
            <a:ext cx="1676160" cy="764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2514600"/>
            <a:ext cx="1676160" cy="764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733920" y="4724280"/>
            <a:ext cx="1676160" cy="764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733920" y="5867280"/>
            <a:ext cx="1676160" cy="764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562720" y="1371600"/>
            <a:ext cx="1676160" cy="764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562720" y="3657600"/>
            <a:ext cx="1676160" cy="764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562720" y="2514600"/>
            <a:ext cx="1676160" cy="764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562720" y="4724280"/>
            <a:ext cx="1676160" cy="764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562720" y="5867280"/>
            <a:ext cx="1676160" cy="764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391520" y="1371600"/>
            <a:ext cx="1676160" cy="764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391520" y="3657600"/>
            <a:ext cx="1676160" cy="764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91520" y="2514600"/>
            <a:ext cx="1676160" cy="764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391520" y="4724280"/>
            <a:ext cx="1676160" cy="764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391520" y="5867280"/>
            <a:ext cx="1676160" cy="764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80880" y="1981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John Dee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80880" y="228600"/>
            <a:ext cx="838224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Western Expansion for 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>
            <a:hlinkClick r:id="rId1" action="ppaction://hlinksldjump"/>
          </p:cNvPr>
          <p:cNvSpPr/>
          <p:nvPr/>
        </p:nvSpPr>
        <p:spPr>
          <a:xfrm>
            <a:off x="457200" y="556272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Back to the Game Boar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2" name="Jeopardy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880" y="1523880"/>
            <a:ext cx="84582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River that Mexico wanted as the southern border of the united Sta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heck Your Answer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80880" y="228600"/>
            <a:ext cx="838224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Western Expansion for 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981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 Nue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80880" y="228600"/>
            <a:ext cx="838224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Western Expansion for 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>
            <a:hlinkClick r:id="rId1" action="ppaction://hlinksldjump"/>
          </p:cNvPr>
          <p:cNvSpPr/>
          <p:nvPr/>
        </p:nvSpPr>
        <p:spPr>
          <a:xfrm>
            <a:off x="457200" y="556272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Back to the Game Boar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2" name="Jeopardy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80880" y="1981080"/>
            <a:ext cx="83059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Popular transportation in large cities, reduced traffic jams, and was inexpensiv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heck Your Answer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80880" y="380880"/>
            <a:ext cx="8382240" cy="7034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Social Changes for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80880" y="1981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Subway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80880" y="228600"/>
            <a:ext cx="8382240" cy="7034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Social Change for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>
            <a:hlinkClick r:id="rId1" action="ppaction://hlinksldjump"/>
          </p:cNvPr>
          <p:cNvSpPr/>
          <p:nvPr/>
        </p:nvSpPr>
        <p:spPr>
          <a:xfrm>
            <a:off x="457200" y="556272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Back to the Game Boar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2" name="Jeopardy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80880" y="1981080"/>
            <a:ext cx="83059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What court case set the precedent for “separate but equal” facilities between blacks and whit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heck Your Answer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0880" y="228600"/>
            <a:ext cx="8382240" cy="7034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Social Change for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80880" y="1981080"/>
            <a:ext cx="830592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Plessy v. Fergus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80880" y="380880"/>
            <a:ext cx="8382240" cy="7034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Landmark Court Cases for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>
            <a:hlinkClick r:id="rId1" action="ppaction://hlinksldjump"/>
          </p:cNvPr>
          <p:cNvSpPr/>
          <p:nvPr/>
        </p:nvSpPr>
        <p:spPr>
          <a:xfrm>
            <a:off x="457200" y="556272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Back to the Game Boar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2" name="Jeopardy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1523880"/>
            <a:ext cx="87631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This invention, by Alexander Graham Bell, eventually led to world wide communication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heck Your Answer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80880" y="228600"/>
            <a:ext cx="8382240" cy="7034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Social Changes for 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80880" y="1981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Telepho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80880" y="228600"/>
            <a:ext cx="8382240" cy="7034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Social Change for 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>
            <a:hlinkClick r:id="rId1" action="ppaction://hlinksldjump"/>
          </p:cNvPr>
          <p:cNvSpPr/>
          <p:nvPr/>
        </p:nvSpPr>
        <p:spPr>
          <a:xfrm>
            <a:off x="457200" y="556272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Back to the Game Boar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2" name="Jeopardy.wav"/>
      </p:stSnd>
    </p:sndAc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0880" y="1981080"/>
            <a:ext cx="830592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The shift of population from country to c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heck Your Answer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80880" y="228600"/>
            <a:ext cx="8382240" cy="7034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Social Change for 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0880" y="1981080"/>
            <a:ext cx="8305920" cy="27752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Complete control over an industry’s production, quality, wages paid, and prices charg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heck Your Answer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80880" y="228600"/>
            <a:ext cx="838224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Industrial Revolution for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80880" y="1981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Urbaniz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0880" y="228600"/>
            <a:ext cx="8382240" cy="7034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Social Change for 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>
            <a:hlinkClick r:id="rId1" action="ppaction://hlinksldjump"/>
          </p:cNvPr>
          <p:cNvSpPr/>
          <p:nvPr/>
        </p:nvSpPr>
        <p:spPr>
          <a:xfrm>
            <a:off x="457200" y="556272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Back to the Game Boar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2" name="Jeopardy.wav"/>
      </p:stSnd>
    </p:sndAc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80880" y="1371600"/>
            <a:ext cx="830592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Laws enacted by Southern state and local governments to separate white and black people in public and private facilitie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heck Your Answer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80880" y="228600"/>
            <a:ext cx="8382240" cy="7034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Social Changes for 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80880" y="1981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Jim Crow Law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80880" y="228600"/>
            <a:ext cx="8382240" cy="7034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Social Changes for 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>
            <a:hlinkClick r:id="rId1" action="ppaction://hlinksldjump"/>
          </p:cNvPr>
          <p:cNvSpPr/>
          <p:nvPr/>
        </p:nvSpPr>
        <p:spPr>
          <a:xfrm>
            <a:off x="457200" y="556272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Back to the Game Boar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2" name="Jeopardy.wav"/>
      </p:stSnd>
    </p:sndAc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80880" y="1981080"/>
            <a:ext cx="83059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Farmers organized this political party to promote decent prices for their produ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heck Your Answer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52280" y="228600"/>
            <a:ext cx="883944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Political Reforms for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80880" y="1981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Populist Par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228600"/>
            <a:ext cx="883944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Political Reforms for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>
            <a:hlinkClick r:id="rId1" action="ppaction://hlinksldjump"/>
          </p:cNvPr>
          <p:cNvSpPr/>
          <p:nvPr/>
        </p:nvSpPr>
        <p:spPr>
          <a:xfrm>
            <a:off x="457200" y="556272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Back to the Game Boar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2" name="Jeopardy.wav"/>
      </p:stSnd>
    </p:sndAc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80880" y="1981080"/>
            <a:ext cx="83059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Journalist who exposed city government corruption and social injusti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heck Your Answer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52280" y="228600"/>
            <a:ext cx="883944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Political Reforms for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0880" y="1981080"/>
            <a:ext cx="830592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Muckrak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52280" y="228600"/>
            <a:ext cx="883944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Political Reforms for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>
            <a:hlinkClick r:id="rId1" action="ppaction://hlinksldjump"/>
          </p:cNvPr>
          <p:cNvSpPr/>
          <p:nvPr/>
        </p:nvSpPr>
        <p:spPr>
          <a:xfrm>
            <a:off x="457200" y="556272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Back to the Game Boar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2" name="Jeopardy.wav"/>
      </p:stSnd>
    </p:sndAc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80880" y="1447920"/>
            <a:ext cx="83059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A book written by Upton Sinclair to expose unhealthy conditions in the meat packing indust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heck</a:t>
            </a: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Your</a:t>
            </a: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Answer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52280" y="228600"/>
            <a:ext cx="883944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Political Reforms for 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80880" y="1981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The Jung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52280" y="228600"/>
            <a:ext cx="883944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Political Reforms for 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>
            <a:hlinkClick r:id="rId1" action="ppaction://hlinksldjump"/>
          </p:cNvPr>
          <p:cNvSpPr/>
          <p:nvPr/>
        </p:nvSpPr>
        <p:spPr>
          <a:xfrm>
            <a:off x="457200" y="556272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Back to the Game Boar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2" name="Jeopardy.wav"/>
      </p:stSnd>
    </p:sndAc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80880" y="1600200"/>
            <a:ext cx="83059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 Black"/>
              </a:rPr>
              <a:t>Question: An organization formed by workers as a means to correct economic and social injustices caused by unfair labor practice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heck Your Answer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52280" y="228600"/>
            <a:ext cx="883944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Political Reforms for 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1981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Monopo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80880" y="228600"/>
            <a:ext cx="838224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Industrial Revolution for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57200" y="556272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Back to the Game Boar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80880" y="1981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Labor Un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52280" y="228600"/>
            <a:ext cx="883944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Political Reforms for 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57200" y="556272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Back to the Game Boar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57200" y="1219320"/>
            <a:ext cx="83059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 Black"/>
              </a:rPr>
              <a:t>Question: Leader of the American Federation of Labor who focused on collective bargaining to reach written agreements between workers and employer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heck Your Answer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52280" y="228600"/>
            <a:ext cx="883944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Political Reforms for 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" y="1981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 Samuel Gomper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52280" y="228600"/>
            <a:ext cx="883944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Political Reforms for 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57200" y="556272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Back to the Game Boar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80880" y="1600200"/>
            <a:ext cx="83059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Invented the light bulb, phonograph, and the micropho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heck Your Answer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80880" y="228600"/>
            <a:ext cx="8382240" cy="1008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Grab Bag for 1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0880" y="1981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Thomas Edis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80880" y="228600"/>
            <a:ext cx="8382240" cy="1008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Grab Bag for 1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57200" y="556272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Back to the Game Boar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80880" y="1981080"/>
            <a:ext cx="830592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Secretary of State John Hay assured that all nations would have equal opportunity to trade with China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heck Your Answer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80880" y="228600"/>
            <a:ext cx="8382240" cy="1008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Grab Bag for 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80880" y="1981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Open Door Polic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0880" y="228600"/>
            <a:ext cx="8382240" cy="1008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Grab Bag for 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57200" y="556272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Back to the Game Boar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80880" y="1981080"/>
            <a:ext cx="83059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A government policy of noninterference in the affairs of busin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heck Your Answer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80880" y="228600"/>
            <a:ext cx="8382240" cy="1008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Grab Bag for 3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80880" y="1981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Laissez-fai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80880" y="228600"/>
            <a:ext cx="8382240" cy="1008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Grab Bag for 3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57200" y="556272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Back to the Game Boar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80880" y="1571760"/>
            <a:ext cx="8305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This progressive reform outlawed monopolie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heck Your Answer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80880" y="228600"/>
            <a:ext cx="8382240" cy="1008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Grab Bag for 4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80880" y="1981080"/>
            <a:ext cx="8305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Who invented the telegraph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heck Your Answer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80880" y="228600"/>
            <a:ext cx="838224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Industrial Revolution for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80880" y="1981080"/>
            <a:ext cx="830592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Sherman Anti-Trust A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80880" y="228600"/>
            <a:ext cx="8382240" cy="1008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Grab Bag for 4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57200" y="556272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Back to the Game Boar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57200" y="1447920"/>
            <a:ext cx="83059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 Black"/>
              </a:rPr>
              <a:t>Question: Acquiring money in a dishonest or questionable mann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heck Your Answer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0880" y="228600"/>
            <a:ext cx="8382240" cy="1008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Grab Bag for</a:t>
            </a:r>
            <a:r>
              <a:rPr b="0" lang="en-US" sz="6000" spc="-1" strike="noStrike">
                <a:solidFill>
                  <a:srgbClr val="ffff66"/>
                </a:solidFill>
                <a:latin typeface="Arial Black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80880" y="1981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Graf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80880" y="228600"/>
            <a:ext cx="8382240" cy="1008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Grab Bag for 5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57200" y="556272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Back to the Game Boar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0880" y="1981080"/>
            <a:ext cx="830592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Samuel F.B. Mor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80880" y="228600"/>
            <a:ext cx="838224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Industrial Revolution for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>
            <a:hlinkClick r:id="rId1" action="ppaction://hlinksldjump"/>
          </p:cNvPr>
          <p:cNvSpPr/>
          <p:nvPr/>
        </p:nvSpPr>
        <p:spPr>
          <a:xfrm>
            <a:off x="457200" y="556272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Back to the Game Boar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2" name="Jeopardy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80880" y="1981080"/>
            <a:ext cx="8305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Owner of  the Standard Oil compan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heck Your Answer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80880" y="228600"/>
            <a:ext cx="838224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Industrial Revolution for 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80880" y="1981080"/>
            <a:ext cx="830592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John D. Rockefell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0880" y="228600"/>
            <a:ext cx="838224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Industrial Revolution for 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>
            <a:hlinkClick r:id="rId1" action="ppaction://hlinksldjump"/>
          </p:cNvPr>
          <p:cNvSpPr/>
          <p:nvPr/>
        </p:nvSpPr>
        <p:spPr>
          <a:xfrm>
            <a:off x="457200" y="556272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Back to the Game Boar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2" name="Jeopardy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80880" y="1981080"/>
            <a:ext cx="8305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A fast sailing ship invented by John Griffi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heck Your Answer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0880" y="228600"/>
            <a:ext cx="838224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Industrial Revolution for 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28T16:41:16Z</dcterms:created>
  <dc:creator>lab</dc:creator>
  <dc:description/>
  <dc:language>en-US</dc:language>
  <cp:lastModifiedBy>Department of Technology</cp:lastModifiedBy>
  <dcterms:modified xsi:type="dcterms:W3CDTF">1999-12-14T18:47:09Z</dcterms:modified>
  <cp:revision>38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2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3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lln\asuettc web</vt:lpwstr>
  </property>
  <property fmtid="{D5CDD505-2E9C-101B-9397-08002B2CF9AE}" pid="14" name="ScreenSize">
    <vt:r8>2</vt:r8>
  </property>
  <property fmtid="{D5CDD505-2E9C-101B-9397-08002B2CF9AE}" pid="15" name="ScreenUsage">
    <vt:r8>3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