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Jeopardy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BE81-06DD-493C-9800-B98625F2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1B6E-0055-4EA7-9540-2284F112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005-D15A-4617-AF75-866B8100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385-F91A-4D11-8D6D-03CF3F72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C94-31BE-4A2C-9FB5-53AE8AD2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3A4-30C7-48EA-AE95-1F518D1F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3B4-808A-4A04-A9DE-9BBE6906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915-FCD3-4FD9-B6AF-C3D941FF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060-4DA8-4B10-9B25-7824ED87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22B-9952-480A-A9FC-4EDB5C20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CBD-DA97-45D4-B6A0-8539AFB9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199-2DD3-4E6D-9E9C-BD8144F9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7EAD-0F2A-4C72-A3D0-BE3BD2889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audio" Target="../media/Jeopardy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28480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467480" y="528480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76520" cy="157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43000" y="1981080"/>
            <a:ext cx="67057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merican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pans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5" name="Jeopar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Clipper 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981080"/>
            <a:ext cx="8534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Made steel production efficient and less expens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Bessemer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do you call the horse drawn machine to harvest grain invented by Cyrus McCormi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572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Mechanical Rea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37160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was passed in 1887, which abolished Indian tribes and gave each male Indian 160 acres on a reservation to fa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5715000"/>
            <a:ext cx="830556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Dawes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479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drive to extend the U.S. borders to the Pacific Oce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Manifest Desti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improved farming by making the plow out of steel instead of cast ir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Industr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R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B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5228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196920"/>
            <a:ext cx="167616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Wes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Expa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135000"/>
            <a:ext cx="190512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Poli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John De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52388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River that Mexico wanted as the southern border of the united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Nue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Popular transportation in large cities, reduced traffic jams, and was inexpen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ub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court case set the precedent for “separate but equal” facilities between blacks and whi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Plessy v. Fergu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andmark Court Cases fo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5238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invention, by Alexander Graham Bell, eventually led to world wide communication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eleph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81080"/>
            <a:ext cx="8305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shift of population from country to 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Complete control over an industry’s production, quality, wages paid, and prices charg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Urb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37160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Laws enacted by Southern state and local governments to separate white and black people in public and private facilit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Jim Crow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Farmers organized this political party to promote decent prices for their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Populist Pa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Journalist who exposed city government corruption and social injus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Muckrak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44792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book written by Upton Sinclair to expose unhealthy conditions in the meat packing indu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e Ju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60020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An organization formed by workers as a means to correct economic and social injustices caused by unfair labor practi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Monopo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Lab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Leader of the American Federation of Labor who focused on collective bargaining to reach written agreements between workers and employ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Samuel Gomp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6002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Invented the light bulb, phonograph, and the microph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omas Ed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198108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Secretary of State John Hay assured that all nations would have equal opportunity to trade with Chi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Open Door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government policy of noninterference in the affairs of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Laissez-f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57176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progressive reform outlawed monopol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invented the telegrap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Sherman Anti-Trust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144792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Acquiring money in a dishonest or questionable m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</a:t>
            </a: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G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Samuel F.B. Mo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Owner of  the Standard Oil comp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John D. Rockef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fast sailing ship invented by John Griff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1999-12-14T18:47:09Z</dcterms:modified>
  <cp:revision>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