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opard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1EC-7198-42E8-BF44-648C3940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CD7-CA09-47E6-9F3B-C7E3745E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ECE-5B65-4027-AA68-7C96A507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18C-D39C-41D1-89C6-AAA89D19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422-D873-4D3E-816F-321F0788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20E-BFA8-4158-A664-6A201C08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533-6255-4369-B299-1CA360C1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545-EDA4-48D4-AFB3-FA497A3B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2ED-9FB1-41EC-9F1F-7930E1E7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B72-38DE-4687-B456-1B901984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910-6113-4210-9C2B-7BCD9784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463-487D-4AEB-B72F-C7BC391E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2B26-1825-4070-8184-9D2B28527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837720" y="236196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vigation Acts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the Stamp Act of 1765 was to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upply  England with needed money after the French and Indian War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man was given credit for writing the Dec. of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homas Jeffers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anonymous essay was really written by Thomas Pa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Common S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Colonist that supported the English were given the name 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Loyalist or T0rr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What are unalienable righ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auses of the Am. 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049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Dec. 0f 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Events of the Rev.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Rev.War Batt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Grab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hose that no one can take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523880"/>
            <a:ext cx="73152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This man was the oldest member of the Continental Congress, a writer and inven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Ben Frank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shington’s troops winter home where he lost more than 2000 soldiers due to starvation and the bitter co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alley Forg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Frenchmen helped the Americans defeat the British at Yorkt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rquis de Lafayett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famous lady’s real name was Mary Hayes but later was called ____ ____ for replacing her husband at a cannon in batt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lly Pitch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rrupt government officials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hat engaged in selling scarce goods for a profit  was call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economic system existed for the benefit of their mother coun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fit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confirmed U. S.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aty of Paris 17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lasted only 15 mins. It is considered the 1st. Battle of the revolu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xing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shington crossed the Delaware R. on Christmas night for a surprise attack on the Hess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Language &amp; Literature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9880" y="38088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n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447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is called the turning point of the w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aratoga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American victory led to the surrender of the Britis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rcantilism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572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orkt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752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was given the wrong name, it should have been called Breed’s Hill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nker Hill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6002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“Crispus Attucks and 4 others were killed at this ev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ston Massacr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was the first tax that affected colonist directly because it was levied on goods and servi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”Stamp 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was our governing body during the Re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cond Continental Cong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1571760"/>
            <a:ext cx="8305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is was based on the English philosopher John Locke’s concep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famous demonstration by the colonist against England was all about tax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c. of  Independenc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were the supporters of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tri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ston Tea Party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closing of the Boston Harbor by the English is an example of the _____ ___ ordered  by King George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olerable 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act set down by the  British made all colonial ships use British or colonial  crews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2001-03-09T14:17:01Z</dcterms:modified>
  <cp:revision>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