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Jeopardy.wav" ContentType="audio/x-wav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725DC-D6EC-4531-8842-756CEA3D8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F1B07-4AFE-4199-BDEE-57BAEB6E4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0D1AC-1DE4-410C-98CE-6A0A184F4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1627D-77E2-4578-90E3-62B706079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FAF8E-7B1C-459E-A149-EE04C1893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52606-1773-41E7-8B35-CAF2D8EA9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9658B-BAA0-445C-9883-39E7C756F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A6747-6834-4DCA-AF3E-F54354607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F1617-284A-4241-85AE-B88098102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200AF-8AB5-42AE-A63B-C30471F1E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A7D97-601D-4414-A097-9B5584F5A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B5457-5031-4479-9F72-332F8B664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899CD-C8D0-4C8D-A743-8E0BF47AA9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182880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315200" y="0"/>
            <a:ext cx="182880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828800" y="0"/>
            <a:ext cx="182880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657600" y="0"/>
            <a:ext cx="182880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486400" y="0"/>
            <a:ext cx="182880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2286000"/>
            <a:ext cx="182880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315200" y="2286000"/>
            <a:ext cx="182880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828800" y="2286000"/>
            <a:ext cx="182880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657600" y="2286000"/>
            <a:ext cx="182880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486400" y="2286000"/>
            <a:ext cx="182880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3429000"/>
            <a:ext cx="182880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315200" y="3429000"/>
            <a:ext cx="182880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3429000"/>
            <a:ext cx="182880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657600" y="3429000"/>
            <a:ext cx="182880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486400" y="3429000"/>
            <a:ext cx="182880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4572000"/>
            <a:ext cx="182880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315200" y="4572000"/>
            <a:ext cx="182880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828800" y="4572000"/>
            <a:ext cx="182880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657600" y="4572000"/>
            <a:ext cx="182880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486400" y="4572000"/>
            <a:ext cx="182880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5715000"/>
            <a:ext cx="182880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315200" y="5715000"/>
            <a:ext cx="182880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828800" y="5715000"/>
            <a:ext cx="182880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657600" y="5715000"/>
            <a:ext cx="182880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486400" y="5715000"/>
            <a:ext cx="182880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143000"/>
            <a:ext cx="182880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315200" y="1143000"/>
            <a:ext cx="182880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828800" y="1143000"/>
            <a:ext cx="182880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657600" y="1143000"/>
            <a:ext cx="182880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486400" y="1143000"/>
            <a:ext cx="182880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 txBox="1"/>
          <p:nvPr/>
        </p:nvSpPr>
        <p:spPr>
          <a:xfrm rot="20016000">
            <a:off x="837720" y="2361960"/>
            <a:ext cx="754380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Well, what do you know?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80880" y="1981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 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Navigation Acts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Back to the Game Board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80880" y="304920"/>
            <a:ext cx="8382240" cy="7034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Arial Black"/>
              </a:rPr>
              <a:t>Causes/ Am. Rev. for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981080"/>
            <a:ext cx="85345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 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The purpose of the Stamp Act of 1765 was to _____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Check Your Answer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304920"/>
            <a:ext cx="8382240" cy="7034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Arial Black"/>
              </a:rPr>
              <a:t>Causes/ Am. Rev. for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80880" y="1981080"/>
            <a:ext cx="83059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 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Supply  England with needed money after the French and Indian War.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Back to the Game Board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80880" y="304920"/>
            <a:ext cx="8382240" cy="7034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Arial Black"/>
              </a:rPr>
              <a:t>Causes/ Am. Rev. for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80880" y="1981080"/>
            <a:ext cx="83059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 This man was given credit for writing the Dec. of Independenc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Check Your Answer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80880" y="228600"/>
            <a:ext cx="8382240" cy="1008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 Black"/>
              </a:rPr>
              <a:t>Dec. of Ind. for 1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80880" y="1981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 Thomas Jefferson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Back to the Game Board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80880" y="228600"/>
            <a:ext cx="8382240" cy="1008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 Black"/>
              </a:rPr>
              <a:t>Dec. of Ind. for 1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80880" y="1981080"/>
            <a:ext cx="83059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 This anonymous essay was really written by Thomas Pain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Check Your Answer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80880" y="228600"/>
            <a:ext cx="8382240" cy="1008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 Black"/>
              </a:rPr>
              <a:t>Dec. of Ind. for 1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80880" y="1981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 Common Sen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Back to the Game Board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80880" y="228600"/>
            <a:ext cx="8382240" cy="1008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 Black"/>
              </a:rPr>
              <a:t>Dec. of Ind. for 1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80880" y="1479600"/>
            <a:ext cx="8305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 </a:t>
            </a:r>
            <a:r>
              <a:rPr b="0" lang="en-US" sz="3200" spc="-1" strike="noStrike">
                <a:solidFill>
                  <a:srgbClr val="3333cc"/>
                </a:solidFill>
                <a:latin typeface="Arial Black"/>
              </a:rPr>
              <a:t>Colonist that supported the English were given the name ?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Check Your Answer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880" y="228600"/>
            <a:ext cx="8382240" cy="1008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 Black"/>
              </a:rPr>
              <a:t>Dec. of Ind. for 1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1981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 Loyalist or T0rries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Back to the Game Board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80880" y="228600"/>
            <a:ext cx="8382240" cy="1008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 Black"/>
              </a:rPr>
              <a:t>Dec. of Ind. for 1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80880" y="1981080"/>
            <a:ext cx="8305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 What are unalienable right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Check Your Answer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228600"/>
            <a:ext cx="8382240" cy="1008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 Black"/>
              </a:rPr>
              <a:t>Dec. of Ind. for 1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0" y="0"/>
            <a:ext cx="1828800" cy="114300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315200" y="0"/>
            <a:ext cx="1828800" cy="114300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828800" y="0"/>
            <a:ext cx="1828800" cy="114300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657600" y="0"/>
            <a:ext cx="1828800" cy="114300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486400" y="0"/>
            <a:ext cx="1828800" cy="114300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0" y="2286000"/>
            <a:ext cx="1828800" cy="114300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315200" y="2286000"/>
            <a:ext cx="1828800" cy="114300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828800" y="2286000"/>
            <a:ext cx="1828800" cy="114300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2286000"/>
            <a:ext cx="1828800" cy="114300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486400" y="2286000"/>
            <a:ext cx="1828800" cy="114300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3429000"/>
            <a:ext cx="1828800" cy="114300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315200" y="3429000"/>
            <a:ext cx="1828800" cy="114300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828800" y="3429000"/>
            <a:ext cx="1828800" cy="114300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657600" y="3429000"/>
            <a:ext cx="1828800" cy="114300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486400" y="3429000"/>
            <a:ext cx="1828800" cy="114300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4572000"/>
            <a:ext cx="1828800" cy="114300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315200" y="4572000"/>
            <a:ext cx="1828800" cy="114300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828800" y="4572000"/>
            <a:ext cx="1828800" cy="114300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657600" y="4572000"/>
            <a:ext cx="1828800" cy="114300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486400" y="4572000"/>
            <a:ext cx="1828800" cy="114300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5715000"/>
            <a:ext cx="1828800" cy="114300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315200" y="5715000"/>
            <a:ext cx="1828800" cy="114300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828800" y="5715000"/>
            <a:ext cx="1828800" cy="114300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657600" y="5715000"/>
            <a:ext cx="1828800" cy="114300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486400" y="5715000"/>
            <a:ext cx="1828800" cy="114300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1143000"/>
            <a:ext cx="1828800" cy="114300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315200" y="1143000"/>
            <a:ext cx="1828800" cy="114300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828800" y="1143000"/>
            <a:ext cx="1828800" cy="114300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657600" y="1143000"/>
            <a:ext cx="1828800" cy="114300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486400" y="1143000"/>
            <a:ext cx="1828800" cy="114300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320" y="122400"/>
            <a:ext cx="1676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 Black"/>
              </a:rPr>
              <a:t>Causes of the Am. Revolu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905120" y="304920"/>
            <a:ext cx="167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 Black"/>
              </a:rPr>
              <a:t>Dec. 0f I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09880" y="0"/>
            <a:ext cx="1752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 Black"/>
              </a:rPr>
              <a:t>Events of the Rev.W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410080" y="46080"/>
            <a:ext cx="1905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Arial Black"/>
              </a:rPr>
              <a:t>Rev.War Batt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391520" y="1224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Black"/>
              </a:rPr>
              <a:t>Grab</a:t>
            </a:r>
            <a:br>
              <a:rPr sz="2800"/>
            </a:br>
            <a:r>
              <a:rPr b="0" lang="en-US" sz="2800" spc="-1" strike="noStrike">
                <a:solidFill>
                  <a:srgbClr val="3333cc"/>
                </a:solidFill>
                <a:latin typeface="Arial Black"/>
              </a:rPr>
              <a:t>B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6320" y="1371600"/>
            <a:ext cx="167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6320" y="3657600"/>
            <a:ext cx="167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320" y="2514600"/>
            <a:ext cx="167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6320" y="4724280"/>
            <a:ext cx="167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6320" y="5867280"/>
            <a:ext cx="167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905120" y="1371600"/>
            <a:ext cx="167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905120" y="3657600"/>
            <a:ext cx="167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905120" y="2514600"/>
            <a:ext cx="167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905120" y="4724280"/>
            <a:ext cx="167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905120" y="5867280"/>
            <a:ext cx="167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733920" y="1371600"/>
            <a:ext cx="167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733920" y="3657600"/>
            <a:ext cx="167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733920" y="2514600"/>
            <a:ext cx="167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733920" y="4724280"/>
            <a:ext cx="167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5867280"/>
            <a:ext cx="167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562720" y="1371600"/>
            <a:ext cx="167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562720" y="3657600"/>
            <a:ext cx="167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562720" y="2514600"/>
            <a:ext cx="167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562720" y="4724280"/>
            <a:ext cx="167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62720" y="5867280"/>
            <a:ext cx="167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391520" y="1371600"/>
            <a:ext cx="167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91520" y="3657600"/>
            <a:ext cx="167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391520" y="2514600"/>
            <a:ext cx="167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391520" y="4724280"/>
            <a:ext cx="167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391520" y="5867280"/>
            <a:ext cx="167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1981080"/>
            <a:ext cx="8305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 those that no one can take away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Back to the Game Board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80880" y="228600"/>
            <a:ext cx="8382240" cy="1008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 Black"/>
              </a:rPr>
              <a:t>Dec. of Ind. for 1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19320" y="1523880"/>
            <a:ext cx="7315200" cy="37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This man was the oldest member of the Continental Congress, a writer and inventor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Check Your Answer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80880" y="228600"/>
            <a:ext cx="8382240" cy="1008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 Black"/>
              </a:rPr>
              <a:t>Dec. of Ind. for 1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80880" y="1981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 Ben Frankl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Back to the Game Board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80880" y="228600"/>
            <a:ext cx="8382240" cy="1008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 Black"/>
              </a:rPr>
              <a:t>Dec. of Ind. for 1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0880" y="1981080"/>
            <a:ext cx="83059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 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Washington’s troops winter home where he lost more than 2000 soldiers due to starvation and the bitter cold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Check Your Answer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80880" y="0"/>
            <a:ext cx="8382240" cy="7034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Arial Black"/>
              </a:rPr>
              <a:t>Events of Rev. War for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0880" y="1981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 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Valley Forge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Back to the Game Board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80880" y="380880"/>
            <a:ext cx="8382240" cy="7034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Arial Black"/>
              </a:rPr>
              <a:t>Events of Rev. War for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80880" y="1981080"/>
            <a:ext cx="83059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 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This Frenchmen helped the Americans defeat the British at Yorktow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Check Your Answer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0" y="380880"/>
            <a:ext cx="8381880" cy="7034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Arial Black"/>
              </a:rPr>
              <a:t>Events of Rev. War for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80880" y="1981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 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Marquis de Lafayette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Back to the Game Board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304920"/>
            <a:ext cx="8382240" cy="7034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Arial Black"/>
              </a:rPr>
              <a:t>Events of Rev. War for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80880" y="1523880"/>
            <a:ext cx="87631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 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This famous lady’s real name was Mary Hayes but later was called ____ ____ for replacing her husband at a cannon in battl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Check Your Answer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80880" y="380880"/>
            <a:ext cx="8382240" cy="7034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Arial Black"/>
              </a:rPr>
              <a:t>Events of Rev. War for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80880" y="1981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 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Molly Pitcher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Back to the Game Board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0880" y="380880"/>
            <a:ext cx="8382240" cy="7034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Arial Black"/>
              </a:rPr>
              <a:t>Events of Rev. War for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38080" y="1981080"/>
            <a:ext cx="83059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 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Corrupt government officials 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</a:t>
            </a: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that engaged in selling scarce goods for a profit  was called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Check Your Answer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80880" y="380880"/>
            <a:ext cx="8382240" cy="7034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Arial Black"/>
              </a:rPr>
              <a:t>Events of Rev. War for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0880" y="1981080"/>
            <a:ext cx="83059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 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What economic system existed for the benefit of their mother country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Check Your Answer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80880" y="304920"/>
            <a:ext cx="8382240" cy="7034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Arial Black"/>
              </a:rPr>
              <a:t>Causes/ Am. Rev. for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80880" y="1981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 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Profiteer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Back to the Game Board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80880" y="380880"/>
            <a:ext cx="8382240" cy="7034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Arial Black"/>
              </a:rPr>
              <a:t>Events of Rev. War for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880" y="1981080"/>
            <a:ext cx="8305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 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This confirmed U. S. independenc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Check Your Answer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80880" y="380880"/>
            <a:ext cx="8382240" cy="7034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Arial Black"/>
              </a:rPr>
              <a:t>Events of Rev. War for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80880" y="1981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 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Treaty of Paris 178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Back to the Game Board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80880" y="380880"/>
            <a:ext cx="8382240" cy="7034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Arial Black"/>
              </a:rPr>
              <a:t>Events of Rev. War for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80880" y="1981080"/>
            <a:ext cx="83059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 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This battle lasted only 15 mins. It is considered the 1st. Battle of the revolutio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Check Your Answer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52280" y="228600"/>
            <a:ext cx="883944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Battles/ Am. Rev for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80880" y="1981080"/>
            <a:ext cx="830592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Lexington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Back to the Game Board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52280" y="228600"/>
            <a:ext cx="883944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Battles/ Am. Rev for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80880" y="1981080"/>
            <a:ext cx="83059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 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Washington crossed the Delaware R. on Christmas night for a surprise attack on the Hessia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Check Your Answer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52280" y="228600"/>
            <a:ext cx="883944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Language &amp; Literature for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99880" y="380880"/>
            <a:ext cx="883944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Battles/ Am. Rev for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80880" y="1981080"/>
            <a:ext cx="830592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Trenton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Back to the Game Board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52280" y="228600"/>
            <a:ext cx="883944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Battles/ Am. Rev for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80880" y="1447920"/>
            <a:ext cx="8305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 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This battle is called the turning point of the war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Check Your Answer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52280" y="228600"/>
            <a:ext cx="883944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Battles/ Am. Rev for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80880" y="1981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 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Saratoga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Back to the Game Board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52280" y="228600"/>
            <a:ext cx="883944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Battles/ Am. Rev for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80880" y="1981080"/>
            <a:ext cx="8305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 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This American victory led to the surrender of the British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Check Your Answer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52280" y="228600"/>
            <a:ext cx="883944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Battles/ Am. Rev for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80880" y="1981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 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Mercantilism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Back to the Game Board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80880" y="457200"/>
            <a:ext cx="8382240" cy="7034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Arial Black"/>
              </a:rPr>
              <a:t>Causes/ Am. Rev. for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80880" y="1981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 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Yorktow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Back to the Game Board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52280" y="228600"/>
            <a:ext cx="883944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Battles/ Am. Rev for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80880" y="1752480"/>
            <a:ext cx="83059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 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This battle was given the wrong name, it should have been called Breed’s Hill.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Check Your Answer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52280" y="228600"/>
            <a:ext cx="883944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Battles/ Am. Rev for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80880" y="1981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 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Bunker Hill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Back to the Game Board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52280" y="228600"/>
            <a:ext cx="883944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Battles/ Am. Rev for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80880" y="1600200"/>
            <a:ext cx="8305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 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“Crispus Attucks and 4 others were killed at this even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Check Your Answer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80880" y="228600"/>
            <a:ext cx="8382240" cy="1008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 Black"/>
              </a:rPr>
              <a:t>Grab Bag for 1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0880" y="1981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 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Boston Massacre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Back to the Game Board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80880" y="228600"/>
            <a:ext cx="8382240" cy="1008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 Black"/>
              </a:rPr>
              <a:t>Grab Bag for 1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80880" y="1981080"/>
            <a:ext cx="83059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 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This was the first tax that affected colonist directly because it was levied on goods and service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Check Your Answer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80880" y="228600"/>
            <a:ext cx="8382240" cy="1008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 Black"/>
              </a:rPr>
              <a:t>Grab Bag for 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80880" y="1981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 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”Stamp Ta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Back to the Game Board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80880" y="228600"/>
            <a:ext cx="8382240" cy="1008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 Black"/>
              </a:rPr>
              <a:t>Grab Bag for 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80880" y="1981080"/>
            <a:ext cx="8305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 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This was our governing body during the Rev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Check Your Answer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80880" y="228600"/>
            <a:ext cx="8382240" cy="1008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 Black"/>
              </a:rPr>
              <a:t>Grab Bag for 3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80880" y="1981080"/>
            <a:ext cx="8305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 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Second Continental Congres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Back to the Game Board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80880" y="228600"/>
            <a:ext cx="8382240" cy="1008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 Black"/>
              </a:rPr>
              <a:t>Grab Bag for 3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80880" y="1571760"/>
            <a:ext cx="8305920" cy="23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 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This was based on the English philosopher John Locke’s concept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Check Your Answer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80880" y="228600"/>
            <a:ext cx="8382240" cy="1008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 Black"/>
              </a:rPr>
              <a:t>Grab Bag for 4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80880" y="1981080"/>
            <a:ext cx="83059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 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What famous demonstration by the colonist against England was all about taxe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Check Your Answer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80880" y="304920"/>
            <a:ext cx="8382240" cy="7034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Arial Black"/>
              </a:rPr>
              <a:t>Causes/ Am. Rev. for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80880" y="1981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Dec. of  Independence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Back to the Game Board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80880" y="228600"/>
            <a:ext cx="8382240" cy="1008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 Black"/>
              </a:rPr>
              <a:t>Grab Bag for 4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80880" y="1981080"/>
            <a:ext cx="8305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 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These were the supporters of Independenc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Check Your Answer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80880" y="228600"/>
            <a:ext cx="8382240" cy="1008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 Black"/>
              </a:rPr>
              <a:t>Grab Bag for 5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80880" y="1981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 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Patrio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Back to the Game Board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80880" y="228600"/>
            <a:ext cx="8382240" cy="1008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 Black"/>
              </a:rPr>
              <a:t>Grab Bag for 5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80880" y="1981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 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Boston Tea Party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Back to the Game Board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80880" y="304920"/>
            <a:ext cx="8382240" cy="7034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Arial Black"/>
              </a:rPr>
              <a:t>Causes/ Am. Rev. for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80880" y="1981080"/>
            <a:ext cx="83059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 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The closing of the Boston Harbor by the English is an example of the _____ ___ ordered  by King George III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Check Your Answer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304920"/>
            <a:ext cx="8382240" cy="7034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Arial Black"/>
              </a:rPr>
              <a:t>Causes/ Am. Rev. for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1981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 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Intolerable A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Back to the Game Board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80880" y="304920"/>
            <a:ext cx="8382240" cy="7034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Arial Black"/>
              </a:rPr>
              <a:t>Causes/ Am. Rev. for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1981080"/>
            <a:ext cx="83059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 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What act set down by the  British made all colonial ships use British or colonial  crews?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Check Your Answer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304920"/>
            <a:ext cx="8382240" cy="7034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Arial Black"/>
              </a:rPr>
              <a:t>Causes/ Am. Rev. for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28T16:41:16Z</dcterms:created>
  <dc:creator>lab</dc:creator>
  <dc:description/>
  <dc:language>en-US</dc:language>
  <cp:lastModifiedBy>Department of Technology</cp:lastModifiedBy>
  <dcterms:modified xsi:type="dcterms:W3CDTF">2001-03-09T14:17:01Z</dcterms:modified>
  <cp:revision>44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2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3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lln\asuettc web</vt:lpwstr>
  </property>
  <property fmtid="{D5CDD505-2E9C-101B-9397-08002B2CF9AE}" pid="14" name="ScreenSize">
    <vt:r8>2</vt:r8>
  </property>
  <property fmtid="{D5CDD505-2E9C-101B-9397-08002B2CF9AE}" pid="15" name="ScreenUsage">
    <vt:r8>3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