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63D-EE54-4DBC-B1FD-C5ACE083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3F2-7E14-41EC-BBF4-6AF63FBD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719-2C3C-4F62-B467-39736428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EFA-772E-495A-BA8E-A49C4394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5FF8-F38D-4FD9-8DB0-54A62385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B1CB-6B95-4D55-B89B-8A3A3F6A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0DD5-63B3-4249-8ABD-64EAED7E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F18E-4E32-4C6C-900D-CF69130B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1B0C-57B0-4E50-A0E1-C49C9902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B852-1ED7-4C23-B37F-B8A205F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3D40-F898-4FFA-BF06-459F34C8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7A99-64A8-4EBA-86EF-CBD008E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90E4-3D12-4ABC-BE65-B48504C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FDF2-04C3-47BC-BFDC-45639EE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6359-B5CA-4F98-B67D-26A03A7B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177-35C3-4B59-A722-4E496EB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5637-F297-4FC6-B330-551EB2241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348-F506-4038-A8DB-4D36A94A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EFA-139C-4E8D-B916-984FFC78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BB6-5FA9-4858-981E-137120F1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6CA-2A2A-4512-895B-41A5108D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504-51DF-484B-90E9-EC8D689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F29-EE73-4AF3-8722-50FAB16B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18B-14AB-4062-AD69-8CAD7D0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C0CA-CEE8-4F07-B338-45E0EB9D317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D070-F5F6-4DA3-BAD0-5C474E535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91D-3B41-48D1-9191-3A63A27E3DD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AD21-560B-40C6-9E70-3B28CAEE2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3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8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5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9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6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7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1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9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8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8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5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5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3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0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5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1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9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6" dur="indefinite" restart="never" nodeType="tmRoot">
          <p:childTnLst>
            <p:seq>
              <p:cTn id="1517" dur="indefinite" nodeType="mainSeq">
                <p:childTnLst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9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4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64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0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3" dur="indefinite" restart="never" nodeType="tmRoot">
          <p:childTnLst>
            <p:seq>
              <p:cTn id="1594" dur="indefinite" nodeType="mainSeq">
                <p:childTnLst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6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8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9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0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5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6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7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7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9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