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54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2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52.gif" ContentType="image/gif"/>
  <Override PartName="/ppt/media/image32.wmf" ContentType="image/x-wmf"/>
  <Override PartName="/ppt/media/image46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F45-5FF1-4AB5-84CE-3F508A0E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074-6FD0-4AAC-B19C-CF730F2B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E93-3072-4806-B0EB-FF746672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F52-8434-45BD-A94A-5C555B8A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01F9-BD24-4BB6-A113-D4A8FCE7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7F2D-1795-41A6-A048-6FBE088F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04AD-527E-4668-82C5-ED3721E4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E964-6E99-4ADD-A26A-3DB26E9F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4CAC-CB05-467B-A364-FBFA8096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896C-F3C6-4586-9B17-7927FD20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1827-31D7-4362-9F19-1EDC5FD1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805-63A1-47EB-B7F8-FB8F102F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EA37-283C-4673-9527-A3D93F9A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E853-636F-45DE-B10E-8F873F08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EC13-30E5-443B-AABD-0CD40900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F7FF-5EC2-4159-98D0-77D33C1D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B6AF-4305-4E50-948A-48776992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79B-13C4-462F-AF9B-ABE59427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590-D3CB-46C2-BBD6-6C426DEA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B33-96A4-4C4A-9033-A1DA8907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31C-8A49-430E-AC0B-36BFAEBF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446-878D-441C-8760-55556C82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F32-2185-4EA2-94BE-B29F5CBD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060-37D8-49D2-B072-DCDA32E6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5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E7C5-D5A1-4895-A402-6644AAEC22E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9680" y="6248520"/>
            <a:ext cx="264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1560" y="6248520"/>
            <a:ext cx="173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8921-C180-4CC2-B609-5C3F0E7CC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28680" y="1701720"/>
            <a:ext cx="10764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BD30-8246-4ADB-97A5-F673D670F6A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3CE0-D1AB-4F52-A1FA-AA681A5CD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rrpain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c.gov/rr/hispanic/1898/img/emilio.jpg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5.html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9.html" TargetMode="External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39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30440" y="380880"/>
            <a:ext cx="581004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American Expansion Overs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898-19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and Puerto Rico last remnants of the old Spanish Emp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ing for starvation w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0 million/year sugar trade with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duty placed on all raw sugar hurts trade and forces plantations to clo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648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267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 revolution over Spanish misrule and economic cri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olutionists burn cities and plan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army places citizens in concentration camps, or kills those that ref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. Valeriano Weyler kills over 200,000 Cub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ba reduced to utter ru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’s dead from murder or disea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Cuban Revolutionaries in 1898"/>
          <p:cNvPicPr/>
          <p:nvPr/>
        </p:nvPicPr>
        <p:blipFill>
          <a:blip r:embed="rId2"/>
          <a:stretch/>
        </p:blipFill>
        <p:spPr>
          <a:xfrm>
            <a:off x="4724280" y="1523880"/>
            <a:ext cx="3535560" cy="487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81680" y="1143000"/>
            <a:ext cx="2235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229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 over treatment of Cubans by the Span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’ Marti- Cuban revolutionist writes brilliant essays trying to get American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newspapers show sympat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iam Randolph Hea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seph Pullit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yellow journalism to gain support fo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Business deman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$50 million of investments were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294920"/>
            <a:ext cx="3467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only 90 miles from American so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$ million in business investments in sugar, rice, tobacco, and railroads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$100 million/year trade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Portrait of Jose Marti"/>
          <p:cNvPicPr/>
          <p:nvPr/>
        </p:nvPicPr>
        <p:blipFill>
          <a:blip r:embed="rId2"/>
          <a:stretch/>
        </p:blipFill>
        <p:spPr>
          <a:xfrm>
            <a:off x="5334120" y="4267080"/>
            <a:ext cx="1731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liam McKin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ugurated on March 4, 18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ly opposes going to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 that war would put the country back into a depr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all McKinley “weak and a bidder for the admiration of the crowd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41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Maine Arrives at Havana"/>
          <p:cNvPicPr/>
          <p:nvPr/>
        </p:nvPicPr>
        <p:blipFill>
          <a:blip r:embed="rId2"/>
          <a:stretch/>
        </p:blipFill>
        <p:spPr>
          <a:xfrm>
            <a:off x="609480" y="1600200"/>
            <a:ext cx="3505320" cy="2610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el battleship sent to Havana Harbor to protect American inter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des while still at anchor- 250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blames S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comes a pro-war slo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Kinley refuses to go to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232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3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ltimat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 by McKinley to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cease all fighting w/ the revolution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n indepen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lish the concentration ca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agrees to all, but #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78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8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4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1, 1898- McKinley asks Congress for permission to intervene in Cub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nding appro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er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urpose of the war was to only bring peace to the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Cuban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1371600"/>
            <a:ext cx="3421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Pacif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3016080" cy="373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05520" y="10666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dore George Dewey sent to Spanish-controlled Philippine Is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30, 1898- Secretly sneaks into Manila Harbor and opens fire on the 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noon the Spanish give 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lose 170 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loses 1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stro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227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Caribbe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fleet destroyed in Santiago Harbor by American vess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lasts 4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0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467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volunteers led by Theodore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e 24, 1898- charges San Juan H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 2- Spanish attempt to flee C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army invades Puerto Rico w/ no resi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7- Spanish surr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plendid little war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odore Roosevel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752480"/>
            <a:ext cx="4724280" cy="3173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114800" y="1752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8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8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8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8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USH14 The student will explain America’s evolving relationship with the world at the turn of the twentieth centu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Describe the Spanish-American War, the war in the Philippines, and the debate over American expansionis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Explain U.S. involvement in Latin America, as reflected by the Roosevelt Corollary to the Monroe Doctrine and the creation of the Panama Ca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U.S. troops burying the dead"/>
          <p:cNvPicPr/>
          <p:nvPr/>
        </p:nvPicPr>
        <p:blipFill>
          <a:blip r:embed="rId2"/>
          <a:stretch/>
        </p:blipFill>
        <p:spPr>
          <a:xfrm>
            <a:off x="1219320" y="2590920"/>
            <a:ext cx="7543800" cy="3703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Casual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467160" cy="4038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6 Americans killed in ba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 killed from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ace Treaty of 189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gets freedom from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is given Puerto Rico, and Gu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would pay $20 million for the Phillipp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 acquires an empire over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ists deligh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 do with the Philipp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38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for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to Sp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we just took them from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over to Great Britain or Fr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bad for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independenc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not smart enough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– Take control, educate and Christianize the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787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0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77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7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9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1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77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8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0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2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77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0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2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4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77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1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3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5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77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2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4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6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77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3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5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quest of the Philipp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ilio Aguinal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s Filipino rebels against 70,000 US tro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tured in 19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ilippine Government Act of 19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an appointed governor, elected assembly, and an appointed upp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Howard Taft appointed to be the first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16- allowed to elect both houses of legislature, and promised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Emilio Aguinal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523880"/>
            <a:ext cx="2817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65- American sugar cane and pineapple companies begin tr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5- Treaty signed allowing Hawaii to sell all its sugar to U.S. in return of not dealing with any other foreign 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7- Pearl Harbor leased to U.S. as a naval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7339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392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s intentions of limiting all foreign influence in Hawa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ugar businessmen start a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s called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1893- Hawaii annexed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8- made a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Queen Liliuokalani"/>
          <p:cNvPicPr/>
          <p:nvPr/>
        </p:nvPicPr>
        <p:blipFill>
          <a:blip r:embed="rId2"/>
          <a:stretch/>
        </p:blipFill>
        <p:spPr>
          <a:xfrm>
            <a:off x="1295280" y="1981080"/>
            <a:ext cx="2889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8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8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8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ations with Chi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standing trade relationship of furs for porcelain and sil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ese become disturbed with foreign influence from America and Grea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o-Japanese War of 1894-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nations try to divide mainland Ch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concerns of losing Chinese trade rel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4114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Door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2520" y="1752120"/>
            <a:ext cx="4000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8 China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State John Hay propo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all treaty ports op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ations trading with China would be on equal g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405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oxer Rebell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Boxers”- Chinese secret society determined to remove all foreigners from Ch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0- 300 foreigners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gust- rebellion is crushed by foreign pow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na repays foreign nations for losses in the rebe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returns its share to the Chinese government and allows Chinese students to come to America and stu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360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3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8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3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229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 nation- foreigners forbidden to enter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by President Fillmore to negotiate a trade trea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ives w/ 4 steam-powered ships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S Ful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ese so impressed they open 2 ports to American tra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 intrigue with industrialization ends its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omes an imperial nation and takes colonies for raw materi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94-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- invades Rus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Matthew Perry"/>
          <p:cNvPicPr/>
          <p:nvPr/>
        </p:nvPicPr>
        <p:blipFill>
          <a:blip r:embed="rId2"/>
          <a:stretch/>
        </p:blipFill>
        <p:spPr>
          <a:xfrm>
            <a:off x="5029200" y="1447920"/>
            <a:ext cx="3740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5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6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sential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changing political, economic, and technological climate of the latter 1800’s influence the expansion of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's relationship with the World change in the latter 1800’s and early 1900’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 become a world power and lea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haracteristics of American Imperialis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608800" cy="6248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merican Expansion in the Caribbean and Latin Amer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nsular C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whether American colonies had protected rights under the Constitu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eme Court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porated possessions (Alaska and Hawaii) were destined for statehood, and had constitutional righ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corporated possessions (Puerto Rico and Philippines) were not destined for statehood and did not have constitutional protections, but could not be deprived of life, liberty, or property w/out due process of la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26478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90680" y="20574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aker Act of 1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d a new government in Puerto 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and executive council appointed by the Presid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ed low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Made a territory and made Puerto Ricans American citiz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Fortifying Puerto Rico"/>
          <p:cNvPicPr/>
          <p:nvPr/>
        </p:nvPicPr>
        <p:blipFill>
          <a:blip r:embed="rId2"/>
          <a:stretch/>
        </p:blipFill>
        <p:spPr>
          <a:xfrm>
            <a:off x="609480" y="190512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4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4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77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6" dur="77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8" dur="77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0" dur="77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Indepen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29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1 Platt Amend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ever enter into any foreign relationships that might endanger its indepen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ot incur debts it cannot rep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has full authority to intervene when Cuban independence is threate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n government must provide naval bases for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becomes a protectorate of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5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9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9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9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9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9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9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Image, Source: intermediary roll film"/>
          <p:cNvPicPr/>
          <p:nvPr/>
        </p:nvPicPr>
        <p:blipFill>
          <a:blip r:embed="rId2"/>
          <a:stretch/>
        </p:blipFill>
        <p:spPr>
          <a:xfrm>
            <a:off x="4114800" y="2743200"/>
            <a:ext cx="4876920" cy="3916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Image, Source: intermediary roll film"/>
          <p:cNvPicPr/>
          <p:nvPr/>
        </p:nvPicPr>
        <p:blipFill>
          <a:blip r:embed="rId3"/>
          <a:stretch/>
        </p:blipFill>
        <p:spPr>
          <a:xfrm>
            <a:off x="380880" y="152280"/>
            <a:ext cx="5000760" cy="4000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Panama Ca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0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ed for a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vessels had to make a 6 week voyage around S. America to get from the west coast to the east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0’s French tried to build a canal on the Isthmus of Panama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Plan of Panama Canal"/>
          <p:cNvPicPr/>
          <p:nvPr/>
        </p:nvPicPr>
        <p:blipFill>
          <a:blip r:embed="rId2"/>
          <a:stretch/>
        </p:blipFill>
        <p:spPr>
          <a:xfrm>
            <a:off x="5029200" y="1295280"/>
            <a:ext cx="336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umbian Negot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91040" y="1219320"/>
            <a:ext cx="4152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thmus of Panama a province of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tary of State John Hay negotiates a trea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9 year lease on a 6 mile strip of land across Panama for $10 million and $250,000/year 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 agrees, but refuses to ratify– wants more mon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ident Theodore Roosevelt is furio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371600"/>
            <a:ext cx="404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4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1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0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nama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0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revolutionaries ask for U.S. aid in revolting against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nes sent in to “protect American interes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bia sends troops, but Americans force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, 1903- 3 days later, new government established in Pan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weeks later U.S. given rights to build the ca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ama is paid $10 million for a 10 mile strip of 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ly rental of $250,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ship_canal.jpg (17737 bytes)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0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ilding the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Army Corp of Engineers begin buil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 and malaria a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Walter Reed discovers that it was transmitted by mosquito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amps drained to destroy the breeding gro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4- “Big Ditch” is comp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00 million pro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million cubic yards of earth rem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618000" cy="4496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218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8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8001000" cy="541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American Foreign Polic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nama 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i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S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j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252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-American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osevelt Corol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 Diplom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Monroe Doctr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23- President James Monroe issues to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attempt to further colonize the Amer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interfere with independent nations in the Western Hemisp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could never enforce due to small nav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955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 invades Mexico to force repayment of war deb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n Austrian prince, Maximilian as the new Emperor of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says violation of Monroe Doct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ble to enforce because of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oleon III faced with wars in Europe pulls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ilian executed by Mexican nationali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34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90680" y="12949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 dispute between Venezuela and British Gu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intervenes- Great Britain claims Monroe Doctrine not a part of international l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war a possibility, Britain settles the disp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Juan Vicente Gómez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ezuela cannot repay debts to Britain, Italy, and Germ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lockade the Venezuelan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Theodore Roosevelt demand violation of Monroe Doctr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sett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310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osevelt Corol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ican Republic owes European nations money– they threaten to interv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announces that the U.S. had the right to interfere in Latin American disputes on behalf of the European n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becomes “international policeman” of the Western Hemi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ak softly and carry a big stick.”–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1447920"/>
            <a:ext cx="387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64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69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74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llar Diplomacy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9068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ed States “influence” in Latin America by William Howard Ta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n bankers lend money to Latin American gov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ebtors failed to repay the debts, U.S. govt. intervened to “protect” American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meant the landing of the Mar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324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oubles with Mex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an’s still angry over the 1848 war wi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t 1/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ir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utes over Rio Grande, cattle rustling, and Indi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913, Americans had invested $1 billion in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xic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90680" y="1447560"/>
            <a:ext cx="392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10- Long-time President Diaz is overthrown by Victoriano Hu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loses a powerful 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investors “disturbed” by the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Victoriano Huerta"/>
          <p:cNvPicPr/>
          <p:nvPr/>
        </p:nvPicPr>
        <p:blipFill>
          <a:blip r:embed="rId2"/>
          <a:stretch/>
        </p:blipFill>
        <p:spPr>
          <a:xfrm>
            <a:off x="1143000" y="1523880"/>
            <a:ext cx="34671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ful Waiting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29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Woodrow Wilson announces “watchful waiting” poli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ief that revolutionary government would be gotten rid of by Mexican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rta attempts to seize American proper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, 1914- Germany attempts to send arms to the new Mexican gov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marines to invade Mex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85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C Med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2520" y="1676520"/>
            <a:ext cx="3924360" cy="49528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ent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mediation between U.S. and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erta asked to retire– he do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d by rival, Carran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 ally to the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32288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1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2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3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8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9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0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5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6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7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0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1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2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w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229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tion’s policy of establishing colonies and building empires for economic gain, prestige, and missionary purp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0-1600’s- Great Britain, France, Spain, Portugal, Dut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0’s- Germany, Italy, Belgium, Japan join 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remains isol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0680" y="2057400"/>
            <a:ext cx="384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strial Revolution demanded new raw materials and increased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instruments of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hine gun and repeating rif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de in the creation of an empi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ncisco “Pancho” Vi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3467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s with Carranza over alliance wi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kills 18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es border into New Mexico and kills 17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troops to capture Villa “dead or aliv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John Pershing leads 5,000 troops into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draws due to Mexican resen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ver captures V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249876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762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merican Emp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8001000" cy="5187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666880" y="1295280"/>
            <a:ext cx="431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Iso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15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had been a colony, and its sympathies were with the other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developed American West of the 1800’s was like a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real “need” for raw mater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less trade opportunities to Europe and its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41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ward’s Fo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Seward- Secretary of State under Lincoln and John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 capped mountains w/ an arctic clim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zar Alexander II wants to sell- needs money for w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ward and Russian ambassador agree to the purchase of Alaska for $7.2 mi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.02/ac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d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years later– “black gold” f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3295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 1890’s- America not interested in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Influence of Sea Power upon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mpts to show that to be a great nation, a great navy is ne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es needed as naval bases for refueling, raw materials, and mar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- Great White Fleet is commissioned by Congr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22880" y="2057400"/>
            <a:ext cx="3003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80880"/>
            <a:ext cx="495792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he Spanish-American W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3:39:53Z</dcterms:created>
  <dc:creator>George Maruska</dc:creator>
  <dc:description/>
  <dc:language>en-US</dc:language>
  <cp:lastModifiedBy>ldesaulniers</cp:lastModifiedBy>
  <dcterms:modified xsi:type="dcterms:W3CDTF">2009-02-23T20:36:51Z</dcterms:modified>
  <cp:revision>26</cp:revision>
  <dc:subject/>
  <dc:title>American Expansion Overseas</dc:title>
</cp:coreProperties>
</file>