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AE2-8A18-40A8-A00D-CB19B648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805-FE06-4630-8353-C1D19499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5AD-5759-4F93-AFF4-97DD7714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47D-5A4F-499F-8763-B37F88C4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EB43-60CD-4D56-B08B-E81B22D4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7BB-3661-4999-92AD-7D64A373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F2C-BA8E-4997-8DA5-834AADB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F86A-3BF0-4F32-98C5-452C895E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214-5312-4198-A2C2-9448EB2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481-D77F-46FC-B1BB-A7591540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538-5E45-4EDC-9C71-1DC16D7B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F89-C98B-4919-9192-8A7F112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0169-3B35-4D17-8080-13BAA7DF0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audio" Target="../media/Jeopardy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1981080"/>
            <a:ext cx="6705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rica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an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lipper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ade steel production efficient and less expen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essemer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do you call the horse drawn machine to harvest grain invented by Cyrus McCorm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was passed in 1887, which abolished Indian tribes and gave each male Indian 160 acres on a reservation to f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715000"/>
            <a:ext cx="830556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awe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drive to extend the U.S. borders to the Pacific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anifest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mproved farming by making the plow out of steel instead of cast i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Indust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6920"/>
            <a:ext cx="167616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35000"/>
            <a:ext cx="19051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ohn De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523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River that Mexico wanted as the southern border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ue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opular transportation in large cities, reduced traffic jams, and was inexpen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ub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court case set the precedent for “separate but equal” facilities between blacks and whi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Plessy v. Fergu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ndmark Court Cases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, by Alexander Graham Bell, eventually led to world wide communic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ele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ift of population from country to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mplete control over an industry’s production, quality, wages paid, and prices char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Urb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Laws enacted by Southern state and local governments to separate white and black people in public and private facil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im Cro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rmers organized this political party to promote decent prices for their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Populist Pa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Journalist who exposed city government corruption and social in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uckr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book written by Upton Sinclair to expose unhealthy conditions in the meat pack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Ju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n organization formed by workers as a means to correct economic and social injustices caused by unfair labor prac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onop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b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Leader of the American Federation of Labor who focused on collective bargaining to reach written agreements between workers and employ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amuel Gom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Invented the light bulb, phonograph, and the micro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omas E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Secretary of State John Hay assured that all nations would have equal opportunity to trade with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Open Doo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government policy of noninterference in the affairs of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717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rogressive reform outlawed monopol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nvented the tele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herman Anti-Trus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447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cquiring money in a dishonest or questionable m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</a:t>
            </a: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amuel F.B. M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Owner of  the Standard Oi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fast sailing ship invented by John Griff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8:47:09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